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F82-D9D3-44C4-8C1D-F6CBED6F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874-064A-4D6D-B6D6-CF998AF2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4DCC-E9E9-48B5-82A8-8F5158AB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204-973B-4148-8AF9-6D0D9E06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76A-F39B-42D4-85D2-9EC42829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FBB6-EBD1-41C9-913E-98C6B3C3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B10-616C-45ED-A1B5-672612B9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0E2-6390-4B1B-B55B-358449E6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625-C780-4246-BC04-2B04BFFF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DBC9-A230-41E5-88D7-53EB69EA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D404-C861-4893-BFF6-0A3F7552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F86-D36A-41E0-8558-58904BEB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9521-EA54-4566-9897-329D013F1C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547280" y="2133720"/>
            <a:ext cx="6264360" cy="352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电 磁 场 理 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Electromagnetic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×××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24720" y="260280"/>
            <a:ext cx="11509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一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6913440" cy="777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矢量分析与场论基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2636640"/>
            <a:ext cx="8280360" cy="36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内容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的基本概念、代数运算矢量分析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场论基础（梯度、矢量场的散度和旋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Helmholtz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333360"/>
            <a:ext cx="13665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二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75272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1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交曲线坐标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3887640" cy="475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正交曲线坐标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维空间任意一点的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置可通过三条相互正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曲线的交点来确定。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条正交曲线组成确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维空间任意点位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体系，称为正交曲线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标系，三条正交曲线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为坐标轴，描述坐标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量称为坐标变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2360" y="2133720"/>
          <a:ext cx="3384720" cy="33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133720"/>
                    <a:ext cx="3384720" cy="3376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482436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1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交曲线坐标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4248360" cy="434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正交曲线坐标变换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维空间中同一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以用不同的正交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线坐标系描述。因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不同坐标系之间存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相互变换的关系，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这种变换关系只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一对应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076720" y="1484280"/>
                <a:ext cx="3743280" cy="19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＝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003640" y="4005360"/>
                <a:ext cx="3961080" cy="19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＝</m:t>
                            </m:r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826560" y="1484280"/>
            <a:ext cx="7920360" cy="439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任何正交曲线坐标系中，存在一组与坐标轴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对应的单位矢量。如直角坐标系中的      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圆柱坐标系中的          等 。正交曲线坐标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某个坐标方向上的单位矢量，它是该坐标变量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常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所对应曲面的单位法矢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395280" y="259920"/>
            <a:ext cx="489744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§1.1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正交曲线坐标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732720" y="2060640"/>
                <a:ext cx="1296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635280" y="2565360"/>
                <a:ext cx="14400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ρ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ϕ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050920" y="4076640"/>
                <a:ext cx="439272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＝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468360" y="4005360"/>
          <a:ext cx="828036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05360"/>
                    <a:ext cx="8280360" cy="23000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340000" y="333360"/>
          <a:ext cx="4896000" cy="33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333360"/>
                    <a:ext cx="48960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75160" cy="63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§1.1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正交曲线坐标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3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坐标系中的弧长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直角坐标系中，空间任意点的坐标变量的微小变化，变化前后的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弧长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正交曲线坐标系中，坐标变量                   的相邻两点的微小变化弧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050920" y="3141720"/>
                <a:ext cx="36734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547640" y="5084640"/>
                <a:ext cx="48247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867280" y="4049640"/>
                <a:ext cx="1800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其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称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Lame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系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84360" y="1197000"/>
                <a:ext cx="77040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＋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763640" y="2708280"/>
                <a:ext cx="547236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＋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4464000" cy="836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§1.3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标量场的梯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351640" cy="468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黑体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场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自然界中，许多物理的量是定义在确定空间区域上的，在该区域上每一点都有确定的量与之对应，我们称在该区域上定义了一个场。如电荷在其周围空间激发的电场，电流在周围空间激发的磁场等。如果这个量是标量我们称该场为标量场；如果这个量是矢量，则称该场为矢量场。如果场与时间无关，称为静态场，反之为时变场。从数学上看，场是定义在空间区域上的函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7704000" cy="525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如果场与时间无关，称为静态场，反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时变场。静态标量场和矢量场可分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表示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时变标量场和矢量场可分别表示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场的基本性质及其分析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场与源的关系及其相互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场的相互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340000" y="2276640"/>
                <a:ext cx="14400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284720" y="2276640"/>
                <a:ext cx="1439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24000" y="3573360"/>
                <a:ext cx="1727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，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56000" y="3573360"/>
                <a:ext cx="16574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4762440" cy="65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§1.3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标量场的梯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量场的等值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了直观表示场在空间的变化，经常使用场的等值面来直观。所谓等值面是标量场为同一数值各点在空间形成的曲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116000" y="5157720"/>
                <a:ext cx="25923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 rot="19924200">
            <a:off x="5266800" y="2705040"/>
            <a:ext cx="2864160" cy="19494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9416000">
            <a:off x="5940000" y="3212640"/>
            <a:ext cx="1440000" cy="10080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300720" y="2133360"/>
            <a:ext cx="7164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1700280"/>
            <a:ext cx="2160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导体等电位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492360" y="765000"/>
            <a:ext cx="2519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序    论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2421000"/>
            <a:ext cx="6769080" cy="314604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电磁场理论的主要研究领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、电磁场理论的发展简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三、电磁场理论的主要研究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四、学习的目的、方法及要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1628640"/>
            <a:ext cx="3816360" cy="439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3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方向导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实际应用中不仅需要宏观上了解场在空间的数值，还需要知道场在不同方向上场变化的情况。应用方向性导数可以描述标量场在空间某个方向上变化的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333360"/>
            <a:ext cx="4392360" cy="65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§1.3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标量场的梯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4653000"/>
            <a:ext cx="460872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方向性导数表示场沿      方向的空间变化率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244000" y="4724280"/>
                <a:ext cx="576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 flipV="1">
            <a:off x="5940360" y="981000"/>
            <a:ext cx="0" cy="22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3213000"/>
            <a:ext cx="1800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508360" y="3213000"/>
            <a:ext cx="43164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76720" y="29973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i="1" lang="zh-CN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940360" y="2565000"/>
            <a:ext cx="21600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08720" y="2565360"/>
            <a:ext cx="2447280" cy="28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95200">
            <a:off x="4152240" y="2221200"/>
            <a:ext cx="2447280" cy="287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2205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i="1" lang="zh-CN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Δ</a:t>
            </a:r>
            <a:r>
              <a:rPr b="1" i="1" lang="zh-CN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900000" y="2133720"/>
                <a:ext cx="720108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l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u</m:t>
                            </m:r>
                          </m:num>
                          <m:den>
                            <m:r>
                              <m:t xml:space="preserve">Δl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</m:den>
                            </m:f>
                          </m:e>
                        </m:d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250920" y="333360"/>
            <a:ext cx="4392360" cy="65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§1.3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标量场的梯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55640" y="5661000"/>
                <a:ext cx="3095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3851280" y="5661000"/>
            <a:ext cx="3673440" cy="5814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     的方向余弦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356000" y="5805360"/>
                <a:ext cx="576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684360" y="1340640"/>
            <a:ext cx="2665440" cy="5205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量场的梯度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在场的某一点上，场沿不同方向上变化率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大小（方向性导数）是不同的，必然存在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个变化最大的方向。定义：场变化最大的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向为标量场梯度的方向，其数值为标量场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梯度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333360"/>
            <a:ext cx="4392360" cy="65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§1.3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标量场的梯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71640" y="4724280"/>
                <a:ext cx="691344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梯度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标量场的梯度是矢量场，它在空间某点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方向表示该点场变化最大（增大）的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向，其数值表示变化最大方向上场的空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变化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标量场在某个方向上的方向导数，是梯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在该方向上的投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333360"/>
            <a:ext cx="4392360" cy="65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§1.3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标量场的梯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4000" y="2133360"/>
            <a:ext cx="3898800" cy="39891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☻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标量场的梯度函数建立了标量场与矢量场的联系，这一联系使得某一类矢量场可以通过标量函数来研究，或者说标量场可以通过矢量场的来研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333360"/>
            <a:ext cx="4392360" cy="65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§1.3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标量场的梯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572000" y="3429000"/>
                <a:ext cx="4176720" cy="29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u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l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x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z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4572000" y="1557360"/>
            <a:ext cx="3743280" cy="1629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☻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标量场的梯度垂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于通过该点的等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面（或切平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6851880" cy="4525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梯度运算的基本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835280" y="2492280"/>
          <a:ext cx="504036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492280"/>
                    <a:ext cx="504036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50920" y="333360"/>
            <a:ext cx="4392360" cy="65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§1.3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标量场的梯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正交曲线坐标系中梯度的表达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4365720"/>
                <a:ext cx="74883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∇</m:t>
                            </m:r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  <m:r>
                              <m:t xml:space="preserve">=</m:t>
                            </m:r>
                            <m:r>
                              <m:t xml:space="preserve">c</m:t>
                            </m:r>
                            <m:r>
                              <m:t xml:space="preserve">∇</m:t>
                            </m:r>
                            <m:r>
                              <m:t xml:space="preserve">u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∇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±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∇</m:t>
                            </m:r>
                            <m:r>
                              <m:t xml:space="preserve">u</m:t>
                            </m:r>
                            <m:r>
                              <m:t xml:space="preserve">±</m:t>
                            </m:r>
                            <m:r>
                              <m:t xml:space="preserve">∇</m:t>
                            </m:r>
                            <m:r>
                              <m:t xml:space="preserve">v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∇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uv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u</m:t>
                            </m:r>
                            <m:r>
                              <m:t xml:space="preserve">∇</m:t>
                            </m:r>
                            <m:r>
                              <m:t xml:space="preserve">v</m:t>
                            </m:r>
                            <m:r>
                              <m:t xml:space="preserve">+</m:t>
                            </m:r>
                            <m:r>
                              <m:t xml:space="preserve">v</m:t>
                            </m:r>
                            <m:r>
                              <m:t xml:space="preserve">∇</m:t>
                            </m:r>
                            <m:r>
                              <m:t xml:space="preserve">u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187280" y="2492280"/>
                <a:ext cx="61930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995640" y="3789360"/>
            <a:ext cx="576360" cy="647640"/>
          </a:xfrm>
          <a:prstGeom prst="downArrow">
            <a:avLst>
              <a:gd name="adj1" fmla="val 50000"/>
              <a:gd name="adj2" fmla="val 28092"/>
            </a:avLst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333360"/>
            <a:ext cx="4392360" cy="65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§1.3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标量场的梯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4114800" cy="706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4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散度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435880" cy="4969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与矢量线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确定空间区域上的每一点有确定矢量与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应，则称该空间区域上定义了一个矢量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了同时描述矢量场的方向和数值，除了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接用矢量的数值和方向来表示矢量场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以外，用矢量线来形象的描述矢量场分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所谓矢量线是这样的曲线，其上每一点的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线方向代表了该点矢量场的方向。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4537080" cy="35337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4105080" cy="720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4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散度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987640" y="5229360"/>
                <a:ext cx="561672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724360" y="1628640"/>
            <a:ext cx="2880000" cy="5205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矢量线能够描述矢量场在空间的方向，但不能够直观描述矢量场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5516640"/>
            <a:ext cx="2664000" cy="5814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矢量线方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7779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4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散度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黑体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矢量场的通量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克服矢量线不能定量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述矢量场的大小的，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入通量的概念。在场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域的某点选取面元，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过该面元矢量线的总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称为矢量场对于面积元的通量。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80000" y="3357720"/>
            <a:ext cx="1584360" cy="576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516720" y="2565000"/>
            <a:ext cx="503280" cy="93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804000" y="2923920"/>
            <a:ext cx="432000" cy="718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0000" y="3500280"/>
            <a:ext cx="576360" cy="115272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227280" y="3645000"/>
            <a:ext cx="577800" cy="107928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300720" y="2923920"/>
            <a:ext cx="14400" cy="663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076720" y="981000"/>
                <a:ext cx="3311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ψ</m:t>
                    </m:r>
                    <m:r>
                      <m:t xml:space="preserve">＝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516720" y="1916280"/>
                <a:ext cx="1368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435640" y="2565360"/>
                <a:ext cx="649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788000" y="4869000"/>
                <a:ext cx="410508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ψ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55640" y="5232240"/>
                <a:ext cx="3603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58920" y="1341000"/>
            <a:ext cx="136836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理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理学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分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11280" y="2133720"/>
            <a:ext cx="1224000" cy="345600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电磁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场理论的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主要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研究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领域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9280" y="3141720"/>
            <a:ext cx="1368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无线电技术理论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1280" y="2421000"/>
            <a:ext cx="0" cy="331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3789360"/>
            <a:ext cx="57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2421000"/>
            <a:ext cx="64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3789360"/>
            <a:ext cx="576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04640"/>
            <a:ext cx="6696000" cy="64260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一、电磁场理论的主要研究领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5280" y="1341360"/>
            <a:ext cx="38894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致力于电磁场的物理属性、统一场理论、微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量子电动力学等的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198900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76720" y="2997360"/>
            <a:ext cx="38894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致力于电磁场与物质的相互作用，新的信息传输系统、器件和信息处理与利用的新技术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3789360"/>
            <a:ext cx="576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59280" y="4941720"/>
            <a:ext cx="136836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电气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程学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的核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5734080"/>
            <a:ext cx="576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76720" y="5084640"/>
            <a:ext cx="3816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致力于电磁场能量的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生、传输、转换、储存和应用的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7640" y="5589720"/>
            <a:ext cx="576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4038480" cy="3557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对于曲面</a:t>
            </a:r>
            <a:r>
              <a:rPr b="0" i="1" lang="zh-CN" sz="3200" spc="-1" strike="noStrike">
                <a:solidFill>
                  <a:srgbClr val="ffffff"/>
                </a:solidFill>
                <a:latin typeface="Basemic Symbol"/>
                <a:ea typeface="黑体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通量为曲面</a:t>
            </a:r>
            <a:r>
              <a:rPr b="0" i="1" lang="zh-CN" sz="3200" spc="-1" strike="noStrike">
                <a:solidFill>
                  <a:srgbClr val="ffffff"/>
                </a:solidFill>
                <a:latin typeface="Basemic Symbol"/>
                <a:ea typeface="黑体"/>
              </a:rPr>
              <a:t>s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所有小面积元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叠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716360" y="3141720"/>
            <a:ext cx="3917880" cy="2890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274680"/>
            <a:ext cx="4186080" cy="7063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4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散度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11280" y="4797360"/>
                <a:ext cx="3529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Ψ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</m:e>
                    </m:nary>
                    <m:r>
                      <m:t xml:space="preserve">⋅</m:t>
                    </m:r>
                    <m: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 flipV="1">
            <a:off x="6300720" y="2421000"/>
            <a:ext cx="287280" cy="23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822920" y="1628640"/>
                <a:ext cx="37814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ψ</m:t>
                    </m:r>
                    <m:r>
                      <m:t xml:space="preserve">＝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 rot="20611800">
            <a:off x="5364000" y="4292640"/>
            <a:ext cx="3589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5435280" y="3933720"/>
            <a:ext cx="730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 rot="977400">
            <a:off x="5073120" y="2381040"/>
            <a:ext cx="574200" cy="302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87" y="1327"/>
                </a:moveTo>
                <a:arcTo wR="10800" hR="10800" stAng="-3677747" swAng="4509024"/>
                <a:lnTo>
                  <a:pt x="10800" y="10800"/>
                </a:lnTo>
                <a:close/>
              </a:path>
              <a:path fill="none" w="21600" h="21600">
                <a:moveTo>
                  <a:pt x="15987" y="1327"/>
                </a:moveTo>
                <a:arcTo wR="10800" hR="10800" stAng="-3677747" swAng="4509024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35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如果曲面</a:t>
            </a:r>
            <a:r>
              <a:rPr b="0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是闭合的，并规定曲面法矢由闭合曲面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指向外，矢量场对闭合曲面的通量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74680"/>
            <a:ext cx="4475160" cy="7779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4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散度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826920" y="3068640"/>
                <a:ext cx="446436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ψ</m:t>
                    </m:r>
                    <m:r>
                      <m:t xml:space="preserve">＝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6012000" y="3500280"/>
            <a:ext cx="1512720" cy="1513080"/>
          </a:xfrm>
          <a:prstGeom prst="ellipse">
            <a:avLst/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516720" y="3500280"/>
            <a:ext cx="576000" cy="15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0305"/>
                </a:moveTo>
                <a:arcTo wR="10800" hR="10800" stAng="-10642509" swAng="21347561"/>
                <a:lnTo>
                  <a:pt x="10800" y="10800"/>
                </a:lnTo>
                <a:close/>
              </a:path>
              <a:path fill="none" w="21600" h="21600">
                <a:moveTo>
                  <a:pt x="11" y="10305"/>
                </a:moveTo>
                <a:arcTo wR="10800" hR="10800" stAng="-10642509" swAng="21347561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 rot="1129200">
            <a:off x="5855040" y="989280"/>
            <a:ext cx="1438200" cy="446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45" y="564"/>
                </a:moveTo>
                <a:arcTo wR="10800" hR="10800" stAng="-4283995" swAng="4420306"/>
                <a:lnTo>
                  <a:pt x="10800" y="10800"/>
                </a:lnTo>
                <a:close/>
              </a:path>
              <a:path fill="none" w="21600" h="21600">
                <a:moveTo>
                  <a:pt x="14245" y="564"/>
                </a:moveTo>
                <a:arcTo wR="10800" hR="10800" stAng="-4283995" swAng="4420306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755280" y="1699920"/>
            <a:ext cx="7643880" cy="453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散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物理上的场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无论是矢量场，还是标量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都是相应的源激发的结果。矢量场通过闭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曲面通量的三种可能结果肯定与闭合曲面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有无产生矢量场的源直接相关。使闭合曲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量不为零的激励源为通量源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矢量场对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合曲面的通量与闭合曲面内的通量源之间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某种确定的关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74680"/>
            <a:ext cx="3970440" cy="7779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§1.4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矢量场的散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549360"/>
            <a:ext cx="1008000" cy="1150920"/>
          </a:xfrm>
          <a:prstGeom prst="ellipse">
            <a:avLst/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619280" y="476280"/>
            <a:ext cx="647640" cy="57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39640" y="475920"/>
            <a:ext cx="72072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402920" y="1268280"/>
            <a:ext cx="71640" cy="792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27280" y="620640"/>
                <a:ext cx="11527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∯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</m:e>
                    </m:nary>
                    <m:r>
                      <m:t xml:space="preserve">⋅</m:t>
                    </m:r>
                    <m:r>
                      <m:t xml:space="preserve">ds</m:t>
                    </m:r>
                    <m:r>
                      <m:t xml:space="preserve">＝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4356000" y="404640"/>
            <a:ext cx="345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示通过闭合曲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有净的矢量线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627280" y="2492280"/>
                <a:ext cx="11509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826920" y="2349360"/>
            <a:ext cx="1295640" cy="863640"/>
          </a:xfrm>
          <a:prstGeom prst="ellipse">
            <a:avLst/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547640" y="2205000"/>
            <a:ext cx="43344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2852640"/>
            <a:ext cx="86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1476000" y="2923920"/>
            <a:ext cx="144360" cy="718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4720" y="2492280"/>
            <a:ext cx="38876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表示有净的矢量线流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1640" y="4076640"/>
            <a:ext cx="1152360" cy="1079640"/>
          </a:xfrm>
          <a:prstGeom prst="ellipse">
            <a:avLst/>
          </a:prstGeom>
          <a:solidFill>
            <a:srgbClr val="0000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280" y="3671280"/>
            <a:ext cx="1872360" cy="345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728" y="739"/>
                </a:moveTo>
                <a:arcTo wR="10800" hR="10800" stAng="-4120481" swAng="4120481"/>
                <a:lnTo>
                  <a:pt x="10800" y="10800"/>
                </a:lnTo>
                <a:close/>
              </a:path>
              <a:path fill="none" w="21600" h="21600">
                <a:moveTo>
                  <a:pt x="14728" y="739"/>
                </a:moveTo>
                <a:arcTo wR="10800" hR="10800" stAng="-4120481" swAng="4120481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397080" y="3887280"/>
            <a:ext cx="1873080" cy="345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728" y="739"/>
                </a:moveTo>
                <a:arcTo wR="10800" hR="10800" stAng="-4120481" swAng="4120481"/>
                <a:lnTo>
                  <a:pt x="10800" y="10800"/>
                </a:lnTo>
                <a:close/>
              </a:path>
              <a:path fill="none" w="21600" h="21600">
                <a:moveTo>
                  <a:pt x="14728" y="739"/>
                </a:moveTo>
                <a:arcTo wR="10800" hR="10800" stAng="-4120481" swAng="4120481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627280" y="4365720"/>
                <a:ext cx="1081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4211640" y="3789360"/>
            <a:ext cx="417528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表示流入和流出闭合曲面的矢量线相等或没有矢量线流入、流出闭合曲面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7640" y="5805360"/>
            <a:ext cx="64090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闭合曲面的通量从宏观上建立了矢量场通过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合曲面的通量与曲面内产生矢量场的源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39640" y="1196640"/>
            <a:ext cx="79236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1200" y="1441440"/>
            <a:ext cx="288720" cy="14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68360" y="1557360"/>
                <a:ext cx="260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 flipH="1" flipV="1">
            <a:off x="1116000" y="2205000"/>
            <a:ext cx="216000" cy="43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042920" y="2997360"/>
            <a:ext cx="217440" cy="502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79640" y="3068640"/>
            <a:ext cx="14436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79640" y="4005000"/>
            <a:ext cx="144360" cy="215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为了定量研究场与源之间的关系，需建立场空间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意点（小体积元）的通量源与矢量场（小体积元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面的通量）的关系。利用极限方法得到这一关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称为矢量场的散度。因此散度是矢量通过包含该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的任意闭合小曲面的通量与曲面元体积之比的极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203640" y="3537000"/>
                <a:ext cx="475308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457200" y="274680"/>
            <a:ext cx="4186080" cy="7779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4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散度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55640" y="3429000"/>
                <a:ext cx="43927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v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427880" cy="499752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4.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散度与源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根据通量的物理意义，矢量场相对于小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积元的通量与体积元内的通量源成正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其中         为通量源密度。于是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κ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为比例常数，一般由实验获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274680"/>
            <a:ext cx="4259160" cy="7779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4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散度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195640" y="3357720"/>
                <a:ext cx="51116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v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V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nary>
                          <m:naryPr>
                            <m:chr m:val="∯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ds</m:t>
                            </m:r>
                          </m:e>
                        </m:nary>
                      </m:num>
                      <m:den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627280" y="4221000"/>
                <a:ext cx="11527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V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∯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κ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Δ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908000" y="4869000"/>
                <a:ext cx="55454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09080" cy="446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积分的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Gaus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直接从散度的定义出发，不难得到矢量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空间任意闭合曲面的通量等于该闭合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面所包含体积中矢量场散度的积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式称为矢量场的</a:t>
            </a:r>
            <a:r>
              <a:rPr b="0" lang="zh-CN" sz="3200" spc="-1" strike="noStrike">
                <a:solidFill>
                  <a:srgbClr val="ffffff"/>
                </a:solidFill>
                <a:latin typeface="Arial Narrow"/>
                <a:ea typeface="黑体"/>
              </a:rPr>
              <a:t>Gauss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定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268360" y="4076640"/>
                <a:ext cx="41054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v</m:t>
                    </m:r>
                    <m:r>
                      <m:t xml:space="preserve">F</m:t>
                    </m:r>
                    <m:r>
                      <m:t xml:space="preserve">＝</m:t>
                    </m:r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＝</m:t>
                    </m:r>
                    <m:r>
                      <m:rPr>
                        <m:lit/>
                        <m:nor/>
                      </m:rPr>
                      <m:t xml:space="preserve">κ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457200" y="274680"/>
            <a:ext cx="4114800" cy="7779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4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散度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539280" y="1268280"/>
            <a:ext cx="8075880" cy="532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6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散度的有关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任意正交曲线坐标系中，矢量场的散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表达式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260280"/>
            <a:ext cx="4186440" cy="7779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4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散度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84360" y="3068640"/>
                <a:ext cx="77054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nary>
                      <m:naryPr>
                        <m:chr m:val="∯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F</m:t>
                        </m:r>
                      </m:e>
                    </m:nary>
                    <m:r>
                      <m:t xml:space="preserve">⋅</m:t>
                    </m:r>
                    <m:r>
                      <m:t xml:space="preserve">ds</m:t>
                    </m:r>
                    <m:r>
                      <m:t xml:space="preserve">=</m:t>
                    </m:r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484360" y="4292640"/>
                <a:ext cx="3456000" cy="21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539280" y="2060640"/>
            <a:ext cx="8280360" cy="324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黑体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矢量场的环量与旋涡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不是所有的矢量场都由通量源激发。存在另一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不同于通量源的矢量源，它所激发的矢量场的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线是闭合的，它对于任何闭合曲面的通量为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但在场所定义的空间中闭合路径的积分不为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" y="408240"/>
            <a:ext cx="4105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5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旋度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08720" y="260280"/>
            <a:ext cx="1224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三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24000" y="408240"/>
            <a:ext cx="38890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§1.5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矢量场的旋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1341360"/>
            <a:ext cx="7561080" cy="2653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如磁场沿任意闭合曲线的积分与通过闭合曲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所围曲面的电流成正比，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上式建立了磁场与电流的关系。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16000" y="2421000"/>
                <a:ext cx="65548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v</m:t>
                            </m:r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∇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为常矢量</m:t>
                                </m:r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v</m:t>
                            </m:r>
                            <m:r>
                              <m:t xml:space="preserve">Cf</m:t>
                            </m:r>
                            <m:r>
                              <m:t xml:space="preserve">=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∇</m:t>
                            </m:r>
                            <m:r>
                              <m:t xml:space="preserve">f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v</m:t>
                            </m:r>
                            <m:r>
                              <m:t xml:space="preserve">αF</m:t>
                            </m:r>
                            <m:r>
                              <m:t xml:space="preserve">=</m:t>
                            </m:r>
                            <m:r>
                              <m:t xml:space="preserve">α</m:t>
                            </m:r>
                            <m:r>
                              <m:t xml:space="preserve">∇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α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为常量</m:t>
                                </m:r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v</m:t>
                            </m:r>
                            <m:r>
                              <m:t xml:space="preserve">fF</m:t>
                            </m:r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∇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t xml:space="preserve">∇</m:t>
                            </m:r>
                            <m:r>
                              <m:t xml:space="preserve">f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258920" y="4221000"/>
            <a:ext cx="6408720" cy="241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137440" cy="3527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三大类应用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电磁场（或电磁波）作为能量的一种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式，是当今世界最重要的能源，其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领域涉及电磁能的产生、储存、变换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传输和综合利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280360" cy="482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引入环量概念。矢量场对于闭合曲线</a:t>
            </a:r>
            <a:r>
              <a:rPr b="1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环量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为该矢量对闭合曲线</a:t>
            </a:r>
            <a:r>
              <a:rPr b="1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线积分，记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如果矢量场的任意闭合回路的环量恒为零，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该矢量场为无旋场，又称为保守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如果矢量场对于任何闭合曲线的环量不为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称该矢量场为有旋矢量场，能够激发有旋矢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场的源称为旋涡源。电流是磁场的旋涡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763640" y="2349360"/>
                <a:ext cx="482436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dL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324000" y="408240"/>
            <a:ext cx="41767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5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旋度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6840" y="1341000"/>
            <a:ext cx="5699160" cy="532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矢量场的旋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矢量场的环量给出了矢量场与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分回路所围曲面内旋涡源的宏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联系。为了给出空间任意点矢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场与旋涡源的关系，当闭合曲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所围的面积趋于零时，矢量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对回路</a:t>
            </a:r>
            <a:r>
              <a:rPr b="1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环量与旋涡源对于</a:t>
            </a:r>
            <a:r>
              <a:rPr b="1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围的面积的通量成正比，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8360" y="336960"/>
            <a:ext cx="41749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5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旋度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187280" y="5516640"/>
                <a:ext cx="44294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dl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κ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J</m:t>
                    </m:r>
                    <m:r>
                      <m:t xml:space="preserve">⋅</m:t>
                    </m:r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 rot="2881200">
            <a:off x="7425000" y="3432960"/>
            <a:ext cx="727200" cy="1395360"/>
          </a:xfrm>
          <a:prstGeom prst="ellipse">
            <a:avLst/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7164000" y="3428640"/>
            <a:ext cx="57636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510680" y="2770920"/>
            <a:ext cx="288360" cy="262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783" y="1218"/>
                </a:moveTo>
                <a:arcTo wR="10800" hR="10800" stAng="-3751303" swAng="4342397"/>
                <a:lnTo>
                  <a:pt x="10800" y="10800"/>
                </a:lnTo>
                <a:close/>
              </a:path>
              <a:path fill="none" w="21600" h="21600">
                <a:moveTo>
                  <a:pt x="15783" y="1218"/>
                </a:moveTo>
                <a:arcTo wR="10800" hR="10800" stAng="-3751303" swAng="4342397"/>
              </a:path>
            </a:pathLst>
          </a:cu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951680" y="4187880"/>
            <a:ext cx="28908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227720" y="3967200"/>
            <a:ext cx="216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799400" y="3072960"/>
            <a:ext cx="12600" cy="957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67640" y="256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Gulim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732720" y="4724280"/>
                <a:ext cx="50472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 flipV="1" rot="20877000">
            <a:off x="5704200" y="2281320"/>
            <a:ext cx="2880720" cy="201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68" y="527"/>
                </a:moveTo>
                <a:arcTo wR="10800" hR="10800" stAng="-6478252" swAng="5028380"/>
                <a:lnTo>
                  <a:pt x="10800" y="10800"/>
                </a:lnTo>
                <a:close/>
              </a:path>
              <a:path fill="none" w="21600" h="21600">
                <a:moveTo>
                  <a:pt x="7468" y="527"/>
                </a:moveTo>
                <a:arcTo wR="10800" hR="10800" stAng="-6478252" swAng="5028380"/>
              </a:path>
            </a:pathLst>
          </a:custGeom>
          <a:noFill/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53272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04000" y="3068640"/>
            <a:ext cx="360360" cy="398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 Antiqu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7815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引入矢量场旋度，定义为：矢量场在</a:t>
            </a:r>
            <a:r>
              <a:rPr b="0" i="1" lang="zh-CN" sz="3200" spc="-1" strike="noStrike">
                <a:solidFill>
                  <a:srgbClr val="ffffff"/>
                </a:solidFill>
                <a:latin typeface="Basemic Symbol"/>
                <a:ea typeface="黑体"/>
              </a:rPr>
              <a:t>M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点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旋度为一矢量，其数值为包含</a:t>
            </a:r>
            <a:r>
              <a:rPr b="0" i="1" lang="zh-CN" sz="3200" spc="-1" strike="noStrike">
                <a:solidFill>
                  <a:srgbClr val="ffffff"/>
                </a:solidFill>
                <a:latin typeface="Basemic Symbol"/>
                <a:ea typeface="黑体"/>
              </a:rPr>
              <a:t>M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点在内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面元边界的环量与小面元比值极限的最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值，其方向为极限取得最大值时小面积元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法线方向，即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835280" y="4581360"/>
                <a:ext cx="410508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F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n</m:t>
                        </m:r>
                      </m:e>
                    </m:acc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Δs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0</m:t>
                                </m:r>
                              </m:lim>
                            </m:limLow>
                            <m:f>
                              <m:num>
                                <m:nary>
                                  <m:naryPr>
                                    <m:chr m:val="∮"/>
                                    <m:supHide m:val="1"/>
                                  </m:naryPr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dl</m:t>
                                    </m:r>
                                  </m:e>
                                </m:nary>
                              </m:num>
                              <m:den>
                                <m:r>
                                  <m:t xml:space="preserve">Δs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468360" y="336960"/>
            <a:ext cx="41749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5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旋度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6840" y="1557000"/>
            <a:ext cx="8218440" cy="38163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根据线积分的计算公式，不难得到旋度在直角坐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系中的表达式为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: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611280" y="3068640"/>
                <a:ext cx="7705800" cy="18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Δ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z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nary>
                              <m:naryPr>
                                <m:chr m:val="∮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z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dl</m:t>
                                </m:r>
                              </m:e>
                            </m:nary>
                          </m:num>
                          <m:den>
                            <m:sSub>
                              <m:e>
                                <m:r>
                                  <m:t xml:space="preserve">Δ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z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Δ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z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nary>
                              <m:naryPr>
                                <m:chr m:val="∮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z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dl</m:t>
                                </m:r>
                              </m:e>
                            </m:nary>
                          </m:num>
                          <m:den>
                            <m:sSub>
                              <m:e>
                                <m:r>
                                  <m:t xml:space="preserve">Δ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z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Δ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nary>
                              <m:naryPr>
                                <m:chr m:val="∮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y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dl</m:t>
                                </m:r>
                              </m:e>
                            </m:nary>
                          </m:num>
                          <m:den>
                            <m:sSub>
                              <m:e>
                                <m:r>
                                  <m:t xml:space="preserve">Δ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sub>
                            </m:sSub>
                          </m:den>
                        </m:f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t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t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t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468360" y="336960"/>
            <a:ext cx="41749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5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旋度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971640" y="1341360"/>
                <a:ext cx="7056360" cy="31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</m:e>
                      <m:e>
                        <m:sSub>
                          <m:e/>
                          <m:sub/>
                        </m:sSub>
                        <m:sSub>
                          <m:e/>
                          <m:sub/>
                        </m:sSub>
                        <m:r>
                          <m:t xml:space="preserve">＝</m:t>
                        </m:r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^"/>
                                        </m:accPr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acc>
                                        <m:accPr>
                                          <m:chr m:val="^"/>
                                        </m:accPr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acc>
                                        <m:accPr>
                                          <m:chr m:val="^"/>
                                        </m:accPr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x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y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z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7499520" cy="4525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黑体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面积分的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Stokes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定理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利用旋度的定义式，可得到一般曲线和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面积分之间的变换关系式，即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Stokes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定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403280" y="3789360"/>
                <a:ext cx="59770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κ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116000" y="4724280"/>
                <a:ext cx="68421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∮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d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＝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⇒</m:t>
                    </m:r>
                    <m:nary>
                      <m:naryPr>
                        <m:chr m:val="∮"/>
                        <m:supHide m:val="1"/>
                      </m:naryPr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468360" y="336960"/>
            <a:ext cx="41749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5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旋度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4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旋度的有关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任意正交曲线坐标系中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旋度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表达式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900000" y="2565360"/>
                <a:ext cx="7488360" cy="33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sSub>
                          <m:e/>
                          <m:sub/>
                        </m:sSub>
                        <m:sSub>
                          <m:e/>
                          <m:sub/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sSub>
                          <m:e/>
                          <m:sub/>
                        </m:sSub>
                        <m:sSub>
                          <m:e/>
                          <m:sub/>
                        </m:sSub>
                        <m:r>
                          <m:t xml:space="preserve">＝</m:t>
                        </m:r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^"/>
                                        </m:accPr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</m:acc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acc>
                                        <m:accPr>
                                          <m:chr m:val="^"/>
                                        </m:accPr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</m:acc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acc>
                                        <m:accPr>
                                          <m:chr m:val="^"/>
                                        </m:accPr>
                                        <m:e>
                                          <m:r>
                                            <m:t xml:space="preserve">e</m:t>
                                          </m:r>
                                        </m:e>
                                      </m:acc>
                                    </m:e>
                                    <m:sub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763640" y="2205000"/>
                <a:ext cx="4535640" cy="24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∇</m:t>
                            </m:r>
                            <m:r>
                              <m:t xml:space="preserve">×</m:t>
                            </m:r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为常矢量</m:t>
                                </m:r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∇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Cf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∇</m:t>
                            </m:r>
                            <m:r>
                              <m:t xml:space="preserve">f</m:t>
                            </m:r>
                            <m:r>
                              <m:t xml:space="preserve">×</m:t>
                            </m:r>
                            <m:r>
                              <m:t xml:space="preserve">C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∇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F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f</m:t>
                            </m:r>
                            <m:r>
                              <m:t xml:space="preserve">∇</m:t>
                            </m:r>
                            <m:r>
                              <m:t xml:space="preserve">×</m:t>
                            </m:r>
                            <m:r>
                              <m:t xml:space="preserve">F</m:t>
                            </m:r>
                            <m:r>
                              <m:t xml:space="preserve">+</m:t>
                            </m:r>
                            <m:r>
                              <m:t xml:space="preserve">∇</m:t>
                            </m:r>
                            <m:r>
                              <m:t xml:space="preserve">f</m:t>
                            </m:r>
                            <m:r>
                              <m:t xml:space="preserve">×</m:t>
                            </m:r>
                            <m:r>
                              <m:t xml:space="preserve">F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∇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±</m:t>
                                </m:r>
                                <m:r>
                                  <m:t xml:space="preserve">G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∇</m:t>
                            </m:r>
                            <m:r>
                              <m:t xml:space="preserve">×</m:t>
                            </m:r>
                            <m:r>
                              <m:t xml:space="preserve">F</m:t>
                            </m:r>
                            <m:r>
                              <m:t xml:space="preserve">±</m:t>
                            </m:r>
                            <m:r>
                              <m:t xml:space="preserve">∇</m:t>
                            </m:r>
                            <m:r>
                              <m:t xml:space="preserve">×</m:t>
                            </m:r>
                            <m:r>
                              <m:t xml:space="preserve">G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539640" y="552960"/>
            <a:ext cx="388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§1.5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矢量场的旋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7004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现在我们必需考虑如下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矢量场除有散和有旋特性外，是否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别的特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是否存在不同于通量源和旋涡源的其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激励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如何唯一的确定一个矢量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5280" y="404640"/>
            <a:ext cx="6408720" cy="5814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6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</a:t>
            </a:r>
            <a:r>
              <a:rPr b="1" lang="zh-CN" sz="3200" spc="-1" strike="noStrike">
                <a:solidFill>
                  <a:srgbClr val="ffffff"/>
                </a:solidFill>
                <a:latin typeface="Courier New"/>
                <a:ea typeface="黑体"/>
              </a:rPr>
              <a:t>Helmholtz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</a:t>
            </a:r>
            <a:r>
              <a:rPr b="1" lang="zh-CN" sz="3200" spc="-1" strike="noStrike">
                <a:solidFill>
                  <a:srgbClr val="ffffff"/>
                </a:solidFill>
                <a:latin typeface="Book Antiqua"/>
                <a:ea typeface="黑体"/>
              </a:rPr>
              <a:t>Helmholtz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空间区域</a:t>
            </a:r>
            <a:r>
              <a:rPr b="1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V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上的任意矢量场，如果它的散度、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度和边界条件为已知，则该矢量场唯一并且可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表示为一无旋矢量场和一无散矢量场的叠加，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中     为无散场，    为无旋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333360"/>
            <a:ext cx="59040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6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</a:t>
            </a:r>
            <a:r>
              <a:rPr b="1" lang="zh-CN" sz="3200" spc="-1" strike="noStrike">
                <a:solidFill>
                  <a:srgbClr val="ffffff"/>
                </a:solidFill>
                <a:latin typeface="Book Antiqua"/>
                <a:ea typeface="黑体"/>
              </a:rPr>
              <a:t>Helmholtz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124000" y="4005360"/>
                <a:ext cx="3672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835280" y="4941720"/>
                <a:ext cx="792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716360" y="4869000"/>
                <a:ext cx="8654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7993080" cy="25923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◆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电磁波作为信息传输的载体，成为当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社会发布和获取信息的主要手段，主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研究领域为信息的产生、获取、交换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传输、储存、处理、再现和综合利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497800" cy="432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ook Antiqua"/>
              </a:rPr>
              <a:t>Helmholtz </a:t>
            </a:r>
            <a:r>
              <a:rPr b="1" lang="zh-CN" sz="3200" spc="-1" strike="noStrike">
                <a:solidFill>
                  <a:srgbClr val="ffffff"/>
                </a:solidFill>
                <a:latin typeface="Courier New"/>
                <a:ea typeface="黑体"/>
              </a:rPr>
              <a:t>定理明确回答了上述三个问题。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urier New"/>
                <a:ea typeface="黑体"/>
              </a:rPr>
              <a:t>任一矢量场由两个部分构成，其中一部分是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urier New"/>
                <a:ea typeface="黑体"/>
              </a:rPr>
              <a:t>散场，由旋涡源激发；并且满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另一部分是无旋场，由通量源激发，满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549360"/>
            <a:ext cx="6121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6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</a:t>
            </a:r>
            <a:r>
              <a:rPr b="1" lang="zh-CN" sz="3200" spc="-1" strike="noStrike">
                <a:solidFill>
                  <a:srgbClr val="ffffff"/>
                </a:solidFill>
                <a:latin typeface="Book Antiqua"/>
                <a:ea typeface="黑体"/>
              </a:rPr>
              <a:t>Helmholtz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771640" y="3645000"/>
                <a:ext cx="22338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843280" y="5229360"/>
                <a:ext cx="2303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【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-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】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证明一个标量场的梯度必无，一个矢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场的旋度必无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755640" y="4581360"/>
                <a:ext cx="777564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∇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∇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r>
                          <m:t xml:space="preserve">＝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＝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755640" y="2852640"/>
                <a:ext cx="7559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∇</m:t>
                        </m:r>
                        <m:r>
                          <m:t xml:space="preserve">⋅</m:t>
                        </m:r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0" name=""/>
          <p:cNvSpPr/>
          <p:nvPr/>
        </p:nvSpPr>
        <p:spPr>
          <a:xfrm>
            <a:off x="468360" y="404640"/>
            <a:ext cx="6119640" cy="5814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§1.6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矢量场的</a:t>
            </a:r>
            <a:r>
              <a:rPr b="1" lang="zh-CN" sz="3200" spc="-1" strike="noStrike">
                <a:solidFill>
                  <a:srgbClr val="ffffff"/>
                </a:solidFill>
                <a:latin typeface="Bookman Old Style"/>
                <a:ea typeface="黑体"/>
              </a:rPr>
              <a:t>Helmholtz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定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229600" cy="18288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◆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电磁波作为探测未知世界的一种重要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段，主要研究领域为电磁波与目标的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互作用特性、目标探测及其特征的获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6551640" cy="99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二、磁场理论发展简史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07160" cy="449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．电磁场理论的早期研究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电、磁现象是大自然最重要的往来现象，也最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被科学家们关心和研究的物理现象，其中贡献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大的有来顿、富兰克林、伏打等科学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以前，电、磁现象作为两个独立的物理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象，没有发现电与磁的联系。但是由于这些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为电磁学理论的建立奠定了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55640" y="1341360"/>
            <a:ext cx="7920000" cy="46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三、电磁场理论的主要研究对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电磁场的基本属性及其运动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场与物质的相互作用及信息的提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电磁场系统的计算方法，仿真技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工程技术应用中的电磁场理论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26560" y="1052280"/>
            <a:ext cx="7705800" cy="482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学习的目的、方法及其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掌握宏观电磁场的基本属性和运动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掌握宏观电磁场问题的基本求解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了解宏观电磁场的主要应用领域及其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训练分析问题、归纳问题的科学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培养用数学解决实际问题的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独立完成作业，做好课堂笔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精读一至二本教学参考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电磁场 理论</cp:keywords>
  <dc:language>en-US</dc:language>
  <cp:lastModifiedBy/>
  <cp:revision>0</cp:revision>
  <dc:subject/>
  <dc:title/>
</cp:coreProperties>
</file>