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9CA9-A186-479A-9134-C8A0BEBEAF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0135-013F-4A03-857D-D0D3DB2F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E1CC-3793-4F78-9F57-7D70EE14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0762-C8F2-453D-B892-4F752CBEA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4EF7-7390-45AA-A6B9-C10365A5D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BDD6A-71AB-4373-9BBF-A79CAD7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B70ED-E3F2-4438-B29B-CF3108C9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CD620-05D4-4BD7-9901-ACB4E531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CA0D-1585-4390-A28C-6998E178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CA384-8737-4550-9AB5-030CD555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32EDF-EA4D-4EB1-858E-1C5CE7F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7C04-BE73-49E7-A6F8-16928C7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DD4E0-56AE-4358-A85E-E3EECF85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A9063-35B0-4B05-9DB2-2E950CD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3FF7B-B4B3-434B-9915-36FDF3F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DEAB4-A56A-4391-B356-0B68237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A4F12-9220-4931-AD6E-B405069F4E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7E422-C819-49D9-B87A-C5137B32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4736-C29E-4628-BA76-EE23436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EC2F1-ADE9-4530-889C-2B1F42EB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70D9-C79B-49F1-90C0-5021B3FF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2EC3-3C24-46C8-9F0B-52624FB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00D0-0403-41A6-BA81-DCF77DC8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F6884-3EC8-4515-8CF6-EB6629B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745B-BBF7-4802-B7B9-147CEFAAEAFF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2D2B-1C70-4BAC-B086-4AE9882DCD5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A28D-E66F-4786-9870-F4A7CCD2F47C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3D2-F77E-4E67-823A-60755097189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radleyHand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radleyHand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</a:rPr>
              <a:t>对等计算：应用与技术</a:t>
            </a:r>
            <a:br>
              <a:rPr sz="4400"/>
            </a:br>
            <a:r>
              <a:rPr b="0" lang="en-US" sz="2800" spc="-1" strike="noStrike">
                <a:solidFill>
                  <a:srgbClr val="ff0000"/>
                </a:solidFill>
                <a:latin typeface="Oak"/>
              </a:rPr>
              <a:t>Peer-to-Peer Computing: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Oak"/>
              </a:rPr>
              <a:t>Applications &amp; Technolog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5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局限性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性能上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集中索引的方式没有可伸缩性（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scalability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分散处理方式往往找不到需要的内容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带宽消耗太大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如果不控制，校园网上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的带宽消耗在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文件传输上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F5D2-4D83-4A22-9196-B8A1E89C13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5CC64-2112-4B76-A41D-C346D4B537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潜在的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P2P </a:t>
            </a: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应用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金融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电信与网络提供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移动通信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科学计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8611-2EEA-4781-BE9A-F067D6CE99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1AFEE-0629-45FE-90CA-CB41147FCC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P2P </a:t>
            </a: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的特点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资源共享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已有系统和网络的利用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自底向上，而不是自上而下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大规模分散处理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不稳定的节点或者网络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EF16F-2F00-4584-A02B-DAEA785D06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EB547-B6D3-44B6-BA04-6EFD396057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669744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0A3B-5370-4A03-B167-E5F26C003E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893AE-05F1-4A3A-869F-88EBAC5C34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集中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71760" y="1647720"/>
          <a:ext cx="51609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1647720"/>
                    <a:ext cx="51609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 flipV="1">
            <a:off x="4167360" y="2362320"/>
            <a:ext cx="102996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323960" y="2679840"/>
            <a:ext cx="1111320" cy="2539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9040" y="5695920"/>
            <a:ext cx="3889440" cy="39708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0"/>
                </a:moveTo>
                <a:cubicBezTo>
                  <a:pt x="397" y="204"/>
                  <a:pt x="794" y="408"/>
                  <a:pt x="1043" y="408"/>
                </a:cubicBezTo>
                <a:cubicBezTo>
                  <a:pt x="1292" y="408"/>
                  <a:pt x="1369" y="68"/>
                  <a:pt x="149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6A3F-CF2F-4A26-B7E1-349DD512AA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206D3-6D47-4938-AD0C-A8F4D7C9FE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分散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70280" y="2249640"/>
          <a:ext cx="4842000" cy="41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0280" y="2249640"/>
                    <a:ext cx="484200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104240" y="2751120"/>
            <a:ext cx="396720" cy="13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0360" y="2671920"/>
            <a:ext cx="1349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548040" y="4816440"/>
            <a:ext cx="873000" cy="55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43280" y="2963880"/>
            <a:ext cx="1904400" cy="2617200"/>
            <a:chOff x="4643280" y="2963880"/>
            <a:chExt cx="1904400" cy="2617200"/>
          </a:xfrm>
        </p:grpSpPr>
        <p:sp>
          <p:nvSpPr>
            <p:cNvPr id="196" name=""/>
            <p:cNvSpPr/>
            <p:nvPr/>
          </p:nvSpPr>
          <p:spPr>
            <a:xfrm flipH="1" flipV="1">
              <a:off x="5277960" y="2963880"/>
              <a:ext cx="1269720" cy="2221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4643280" y="5185800"/>
              <a:ext cx="1586880" cy="39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960800" y="1773360"/>
            <a:ext cx="1428840" cy="660240"/>
          </a:xfrm>
          <a:custGeom>
            <a:avLst/>
            <a:gdLst/>
            <a:ahLst/>
            <a:rect l="l" t="t" r="r" b="b"/>
            <a:pathLst>
              <a:path w="816" h="378">
                <a:moveTo>
                  <a:pt x="816" y="378"/>
                </a:moveTo>
                <a:cubicBezTo>
                  <a:pt x="680" y="204"/>
                  <a:pt x="544" y="30"/>
                  <a:pt x="408" y="15"/>
                </a:cubicBezTo>
                <a:cubicBezTo>
                  <a:pt x="272" y="0"/>
                  <a:pt x="60" y="242"/>
                  <a:pt x="0" y="287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6C50-D748-44D0-9218-5DAFE67C33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776F0-1026-48E6-8105-44B294A566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混合式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55720" y="1916280"/>
          <a:ext cx="706428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916280"/>
                    <a:ext cx="706428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V="1">
            <a:off x="2390760" y="3503160"/>
            <a:ext cx="396720" cy="1825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49520" y="4376880"/>
            <a:ext cx="4603680" cy="1587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581280" y="2630520"/>
            <a:ext cx="2064960" cy="1666080"/>
            <a:chOff x="3581280" y="2630520"/>
            <a:chExt cx="2064960" cy="1666080"/>
          </a:xfrm>
        </p:grpSpPr>
        <p:sp>
          <p:nvSpPr>
            <p:cNvPr id="206" name=""/>
            <p:cNvSpPr/>
            <p:nvPr/>
          </p:nvSpPr>
          <p:spPr>
            <a:xfrm flipV="1">
              <a:off x="3740400" y="2630520"/>
              <a:ext cx="1905840" cy="23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81280" y="3422520"/>
              <a:ext cx="873000" cy="87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232000" y="6202440"/>
            <a:ext cx="5794560" cy="555480"/>
          </a:xfrm>
          <a:custGeom>
            <a:avLst/>
            <a:gdLst/>
            <a:ahLst/>
            <a:rect l="l" t="t" r="r" b="b"/>
            <a:pathLst>
              <a:path w="1497" h="408">
                <a:moveTo>
                  <a:pt x="0" y="0"/>
                </a:moveTo>
                <a:cubicBezTo>
                  <a:pt x="397" y="204"/>
                  <a:pt x="794" y="408"/>
                  <a:pt x="1043" y="408"/>
                </a:cubicBezTo>
                <a:cubicBezTo>
                  <a:pt x="1292" y="408"/>
                  <a:pt x="1369" y="68"/>
                  <a:pt x="1497" y="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248440" y="2550960"/>
            <a:ext cx="2620440" cy="1824840"/>
            <a:chOff x="5248440" y="2550960"/>
            <a:chExt cx="2620440" cy="1824840"/>
          </a:xfrm>
        </p:grpSpPr>
        <p:sp>
          <p:nvSpPr>
            <p:cNvPr id="210" name=""/>
            <p:cNvSpPr/>
            <p:nvPr/>
          </p:nvSpPr>
          <p:spPr>
            <a:xfrm flipV="1">
              <a:off x="5327280" y="3978720"/>
              <a:ext cx="1508760" cy="3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74360" y="2550960"/>
              <a:ext cx="794520" cy="95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248440" y="2947680"/>
              <a:ext cx="1190160" cy="111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4AA0-C292-4D1B-A257-38B9E95DE9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D87CB-E645-45BC-A664-F5E5C16DEA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体系结构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5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系统系统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89280" y="2852640"/>
            <a:ext cx="6786360" cy="3173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478320" y="4438800"/>
            <a:ext cx="635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63720" y="3408480"/>
            <a:ext cx="5238000" cy="952200"/>
            <a:chOff x="2763720" y="3408480"/>
            <a:chExt cx="5238000" cy="952200"/>
          </a:xfrm>
        </p:grpSpPr>
        <p:sp>
          <p:nvSpPr>
            <p:cNvPr id="218" name=""/>
            <p:cNvSpPr/>
            <p:nvPr/>
          </p:nvSpPr>
          <p:spPr>
            <a:xfrm>
              <a:off x="2763720" y="3408480"/>
              <a:ext cx="635400" cy="397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6160" y="3884400"/>
              <a:ext cx="475560" cy="47628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51320" y="4995720"/>
            <a:ext cx="476280" cy="397080"/>
          </a:xfrm>
          <a:prstGeom prst="ellipse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573960" y="4519080"/>
            <a:ext cx="635040" cy="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859360" y="3328920"/>
            <a:ext cx="2142720" cy="2063520"/>
            <a:chOff x="5859360" y="3328920"/>
            <a:chExt cx="2142720" cy="2063520"/>
          </a:xfrm>
        </p:grpSpPr>
        <p:sp>
          <p:nvSpPr>
            <p:cNvPr id="223" name=""/>
            <p:cNvSpPr/>
            <p:nvPr/>
          </p:nvSpPr>
          <p:spPr>
            <a:xfrm>
              <a:off x="7526160" y="3328920"/>
              <a:ext cx="475920" cy="396720"/>
            </a:xfrm>
            <a:prstGeom prst="rect">
              <a:avLst/>
            </a:prstGeom>
            <a:solidFill>
              <a:srgbClr val="0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9360" y="4995720"/>
              <a:ext cx="475920" cy="396720"/>
            </a:xfrm>
            <a:prstGeom prst="ellipse">
              <a:avLst/>
            </a:prstGeom>
            <a:solidFill>
              <a:srgbClr val="000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732720" y="3487680"/>
            <a:ext cx="714240" cy="476280"/>
          </a:xfrm>
          <a:custGeom>
            <a:avLst/>
            <a:gdLst/>
            <a:ahLst/>
            <a:rect l="l" t="t" r="r" b="b"/>
            <a:pathLst>
              <a:path w="189" h="272">
                <a:moveTo>
                  <a:pt x="144" y="0"/>
                </a:moveTo>
                <a:cubicBezTo>
                  <a:pt x="72" y="0"/>
                  <a:pt x="0" y="1"/>
                  <a:pt x="7" y="46"/>
                </a:cubicBezTo>
                <a:cubicBezTo>
                  <a:pt x="14" y="91"/>
                  <a:pt x="174" y="219"/>
                  <a:pt x="189" y="272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67400" y="4270320"/>
            <a:ext cx="1349280" cy="804960"/>
          </a:xfrm>
          <a:custGeom>
            <a:avLst/>
            <a:gdLst/>
            <a:ahLst/>
            <a:rect l="l" t="t" r="r" b="b"/>
            <a:pathLst>
              <a:path w="771" h="460">
                <a:moveTo>
                  <a:pt x="771" y="415"/>
                </a:moveTo>
                <a:cubicBezTo>
                  <a:pt x="654" y="207"/>
                  <a:pt x="537" y="0"/>
                  <a:pt x="409" y="7"/>
                </a:cubicBezTo>
                <a:cubicBezTo>
                  <a:pt x="281" y="14"/>
                  <a:pt x="60" y="347"/>
                  <a:pt x="0" y="460"/>
                </a:cubicBezTo>
              </a:path>
            </a:pathLst>
          </a:custGeom>
          <a:noFill/>
          <a:ln w="381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17760" y="3646440"/>
            <a:ext cx="4208400" cy="47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DA6E-28E6-4F0A-99A2-396CB14BF7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D0D2A-F612-4036-8827-694A470BC1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宽度优先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BradleyHandITC"/>
              </a:rPr>
              <a:t>搜索路径短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大量的网络消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可能会搜索整个网络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3166920"/>
            <a:ext cx="4649760" cy="292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0173-A344-405D-8FE0-0A7461451A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1B6AB-21D8-41F0-8166-8BDEB415B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深度优先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BradleyHandITC"/>
              </a:rPr>
              <a:t>低网络消耗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大量的回溯时间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708360" y="2306520"/>
            <a:ext cx="511164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A7CE-ED11-431A-B4B1-C6B67988C8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26E4E-1FA2-4917-AC75-9F1FEA3B8F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提纲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什么是对等计算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日常生活中的应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什么是对等计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历史沿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将来的应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基本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体系结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定位和路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查询处理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其它相关技术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相关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Web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网格计算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与开发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设计与技术选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JXTA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Jabb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其它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D394-3E8A-4587-BC98-A65D602941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81FBC-01EF-4423-9DB2-1F7B1FEEAD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启发式搜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路由表和路由索引的使用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基本思想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如果我知道数据在哪里，我就可以有针对性地去搜索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从而节约网络带宽消耗，快速找到答案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系统中，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准确的搜索是不可能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在每个节点上保留一些信息可能有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867280" y="2205000"/>
            <a:ext cx="285768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3D86-E0C4-455D-B2BE-D567747C51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9EDF6-B770-427C-A1EA-FB26CA68EA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定位和路由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系统中的定位和路由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4920" y="2762280"/>
            <a:ext cx="3276720" cy="2730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333600" y="2852640"/>
            <a:ext cx="2533680" cy="2808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651640" y="2940120"/>
            <a:ext cx="3024000" cy="27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C3DE-71B6-4603-A11E-C6777CA864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74C5A-F97F-4302-9688-27C5932D24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匹配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现在的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已经能够很好地完成这个任务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特别是结构化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AE33-B669-4150-96A2-D0F093325F3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789CB-9FFA-4B88-8E56-5FA1C86DA1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关键词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现在的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系统能够完成简单的关键词查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标题搜索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BradleyHandITC"/>
              </a:rPr>
              <a:t>但是距离搜索引擎那样的搜索还差得很远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1CDF-2024-44DA-8E87-B67F5DE043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B668A-92CC-4D6C-AAB0-DEDDAB6D89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结构化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当前的技术不能处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间模式不同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间数据的表示不同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无法用简单的定位确定数据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复杂的技术需要消耗大量的网络资源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语义上存在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BCB1-5D4A-4C1E-B885-8F05BBB4B0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5C615-B311-46D0-977C-0BC7550B66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查询处理 </a:t>
            </a:r>
            <a:r>
              <a:rPr b="0" lang="en-US" sz="40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其它查询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近似搜索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区域搜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片长在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小时以下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空间搜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距离五角场最近的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辆出租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分析查询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有多少辆出租车距离五角场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分钟距离以内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其中最近的多长时间能够到达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14B2-9AEA-4FF8-8536-5816E6B518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C8968-8069-4361-B748-0D01575015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Oak"/>
              </a:rPr>
              <a:t>基本技术 </a:t>
            </a:r>
            <a:r>
              <a:rPr b="0" lang="en-US" sz="48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4000" spc="-1" strike="noStrike">
                <a:solidFill>
                  <a:srgbClr val="000066"/>
                </a:solidFill>
                <a:latin typeface="Oak"/>
              </a:rPr>
              <a:t>其他相关技术</a:t>
            </a:r>
            <a:endParaRPr b="0" lang="en-US" sz="40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复本放置与缓存技术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放置策略选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一致性的保证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安全与隐私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节点异构性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你的数据我永远不懂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可靠性保证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一个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scr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文件可能是一个病毒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元数据管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谁能够使用系统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系统中有什么数据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某某数据的语义是什么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1438-8922-4A72-A19E-0D0140E012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6338B-8F03-4AF5-9E00-89DDEA362F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相关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Web Service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共同点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分布式数据处理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客户点对点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没有集中的服务器，只有类似于索引服务器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UDDI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差别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目前，大多数服务只牵涉到少数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通常是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节点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没有数据定位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路由等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40704-7FA5-4950-AA42-85420A56055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9DAB7-6360-461D-96D9-4885F1BEC1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相关技术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网格计算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共同点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网格服务通常是分布进行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差别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网格在操作系统之下，而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是应用层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目前，网格用户之间不是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BFF5-28E7-41AF-A5E1-F237506A636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04350-A48B-4427-96E8-6DD40060E6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zh-CN" sz="3600" spc="-1" strike="noStrike">
                <a:solidFill>
                  <a:srgbClr val="000066"/>
                </a:solidFill>
                <a:latin typeface="Oak"/>
              </a:rPr>
              <a:t>设计与技术选择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遵守开放标准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开发封闭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前者更易于设计、开发，而后者更可靠、安全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公开协议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开放源码系统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前者的开发代价较大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系统相关工具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vs.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使用系统独立工具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后者更符合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的本意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CE70-BEF6-4258-85EF-5725A42921A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F0BE0-E02F-432E-85D6-E6DE2F1658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我们生活中的对等计算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即时消息传递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CQ – I Seek~You!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OICQ/QQ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Yahoo! Pag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MSN Messeng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AOL IM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BradleyHandITC"/>
              </a:rPr>
              <a:t>聊天、文件传递、网上视频</a:t>
            </a:r>
            <a:r>
              <a:rPr b="1" lang="en-US" sz="2800" spc="-1" strike="noStrike">
                <a:solidFill>
                  <a:srgbClr val="000099"/>
                </a:solidFill>
                <a:latin typeface="BradleyHandITC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B272-13C9-4C8E-BC74-20EEE72B53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DA900-0ACA-409E-BFA8-325CFBF486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XTA (1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7080" cy="505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F806-48C6-4486-AEA9-4006BB3E62D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B216-5E11-4B2F-9A7D-83BDFE2F09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XTA (2)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9134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BBE6-C83C-473C-92FC-F818FCF020E4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45034-6830-46AC-9699-C7782DB3DC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系统与开发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– </a:t>
            </a:r>
            <a:r>
              <a:rPr b="0" lang="en-US" sz="3600" spc="-1" strike="noStrike">
                <a:solidFill>
                  <a:srgbClr val="000066"/>
                </a:solidFill>
                <a:latin typeface="Oak"/>
              </a:rPr>
              <a:t>Jabber</a:t>
            </a:r>
            <a:endParaRPr b="0" lang="en-US" sz="36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基于 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XML 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标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采用集中式索引服务器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48040" y="1484280"/>
            <a:ext cx="3697560" cy="532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D036-114D-433C-B26C-F08C3CEC2BA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2CC34-4704-445B-AC35-7DBBF13366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其它问题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法律和道德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共享盗版文件是违法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犯罪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发布不属于自己的内容合理合法吗？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技术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如何处理并适应 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Pv6?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移动系统的问题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安全与隐私保护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我不希望别人知道我看了什么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金融数据是保密的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并不意味着任何节点可以任意访问任何数据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应用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企业应用与个人应用的差别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E396-801B-4410-9981-90FCC3EFDD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8E6D7-F416-4482-B3CC-1D311C15EE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小结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 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是一种新的分布式计算模型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它牵涉很多新的技术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还牵涉了技术以外的问题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它未必能够改变现有应用的计算模型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但是现有计算模型的一种有力补充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1BC1-DED5-4DD4-8828-3DBFC15C62E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5FA15-3B4C-48C9-8EE4-CF73E6B6A2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我们生活中的对等计算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多媒体文件共享、下载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KaZaA: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最热门的下载软件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E-Donkey: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可能是中国最热门的下载软件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Gnutella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Freene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以前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Napst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BradleyHandITC"/>
              </a:rPr>
              <a:t>你共享你的多媒体文件，也从别人那里拿别人的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7D92-AD43-485D-B215-D1DBA3D6B7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44FB6-CCEE-4354-B0AE-E2CC8A26F2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是什么？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6782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oint-to-Poin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物理上</a:t>
            </a: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，点和点之间直接相连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eople-to-People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BradleyHandITC"/>
              </a:rPr>
              <a:t>逻辑上</a:t>
            </a: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，用户（应用）和用户直接对话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Peer-to-Pe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radleyHandITC"/>
              </a:rPr>
              <a:t>对话的两端是平等的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33EE-9E00-47FE-904F-A679B8EC8F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38646-BA75-4CD1-A415-D2AEAB2DE3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3925800"/>
            <a:ext cx="5545080" cy="285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995640" y="1219320"/>
            <a:ext cx="4248360" cy="2641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1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曾经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Internet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就是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ARPANet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1969 – 1995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DNS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Usenet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CC879-9AD8-4CE0-89C1-AC0E43DE73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A0BD3-3316-4D40-A923-A0CE3DCDF5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2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后来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服务器体系结构出现了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垃圾信息处理、拥塞控制使得网络节点之间不再协作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防火墙、动态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、网络地址翻译的出现中止了开放网络时代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客户机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服务器体系结构由于利于开发、使用、管理，成为很多网络应用的首选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HTTP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FTP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radleyHand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2DAF-165B-48B5-834A-D9E4626053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6FBE1-EED7-4763-9573-624979064C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3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年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Napster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ICQ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BradleyHand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新的</a:t>
            </a:r>
            <a:r>
              <a:rPr b="1" lang="en-US" sz="2800" spc="-1" strike="noStrike">
                <a:solidFill>
                  <a:srgbClr val="000000"/>
                </a:solidFill>
                <a:latin typeface="BradleyHandITC"/>
              </a:rPr>
              <a:t>P2P</a:t>
            </a: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模型出现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90840" y="1773360"/>
            <a:ext cx="334980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3FC55-8FE2-4802-A49B-14B02AB484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05361-7D91-4428-91C1-82477CD196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Oak"/>
              </a:rPr>
              <a:t>对等计算的历史 </a:t>
            </a:r>
            <a:r>
              <a:rPr b="0" lang="en-US" sz="4400" spc="-1" strike="noStrike">
                <a:solidFill>
                  <a:srgbClr val="000066"/>
                </a:solidFill>
                <a:latin typeface="Oak"/>
              </a:rPr>
              <a:t>(4)</a:t>
            </a:r>
            <a:endParaRPr b="0" lang="en-US" sz="4400" spc="-1" strike="noStrike">
              <a:solidFill>
                <a:srgbClr val="000066"/>
              </a:solidFill>
              <a:latin typeface="Oa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radleyHand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radleyHandITC"/>
              </a:rPr>
              <a:t>局限性 </a:t>
            </a:r>
            <a:r>
              <a:rPr b="1" lang="en-US" sz="3200" spc="-1" strike="noStrike">
                <a:solidFill>
                  <a:srgbClr val="000000"/>
                </a:solidFill>
                <a:latin typeface="BradleyHandITC"/>
              </a:rPr>
              <a:t>– 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功能上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寻找：“指环王”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象“指环王”这样好看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月份刚发布的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最流行的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部电影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BradleyHandITC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BradleyHandITC"/>
              </a:rPr>
              <a:t>和好友聊天</a:t>
            </a:r>
            <a:endParaRPr b="1" lang="en-US" sz="28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和我有相同爱好的好友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寻找和我有相同好友的好友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音频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视频聊天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音频</a:t>
            </a: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BradleyHandITC"/>
              </a:rPr>
              <a:t>视频白板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HandITC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BradleyHand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537A-3817-4541-B7EE-A0269688BD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0347D-A153-4EEF-98F6-0FD6209C1F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对等计算 应用 技术</cp:keywords>
  <dc:language>en-US</dc:language>
  <cp:lastModifiedBy/>
  <cp:revision>0</cp:revision>
  <dc:subject/>
  <dc:title/>
</cp:coreProperties>
</file>