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CA2-A73D-48D8-82B1-A907AC9A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90E-99BE-4488-85CB-954718C2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E34-F36D-401C-90B1-95CA4C14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5A2-AA7E-4825-B8B6-FF3FA836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6DB-1367-4756-858A-48986B16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D4D-0BB4-4AF0-818A-5A55C00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212-9E4D-48BC-9149-216AFE93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E35-3097-4E0F-B394-A10FB8C4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544-AA55-4A87-9807-4E4E396D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120-B821-4903-A91F-B603DD86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F9C-ED93-43C1-98C5-00D7B76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CF1-CD04-417F-A3A7-92491FA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3AF3-9BE1-470D-A80B-EAF6689CAB5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9DA3-417E-4124-9C9F-C3D291EC75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181080" y="620640"/>
            <a:ext cx="880884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E:\仝德志文件，勿删！\03-参考文档\！PPT图片及版面资源\06-PPT精选插图\04-图标\Chat_Normal.png"/>
          <p:cNvPicPr/>
          <p:nvPr/>
        </p:nvPicPr>
        <p:blipFill>
          <a:blip r:embed="rId2"/>
          <a:stretch/>
        </p:blipFill>
        <p:spPr>
          <a:xfrm>
            <a:off x="1160640" y="1052640"/>
            <a:ext cx="906120" cy="90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仝德志文件，勿删！\03-参考文档\！PPT图片及版面资源\06-PPT精选插图\04-图标\12A88677B1352C306D6B7E9CD0A73664.png"/>
          <p:cNvPicPr/>
          <p:nvPr/>
        </p:nvPicPr>
        <p:blipFill>
          <a:blip r:embed="rId3"/>
          <a:stretch/>
        </p:blipFill>
        <p:spPr>
          <a:xfrm>
            <a:off x="1042920" y="2152800"/>
            <a:ext cx="1141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E:\仝德志文件，勿删！\03-参考文档\！PPT图片及版面资源\06-PPT精选插图\04-图标\home256.png"/>
          <p:cNvPicPr/>
          <p:nvPr/>
        </p:nvPicPr>
        <p:blipFill>
          <a:blip r:embed="rId4"/>
          <a:stretch/>
        </p:blipFill>
        <p:spPr>
          <a:xfrm>
            <a:off x="1144440" y="3780000"/>
            <a:ext cx="941400" cy="941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E:\仝德志文件，勿删！\03-参考文档\！PPT图片及版面资源\06-PPT精选插图\04-图标\png-0030.png"/>
          <p:cNvPicPr/>
          <p:nvPr/>
        </p:nvPicPr>
        <p:blipFill>
          <a:blip r:embed="rId5"/>
          <a:stretch/>
        </p:blipFill>
        <p:spPr>
          <a:xfrm>
            <a:off x="1201680" y="529128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F:\360云盘\02-个人资料\！PPT图片及版面资源\05-PPT精选插图\03-小图类\04-图标\300C201E8A39454038A269D42593E3F5.png"/>
          <p:cNvPicPr/>
          <p:nvPr/>
        </p:nvPicPr>
        <p:blipFill>
          <a:blip r:embed="rId6"/>
          <a:stretch/>
        </p:blipFill>
        <p:spPr>
          <a:xfrm>
            <a:off x="3327480" y="16635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:\360云盘\02-个人资料\！PPT图片及版面资源\05-PPT精选插图\03-小图类\04-图标\09A87C32D9DA152F2676F1C43D9F7392.png"/>
          <p:cNvPicPr/>
          <p:nvPr/>
        </p:nvPicPr>
        <p:blipFill>
          <a:blip r:embed="rId7"/>
          <a:stretch/>
        </p:blipFill>
        <p:spPr>
          <a:xfrm>
            <a:off x="3276720" y="3903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8" descr=""/>
          <p:cNvPicPr/>
          <p:nvPr/>
        </p:nvPicPr>
        <p:blipFill>
          <a:blip r:embed="rId8"/>
          <a:stretch/>
        </p:blipFill>
        <p:spPr>
          <a:xfrm>
            <a:off x="5867280" y="236520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71800" y="11970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5C3-FD36-4380-B77C-B51F165E3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0:07:24Z</dcterms:modified>
  <cp:revision>10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