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F92-45FB-457E-8018-A9F57361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CF5-B159-40ED-8C00-F06AC47E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699-8390-4B96-8306-1C0ACE3C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129-437F-44D4-A66D-34613B80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82C-CE17-479D-A09F-FF119F0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85A-9FD7-4276-B97A-229C2EFC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2A6-2D98-4194-B13B-7685D0AA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11D-807B-438B-AC16-1737878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3A4-C618-4DEF-934C-84DC8BC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EA5-E55B-431A-ADB2-2B7A8D2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938-8A72-4C26-AB18-8CA1145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8ED-39EC-42D1-8C47-5417D38F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CFA0-A613-451F-89B0-93F36A4066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DDB8-E485-4512-8E8D-639A376D25A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9" descr=""/>
          <p:cNvPicPr/>
          <p:nvPr/>
        </p:nvPicPr>
        <p:blipFill>
          <a:blip r:embed="rId2"/>
          <a:stretch/>
        </p:blipFill>
        <p:spPr>
          <a:xfrm>
            <a:off x="5508720" y="1509840"/>
            <a:ext cx="3476520" cy="51591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3"/>
          <a:stretch/>
        </p:blipFill>
        <p:spPr>
          <a:xfrm>
            <a:off x="324000" y="3583080"/>
            <a:ext cx="4032000" cy="306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图片 11" descr=""/>
          <p:cNvPicPr/>
          <p:nvPr/>
        </p:nvPicPr>
        <p:blipFill>
          <a:blip r:embed="rId4"/>
          <a:stretch/>
        </p:blipFill>
        <p:spPr>
          <a:xfrm>
            <a:off x="272880" y="723960"/>
            <a:ext cx="4083120" cy="2724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602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356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电话找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C38-203D-4BD3-A8F8-90A0AE0DCD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10:57Z</dcterms:modified>
  <cp:revision>9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