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8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8A8-3CEF-4E84-8E6C-2FBE10AA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AA4-17A3-46C4-9BFB-5B74151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16B-8767-42A9-9C72-C2685221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B8B-FA0A-416B-B2AB-492DBF10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D5E-635F-4410-99EC-1265356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5B8-AFA2-4903-B9CD-E4D71EC8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DA3-409C-4C8A-9E77-A897A2C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1E3-0036-41BB-B74D-8620A66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418-F685-418C-B402-81E7601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522-B0B0-4A76-8DB5-E518A31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273-580B-4CEA-930B-C1813EB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271-0FEF-4E93-910C-ADE01D0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AAE-1789-4780-A671-E881D2D01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124080"/>
            <a:ext cx="7238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课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锻炼心理品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强品格修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71600"/>
            <a:ext cx="68580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、人生的宝贵财富—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道德高尚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心理健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2590920"/>
            <a:ext cx="129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39400" y="1371600"/>
            <a:ext cx="1277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对社会有用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838080"/>
            <a:ext cx="380880" cy="525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990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好科学文化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9480" y="3048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实践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580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如何做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5720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98480" y="4267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高尚道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8480" y="541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健康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3716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道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依靠教育的力量、舆论的力量、人们的信念和习惯而发生作用，是规范我们该怎么做和不该怎么做的重要的行为准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295280"/>
            <a:ext cx="8076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情景中，有良好道德的中学生应该怎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期终语文试卷上的一处错字老师没有批出来，成绩由此多了一分，而这一分恰恰关系到我是全班第一还是第二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一个与我发生过冲突的同学遭遇挫折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路口亮起红灯但并无汽车通过，而这时我恰恰有急事要过马路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在拥挤的公共汽车上好不容易等到一个座位，而这时有一位老人站在我身边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议一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825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9480" y="24382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健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29528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1295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躯体上没有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95320" y="2819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心理健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0040" y="4191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社会适应能力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8380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心理健康的表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724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乐于交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1240" y="2895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情绪健全与情感丰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1960" y="3809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性格良好、有自制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08840" y="4800600"/>
            <a:ext cx="286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智力正常、乐观开朗、意志坚强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有良好的社会适应能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836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5800" y="4876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28195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心理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4760" y="2819520"/>
            <a:ext cx="1278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良好道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1828800"/>
            <a:ext cx="213336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828800"/>
            <a:ext cx="167652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1430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密切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2670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4771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5000" y="361008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重要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8600" y="4419720"/>
            <a:ext cx="820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反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4080" y="5580000"/>
            <a:ext cx="1752840" cy="27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锻炼 心理 品质</cp:keywords>
  <dc:language>en-US</dc:language>
  <cp:lastModifiedBy/>
  <cp:revision>0</cp:revision>
  <dc:subject/>
  <dc:title/>
</cp:coreProperties>
</file>