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136B-7B60-4178-BB6D-B0F295E55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DCA-3977-4A46-9A33-18458909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85F2-DEAB-46C2-8619-928AA92C1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A54-D0CD-4AAE-B4B3-0E13F95C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5D356-E711-44A6-9F96-82B92BDCC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EB97-0C09-4CE7-9A2B-28510C7E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2DDCE-B6EC-4386-8037-F53BB33A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92AE-FCE7-4FC2-9CE0-EB86C522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A353-9B90-43AF-B49F-3378BBA6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E5C5-6B90-4923-BC3F-E7EF8F3BA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E837B-C2F9-4056-BE0B-ECD7323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EDDA-C1FD-4C12-B6C7-19D7159F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1575A-0C8B-4A78-A57C-E1EABB678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92849-703D-46F5-81CF-628EC272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7167-81C2-4F15-A772-73C9C136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A163-248A-427A-BFB5-72AE762AE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2517-9A57-473D-9CB4-E7ABC47E9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9AC-1907-43B9-BB29-5F4DDF5F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8D4-49F8-460E-AF3B-2323518A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E879-C2C6-495E-B63B-CDA42B87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8720-40EC-4D9A-9264-25DA07A6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76C5-5C0F-4753-9502-3D72F1B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4341-D59B-4A7B-8192-E0554107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361F-CFF7-42B8-8535-C085E06C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C7BC-0506-4436-8B38-2D75277388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2676-B544-411E-BC99-B9E6DC25D3C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地理信息系统网络工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XX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大学遥感与地理信息系统研究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网络互连设备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）局域网间的互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局域网之间的互连主要有两种情况：一种是指不同类型的局域网之间的互连，可通过网桥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和路由器来实现；另一种是同类局域网之间的互连，可使用中继器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peate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来实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）局域网于广域网间的互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局域网与广域网分为两种情况：一种是与数字数据通信网（例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D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X2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SD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真中继等）的互连，常采用路由器来实现；另一种是模拟电话网（例如公话网）的互连，通常使用访问服务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cess Serve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和调制解调器池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odem Pool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来实现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5530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90920" y="304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网络外部设备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络外部设备是网络用户共享的硬件设备之一，通常是些昂贵的设备，例如高性能网络打印机（高质量的激光打印机），大容量硬盘和绘图仪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7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网络软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如同计算机系统在计算机软件的控制下工作一样，网络也是网络软件控制之下工作的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网络操作系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UNIX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是历史最悠久的网络系统，适合于大中型网络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indows N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是目前发展最快的操作系统，广泛应用于中小型网络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Net Ware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由于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Internet/Intran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的发展而至适合于中小型局域网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网络应用软件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数据库管理系统，控制用户对数据库的访问、并发、安全、数据完整性等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电子邮件，电子邮件是计算机网络中应用最广泛的业务，也是网络用户通信联络最为有效的形式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网络</a:t>
            </a: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GIS—Web-GIS</a:t>
            </a:r>
            <a:r>
              <a:rPr b="0" lang="zh-CN" sz="2800" spc="-1" strike="noStrike">
                <a:solidFill>
                  <a:srgbClr val="ffcc6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办公自动化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OA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和管理信息系统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I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八、分组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PACKET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分组是通过网络传送信息的最小单位，分组中含有发送节点地址、接收节点地址以及被传送的数据信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网络分类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广域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局域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基带局域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宽带局域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   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局域网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局域网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的覆盖范围较小，一般从几十米到几公里，典型的在办公室，办公楼里使用。局域网的特点是传输速率高，组网灵活，成本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   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城域网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域网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M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的覆盖范围从几公里到几十公里，通常是一座城市，而且具有较高的传输速率，通常城域网是有政府和大型集团组建，例如城市信息港，它作为城市的基础设施，为公众提供服务，目前许多城市都在规划和建设自已的城市信息高速公路。对于某些大型企业集团来说，建设覆盖范围较大的企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Intranet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网络，也是城域网的一种应用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网络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GIS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技术构成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计算机网络技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数据共享技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eb-GIS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技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  <a:ea typeface="Times New Roman"/>
              </a:rPr>
              <a:t>     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广域网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广域网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AN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的覆盖范围很大，几个城市，一个或几个国家都属于广域网的范畴，从几十公里到几千，几万公里。例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INSN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中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它借助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HINAN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提供的高速中继线路，使用超高速路由器（例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isco700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系统），组成了覆盖中国各省市并连通国际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计算机广域网。一些政府机关，大型企业通过租用专线或自建通信线路，建立自己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的计算机广域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66"/>
                </a:solidFill>
                <a:latin typeface="Arial"/>
              </a:rPr>
              <a:t>计算机网络拓扑结构及网络分类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网络拓扑结构式网络规划和设计的重要内容，是网络中的各个组成部分相互连接的形式和方法，网络构成或形状，包括逻辑拓扑结构和物理拓扑结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逻辑拓扑结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指各部分之间的逻辑关系，即信息如何流动；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物理拓扑结构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是指各部分之间的物理关系，即连接方式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令牌分组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令牌环拓扑的中心是令牌分组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Token Packet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。为了避免分组的碰撞，令牌环拓扑确保任一时刻在网络让只有一个工作站发送信息。实现这种功能的是令牌分组或移对话证。只有控制了此令牌公组后，节点才能在网络上发送信息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网络拓扑结构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星形拓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总线拓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环形拓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树形拓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星环拓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无线网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685800"/>
            <a:ext cx="8305560" cy="5867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</a:rPr>
              <a:t>网络中各节点相互连接时的难点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将每一个网络节点和其它节点相连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很容易看出这种连接方法将是十分复杂的。例如，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台计算机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根电缆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台计算机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条电缆；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台计算机需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条电缆……用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代表网络中计算机的数目，那么此种连法所需电缆的数目为：电缆数目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=N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-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/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果你不想将你的所有资金全用在电缆上，那第一种更有效的连接方法看来是十分必需的。大多数网络都采用星形、总线和环形三种物理拓扑结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533520" y="228600"/>
            <a:ext cx="8305200" cy="6019560"/>
            <a:chOff x="533520" y="228600"/>
            <a:chExt cx="8305200" cy="6019560"/>
          </a:xfrm>
        </p:grpSpPr>
        <p:sp>
          <p:nvSpPr>
            <p:cNvPr id="139" name=""/>
            <p:cNvSpPr/>
            <p:nvPr/>
          </p:nvSpPr>
          <p:spPr>
            <a:xfrm>
              <a:off x="699840" y="1463400"/>
              <a:ext cx="728820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星型拓扑结构环形拓扑结构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72640" y="3469680"/>
              <a:ext cx="72882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总线型拓扑结构树型拓扑结构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77720" y="455040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72640" y="5631480"/>
              <a:ext cx="7288200" cy="61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                                                                                            </a:t>
              </a: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网状拓扑结构环形性拓扑结构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常见的网络拓扑结构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2312280"/>
              <a:ext cx="35582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2320" y="4789080"/>
              <a:ext cx="533520" cy="280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09040" y="4038480"/>
              <a:ext cx="533520" cy="2800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57560" y="4634640"/>
              <a:ext cx="533160" cy="2804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17800" y="4242240"/>
              <a:ext cx="1526040" cy="462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72640" y="382680"/>
              <a:ext cx="18640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集线器（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HUB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000" y="768960"/>
              <a:ext cx="67932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50880" y="768960"/>
              <a:ext cx="67716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96880" y="768960"/>
              <a:ext cx="101736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服务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48960" y="614520"/>
              <a:ext cx="1354680" cy="308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令版环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1760" y="669600"/>
              <a:ext cx="67968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9120" y="228600"/>
              <a:ext cx="1865880" cy="231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服务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12680" y="669600"/>
              <a:ext cx="67716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86640" y="1077480"/>
              <a:ext cx="679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72640" y="1926360"/>
              <a:ext cx="135540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服务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76920" y="1926360"/>
              <a:ext cx="67716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28040" y="2466360"/>
              <a:ext cx="677160" cy="231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3520" y="2466360"/>
              <a:ext cx="677160" cy="231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17800" y="1926360"/>
              <a:ext cx="135720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服务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09120" y="2312280"/>
              <a:ext cx="220320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以太网交换机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109120" y="2698560"/>
              <a:ext cx="84852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集线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04000" y="2698560"/>
              <a:ext cx="84852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集线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71800" y="308376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80480" y="3083760"/>
              <a:ext cx="50616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86640" y="308376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66320" y="308376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975000" y="308376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83680" y="3083760"/>
              <a:ext cx="50616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754080" y="4088160"/>
              <a:ext cx="135468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网桥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/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路由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754080" y="4782600"/>
              <a:ext cx="135468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FDDI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集中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786640" y="4318560"/>
              <a:ext cx="1188360" cy="3081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FDDI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83680" y="4088160"/>
              <a:ext cx="84600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服务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483680" y="4782600"/>
              <a:ext cx="1354680" cy="230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FDDI</a:t>
              </a:r>
              <a:r>
                <a:rPr b="0" lang="zh-CN" sz="900" spc="-1" strike="noStrike">
                  <a:solidFill>
                    <a:srgbClr val="ffffff"/>
                  </a:solidFill>
                  <a:latin typeface="Times New Roman"/>
                </a:rPr>
                <a:t>集中器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54080" y="516780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00440" y="516780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483680" y="5167800"/>
              <a:ext cx="50616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30040" y="5167800"/>
              <a:ext cx="508680" cy="2314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2000" y="431856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50880" y="410832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96880" y="431856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96880" y="470484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50880" y="501336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2000" y="4859280"/>
              <a:ext cx="266400" cy="1400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42200" y="61452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888200" y="61452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68240" y="61452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70320" y="460440"/>
              <a:ext cx="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26480" y="92304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04000" y="768960"/>
              <a:ext cx="50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4771440" y="768960"/>
              <a:ext cx="677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50880" y="215820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14240" y="215820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72640" y="2312280"/>
              <a:ext cx="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68240" y="2312280"/>
              <a:ext cx="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95320" y="215820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5448960" y="2544120"/>
              <a:ext cx="1684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75000" y="2544120"/>
              <a:ext cx="1684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9880" y="292932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939920" y="2929320"/>
              <a:ext cx="5086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17800" y="2929320"/>
              <a:ext cx="5086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200360" y="2929320"/>
              <a:ext cx="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6803640" y="2929320"/>
              <a:ext cx="17100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3680" y="2929320"/>
              <a:ext cx="1684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3922920" y="5013360"/>
              <a:ext cx="1684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1800" y="5013360"/>
              <a:ext cx="1684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652520" y="5013360"/>
              <a:ext cx="1684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330040" y="5013360"/>
              <a:ext cx="33984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5108760" y="4164480"/>
              <a:ext cx="67716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 flipV="1">
              <a:off x="5108760" y="4242240"/>
              <a:ext cx="5086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975000" y="4164480"/>
              <a:ext cx="5086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7143840" y="4278600"/>
              <a:ext cx="339840" cy="117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3840" y="4550400"/>
              <a:ext cx="508680" cy="23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75000" y="4627080"/>
              <a:ext cx="508680" cy="206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4939920" y="4550400"/>
              <a:ext cx="677160" cy="23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5108760" y="4627080"/>
              <a:ext cx="677160" cy="23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1550880" y="4318200"/>
              <a:ext cx="168480" cy="231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1042200" y="4627080"/>
              <a:ext cx="339120" cy="231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77960" y="4642560"/>
              <a:ext cx="587520" cy="7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550880" y="4704840"/>
              <a:ext cx="168480" cy="308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1719360" y="4858920"/>
              <a:ext cx="662760" cy="153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2580120" y="4458960"/>
              <a:ext cx="171000" cy="23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 flipV="1">
              <a:off x="1888200" y="4088160"/>
              <a:ext cx="679680" cy="230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872280" y="4164480"/>
              <a:ext cx="508680" cy="15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9840" y="4396320"/>
              <a:ext cx="0" cy="434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42200" y="5013360"/>
              <a:ext cx="508680" cy="77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85800" y="152280"/>
            <a:ext cx="7162920" cy="6705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819520" y="6553080"/>
            <a:ext cx="5331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逻辑总线拓扑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太网也许是人们最熟知的逻辑总线网络，也是最流行的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类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逻辑总线拓扑又是如何工作的呢？每一次一个节点总是占有其它节点的数据，并向各个网络传播这个数据。各个节点都可以收到这个数据，并检查此数据是否属于它自己的。如果是的，这些节点就保留它；如果不是，就放过它直至其到达目的地。每个以太网卡都有一个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8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位的地址。每帧数据指定的址在网上传输，直至到达指定好的节点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逻辑令牌环网络拓扑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以太网是一种广播系统，即如果一个站点传播信息的话，其它所有的站点都可以收听到。令牌环网则是不以这种方式工作。在令牌环网中，每个站必须重复它从前一个站收听到的信息，形成一种组桶式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bucket brigade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信息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计算机网络（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Computer Network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包括计算机和通信网两部分。那么什么是通信网呢？通信网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ommunication Network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是一种用交换设备，传输设备，将地理上分散用户终端设备互连起来实现通信和信息交换的系统。因此从广义的角度出发，我们认为计算机网络是利用通信线路和通信设备，将分散在不同地点，并具有独立功能的多套计算机系统互相连接起来，接照网络协议进行数据通信，实现资源共享的计算机系统的集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局域网技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 局域网组成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网络服务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网络工作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网络适配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网络传输介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网络附属设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 网络软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网络操作系统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一个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NOS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性能的好环，主要取决于如下方面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硬件独立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有桥接能力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支持多用户和多服务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安全存取控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网络管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用户界面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局域网协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无线局域网技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网络文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网络互连技术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同构型局域网的互连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AN—L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异构型局域网的互连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AN—L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局域网与广域网的互连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AN—W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 两个局域网经由广域网互连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LAN—WAN—        LAN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 网络互连设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 中继器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epeate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 网桥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 路由器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Router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 网关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Gateway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网络功能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资源共享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信息的快速转输和集中处理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均衡负荷及分布处理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综合信息服务功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 提高系统可靠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计算机网络的组成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网络工作站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任何一台具有向网络环境提供输入能力的机器被称为工作站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络工作站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Workstation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是计算机网络的用户终端设备，通常是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PC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机，主要完成信息浏览和桌面数据处理等功能。在客户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服务器网络中，网络工作站称为客户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网络服务器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网络服务器（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Server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）是可以被网络工作站访问的计算机系统，通常是一台高性能计算机。网络服务器包括各种网络信息资源，并负责管理资源和协调用户对资源的访问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传输设备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）电缆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在局域网中，包括两类电缆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ble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一类用于连结网络工作站和局域网交换设备的用户线电缆（在综合布线系统中称为水平电缆），另一类是用于局域网交换设备之间互连的中继线电缆（在综合布线系统中称为主干电缆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cc66"/>
                </a:solidFill>
                <a:latin typeface="Times New Roman"/>
              </a:rPr>
              <a:t>）网络接口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网络接口卡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I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通常简称为网卡，用于连接计算机于电缆，并通过电缆实现在计算机局域网交换设备之间高速传输数据。每台网络工作站都应安装一个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NIC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一般插在计算机扩展槽中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、局域网交换设备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局域网交换设备所使用的网络技术，有以下几种局域网交换设备：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T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局域网交换设备，例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T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局域网交换机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TM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集中器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UB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D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换设备，如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D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交换机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FDDI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集中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以太网交换设备，例如以太网交换机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Base-T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Base-T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集线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快速以太网交换设备，例如快速以太网交换机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Base-T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0Base-FX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集线器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千兆位以太网交换设备，例如千兆位以太网交换机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 系统</cp:keywords>
  <dc:language>en-US</dc:language>
  <cp:lastModifiedBy/>
  <cp:revision>0</cp:revision>
  <dc:subject/>
  <dc:title/>
</cp:coreProperties>
</file>