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478A-530E-41E5-A642-1AE290FB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82B-1619-4BF7-84CA-23E04702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AA8-8B4F-405E-9C6D-5C0A9054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E2D-BB91-46CC-A9E6-4BAC84D5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BED6-F58B-4B9B-8303-EAA25CCB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AE5F-D8B7-4574-A4A9-9647FB05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DEDE-8CE8-4BCF-AB3B-B318E66E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8543-E01B-47BC-AC8E-5984A322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5B99-A22F-4E53-AEDC-69E81E38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21DC-ABDD-46B8-9327-04078AD7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3A83-91EA-499C-BD10-6C8BFFA0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1C9-27A9-4B46-AA84-2438203B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7AD7-AA92-44F1-AAC8-B0943920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6768-6DB6-41EF-99BF-15E1299C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77D8-C89B-431A-8FA0-BA9F9A96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205A-2E42-4D5E-BD1E-AC1B245E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4ABA-EC9F-4E67-B1C5-DEB7A3BF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496-8877-4CF8-A82B-61D244EA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C85-2554-4CF9-968E-ADD0B677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744E-2860-4503-A7A0-407E1DAB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E97-63B7-436F-B1FE-7F7C1A0F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5AB-8DDF-4E96-AA49-39F87B40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D6C-8DD4-41CD-BF4D-641CF1AD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C04-3C77-425A-A0F2-3B9CF6CD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B4F0-BF26-45DA-8DC9-51C54EDDFAC0}" type="slidenum">
              <a:rPr b="0" lang="zh-CN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412E-46FC-42E6-956C-1887F23BB2A7}" type="slidenum">
              <a:rPr b="0" lang="zh-CN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687040" y="914400"/>
            <a:ext cx="31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地球运动的地理意义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1600200"/>
            <a:ext cx="16002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79120" y="157320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 Narrow"/>
                <a:ea typeface="华文行楷"/>
              </a:rPr>
              <a:t>自  转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38320" y="314316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Arial Narrow"/>
              </a:rPr>
              <a:t>地球是一个不发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Arial Narrow"/>
              </a:rPr>
              <a:t>也不透明的球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358452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fcab4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87400" y="3279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Narrow"/>
              </a:rPr>
              <a:t>昼夜现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90200" y="4575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Arial Narrow"/>
              </a:rPr>
              <a:t>地球自转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3355920"/>
            <a:ext cx="380880" cy="14479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80680" y="2971800"/>
            <a:ext cx="45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Narrow"/>
              </a:rPr>
              <a:t>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Narrow"/>
              </a:rPr>
              <a:t>夜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Narrow"/>
              </a:rPr>
              <a:t>更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Narrow"/>
              </a:rPr>
              <a:t>替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3920" y="494028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782800" y="2162160"/>
          <a:ext cx="322920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2800" y="2162160"/>
                    <a:ext cx="322920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733920" y="2666880"/>
            <a:ext cx="533160" cy="1676520"/>
          </a:xfrm>
          <a:custGeom>
            <a:avLst/>
            <a:gdLst/>
            <a:ahLst/>
            <a:rect l="l" t="t" r="r" b="b"/>
            <a:pathLst>
              <a:path w="400" h="1248">
                <a:moveTo>
                  <a:pt x="400" y="1248"/>
                </a:moveTo>
                <a:cubicBezTo>
                  <a:pt x="264" y="1040"/>
                  <a:pt x="128" y="832"/>
                  <a:pt x="64" y="624"/>
                </a:cubicBezTo>
                <a:cubicBezTo>
                  <a:pt x="0" y="416"/>
                  <a:pt x="24" y="104"/>
                  <a:pt x="1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00160" y="255492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Arial Narrow"/>
                <a:ea typeface="华文行楷"/>
              </a:rPr>
              <a:t>晨昏线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27680" y="2679840"/>
            <a:ext cx="66780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 Narrow"/>
                <a:ea typeface="黑体"/>
              </a:rPr>
              <a:t>（晨线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580000" y="4013280"/>
          <a:ext cx="2305080" cy="23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4013280"/>
                    <a:ext cx="23050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580000" y="4060800"/>
          <a:ext cx="1639800" cy="22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0000" y="4060800"/>
                    <a:ext cx="1639800" cy="22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661080" y="4005360"/>
          <a:ext cx="590760" cy="231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1080" y="4005360"/>
                    <a:ext cx="59076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300720" y="6195960"/>
          <a:ext cx="1224000" cy="32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00720" y="6195960"/>
                    <a:ext cx="12240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956720" y="4508640"/>
          <a:ext cx="866520" cy="1363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56720" y="4508640"/>
                    <a:ext cx="86652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6313680" y="49878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956720" y="981000"/>
          <a:ext cx="647640" cy="1220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56720" y="981000"/>
                    <a:ext cx="64764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7885080" y="189000"/>
          <a:ext cx="73080" cy="2887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85080" y="189000"/>
                    <a:ext cx="73080" cy="28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7885080" y="1379520"/>
          <a:ext cx="216000" cy="206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85080" y="1379520"/>
                    <a:ext cx="21600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804000" y="692280"/>
          <a:ext cx="73080" cy="2265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04000" y="692280"/>
                    <a:ext cx="7308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742000" y="476280"/>
          <a:ext cx="2214720" cy="2449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42000" y="476280"/>
                    <a:ext cx="221472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724360" y="765000"/>
          <a:ext cx="1152720" cy="2146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24360" y="765000"/>
                    <a:ext cx="11527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031840" y="260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 Narrow"/>
                <a:ea typeface="华文行楷"/>
              </a:rPr>
              <a:t>地方时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79280" y="3268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Narrow"/>
                <a:ea typeface="华文隶书"/>
              </a:rPr>
              <a:t>因经度而不同的时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62200" y="1649520"/>
          <a:ext cx="523872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1649520"/>
                    <a:ext cx="523872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219560" y="1231920"/>
            <a:ext cx="399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r>
              <a:rPr b="0" lang="en-US" sz="2400" spc="-1" strike="noStrike" baseline="50000">
                <a:solidFill>
                  <a:srgbClr val="eaeaea"/>
                </a:solidFill>
                <a:latin typeface="Arial Narrow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49480" y="1217520"/>
            <a:ext cx="6775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80</a:t>
            </a:r>
            <a:r>
              <a:rPr b="0" lang="en-US" sz="2400" spc="-1" strike="noStrike" baseline="50000">
                <a:solidFill>
                  <a:srgbClr val="eaeaea"/>
                </a:solidFill>
                <a:latin typeface="Arial Narrow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83560" y="1217520"/>
            <a:ext cx="6775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80</a:t>
            </a:r>
            <a:r>
              <a:rPr b="0" lang="en-US" sz="2400" spc="-1" strike="noStrike" baseline="50000">
                <a:solidFill>
                  <a:srgbClr val="eaeaea"/>
                </a:solidFill>
                <a:latin typeface="Arial Narrow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1773360"/>
            <a:ext cx="0" cy="2592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1773360"/>
            <a:ext cx="0" cy="2592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76320" y="1512720"/>
            <a:ext cx="6224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 Narrow"/>
              </a:rPr>
              <a:t>7.5</a:t>
            </a:r>
            <a:r>
              <a:rPr b="0" lang="en-US" sz="1600" spc="-1" strike="noStrike" baseline="50000">
                <a:solidFill>
                  <a:srgbClr val="eaeaea"/>
                </a:solidFill>
                <a:latin typeface="Arial Narrow"/>
              </a:rPr>
              <a:t>o</a:t>
            </a:r>
            <a:r>
              <a:rPr b="0" lang="en-US" sz="1600" spc="-1" strike="noStrike">
                <a:solidFill>
                  <a:srgbClr val="eaeaea"/>
                </a:solidFill>
                <a:latin typeface="Arial Narrow"/>
              </a:rPr>
              <a:t>W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2880" y="1503360"/>
            <a:ext cx="57672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 Narrow"/>
              </a:rPr>
              <a:t>7.5</a:t>
            </a:r>
            <a:r>
              <a:rPr b="0" lang="en-US" sz="1600" spc="-1" strike="noStrike" baseline="50000">
                <a:solidFill>
                  <a:srgbClr val="eaeaea"/>
                </a:solidFill>
                <a:latin typeface="Arial Narrow"/>
              </a:rPr>
              <a:t>o</a:t>
            </a:r>
            <a:r>
              <a:rPr b="0" lang="en-US" sz="16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995640" y="4335480"/>
          <a:ext cx="792360" cy="11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335480"/>
                    <a:ext cx="792360" cy="1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4188600" y="402048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ff33"/>
                </a:solidFill>
                <a:latin typeface="Arial Narrow"/>
                <a:ea typeface="华文隶书"/>
              </a:rPr>
              <a:t>中时区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48360" y="1773360"/>
            <a:ext cx="0" cy="2592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94920" y="1341360"/>
            <a:ext cx="49176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33"/>
                </a:solidFill>
                <a:latin typeface="Arial Narrow"/>
              </a:rPr>
              <a:t>15</a:t>
            </a:r>
            <a:r>
              <a:rPr b="1" lang="en-US" sz="1400" spc="-1" strike="noStrike" baseline="50000">
                <a:solidFill>
                  <a:srgbClr val="ccff33"/>
                </a:solidFill>
                <a:latin typeface="Arial Narrow"/>
              </a:rPr>
              <a:t>o</a:t>
            </a:r>
            <a:r>
              <a:rPr b="1" lang="en-US" sz="1400" spc="-1" strike="noStrike">
                <a:solidFill>
                  <a:srgbClr val="ccff33"/>
                </a:solidFill>
                <a:latin typeface="Arial Narrow"/>
              </a:rPr>
              <a:t>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08720" y="1773360"/>
            <a:ext cx="0" cy="2592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39800" y="1484280"/>
            <a:ext cx="61344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22.5</a:t>
            </a:r>
            <a:r>
              <a:rPr b="1" lang="en-US" sz="1400" spc="-1" strike="noStrike" baseline="50000">
                <a:solidFill>
                  <a:srgbClr val="eaeaea"/>
                </a:solidFill>
                <a:latin typeface="Arial Narrow"/>
              </a:rPr>
              <a:t>o</a:t>
            </a: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716360" y="4322880"/>
          <a:ext cx="792360" cy="11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6360" y="4322880"/>
                    <a:ext cx="792360" cy="1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936320" y="4352400"/>
            <a:ext cx="4546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ff33"/>
                </a:solidFill>
                <a:latin typeface="Arial Narrow"/>
                <a:ea typeface="华文隶书"/>
              </a:rPr>
              <a:t>东一区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00720" y="1773360"/>
            <a:ext cx="0" cy="2592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4680" y="1324080"/>
            <a:ext cx="57240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33"/>
                </a:solidFill>
                <a:latin typeface="Arial Narrow"/>
              </a:rPr>
              <a:t>120</a:t>
            </a:r>
            <a:r>
              <a:rPr b="1" lang="en-US" sz="1400" spc="-1" strike="noStrike" baseline="50000">
                <a:solidFill>
                  <a:srgbClr val="ccff33"/>
                </a:solidFill>
                <a:latin typeface="Arial Narrow"/>
              </a:rPr>
              <a:t>o</a:t>
            </a:r>
            <a:r>
              <a:rPr b="1" lang="en-US" sz="1400" spc="-1" strike="noStrike">
                <a:solidFill>
                  <a:srgbClr val="ccff33"/>
                </a:solidFill>
                <a:latin typeface="Arial Narrow"/>
              </a:rPr>
              <a:t>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9040" y="402048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ff33"/>
                </a:solidFill>
                <a:latin typeface="Arial Narrow"/>
                <a:ea typeface="华文隶书"/>
              </a:rPr>
              <a:t>东八区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67920" y="5229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 Narrow"/>
                <a:ea typeface="华文行楷"/>
              </a:rPr>
              <a:t>时间东加西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67920" y="5203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55bad"/>
                </a:solidFill>
                <a:latin typeface="Arial Narrow"/>
                <a:ea typeface="华文行楷"/>
              </a:rPr>
              <a:t>时间东加西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39680" y="88884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 Narrow"/>
                <a:ea typeface="华文隶书"/>
              </a:rPr>
              <a:t>水平方向上移动的物体发生偏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93040" y="1582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华文行楷"/>
              </a:rPr>
              <a:t>南左北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00400" y="227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 Narrow"/>
                <a:ea typeface="黑体"/>
              </a:rPr>
              <a:t>复习回顾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82440" y="2444400"/>
            <a:ext cx="60696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ab40"/>
                </a:solidFill>
                <a:latin typeface="黑体"/>
                <a:ea typeface="黑体"/>
              </a:rPr>
              <a:t>地球自转的地理意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4292640"/>
            <a:ext cx="865080" cy="288720"/>
          </a:xfrm>
          <a:prstGeom prst="rightArrow">
            <a:avLst>
              <a:gd name="adj1" fmla="val 50000"/>
              <a:gd name="adj2" fmla="val 74906"/>
            </a:avLst>
          </a:prstGeom>
          <a:solidFill>
            <a:srgbClr val="fcab4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18120" y="3103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华文行楷"/>
                <a:ea typeface="华文行楷"/>
              </a:rPr>
              <a:t>1.</a:t>
            </a:r>
            <a:r>
              <a:rPr b="0" lang="zh-CN" sz="2400" spc="-1" strike="noStrike">
                <a:solidFill>
                  <a:srgbClr val="eaeaea"/>
                </a:solidFill>
                <a:latin typeface="华文行楷"/>
                <a:ea typeface="华文行楷"/>
              </a:rPr>
              <a:t>昼夜更替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28560" y="43275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华文行楷"/>
                <a:ea typeface="华文行楷"/>
              </a:rPr>
              <a:t>2.</a:t>
            </a:r>
            <a:r>
              <a:rPr b="0" lang="zh-CN" sz="2400" spc="-1" strike="noStrike">
                <a:solidFill>
                  <a:srgbClr val="eaeaea"/>
                </a:solidFill>
                <a:latin typeface="华文行楷"/>
                <a:ea typeface="华文行楷"/>
              </a:rPr>
              <a:t>地方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01000" y="5479920"/>
            <a:ext cx="17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华文行楷"/>
                <a:ea typeface="华文行楷"/>
              </a:rPr>
              <a:t>3.</a:t>
            </a:r>
            <a:r>
              <a:rPr b="0" lang="zh-CN" sz="2400" spc="-1" strike="noStrike">
                <a:solidFill>
                  <a:srgbClr val="eaeaea"/>
                </a:solidFill>
                <a:latin typeface="华文行楷"/>
                <a:ea typeface="华文行楷"/>
              </a:rPr>
              <a:t>沿地表水平移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华文行楷"/>
                <a:ea typeface="华文行楷"/>
              </a:rPr>
              <a:t>  </a:t>
            </a:r>
            <a:r>
              <a:rPr b="0" lang="zh-CN" sz="2400" spc="-1" strike="noStrike">
                <a:solidFill>
                  <a:srgbClr val="eaeaea"/>
                </a:solidFill>
                <a:latin typeface="华文行楷"/>
                <a:ea typeface="华文行楷"/>
              </a:rPr>
              <a:t>的物体产生偏向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81000" y="3048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华文行楷"/>
              </a:rPr>
              <a:t>晨昏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51240" y="4122720"/>
            <a:ext cx="174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华文行楷"/>
              </a:rPr>
              <a:t>每隔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华文行楷"/>
              </a:rPr>
              <a:t>15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华文行楷"/>
              </a:rPr>
              <a:t>度划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华文行楷"/>
              </a:rPr>
              <a:t>一时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24360" y="54450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华文行楷"/>
              </a:rPr>
              <a:t>南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华文行楷"/>
              </a:rPr>
              <a:t>北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地球运动 地理意义</cp:keywords>
  <dc:language>en-US</dc:language>
  <cp:lastModifiedBy/>
  <cp:revision>0</cp:revision>
  <dc:subject/>
  <dc:title/>
</cp:coreProperties>
</file>