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gif" ContentType="image/gif"/>
  <Override PartName="/ppt/media/image8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hammer.wav" ContentType="audio/x-wav"/>
  <Override PartName="/ppt/media/image12.png" ContentType="image/png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702-E883-4BAB-BDAD-637F98D5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122-1BD2-45CA-833E-4A1086B7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5D5-28B1-4603-99EE-0E9B6733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186-6F7D-42D2-8372-FD1C7C1A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C8F-D672-4D42-AEA8-58339096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30F-D4C0-4175-8AC5-B7802484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713-BD2D-44FE-BD78-0F3864C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46C-B0ED-41DB-AF80-A158921C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350-3122-4ACA-AB46-1AFD9214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3EF-204C-46DE-9FA3-AAF8BEB2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56C-C9E1-4F35-86BD-5EB7D2F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F6D-AC1E-4C7C-8E2A-361748E6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1C6B-81A2-4EAC-9BB4-A207B612EB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8.gif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27000"/>
            <a:ext cx="9144000" cy="6897600"/>
            <a:chOff x="0" y="-27000"/>
            <a:chExt cx="9144000" cy="68976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689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684360" y="624996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611280" y="5529240"/>
              <a:ext cx="108108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rcRect l="4949" t="5755" r="3593" b="3647"/>
            <a:stretch/>
          </p:blipFill>
          <p:spPr>
            <a:xfrm>
              <a:off x="34920" y="-14400"/>
              <a:ext cx="5003640" cy="4424400"/>
            </a:xfrm>
            <a:prstGeom prst="rect">
              <a:avLst/>
            </a:prstGeom>
            <a:ln w="9360">
              <a:solidFill>
                <a:srgbClr val="d16013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564000" y="4305240"/>
              <a:ext cx="7398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 rot="1836600">
              <a:off x="2843280" y="4449600"/>
              <a:ext cx="695160" cy="48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42360" y="1268280"/>
            <a:ext cx="1350720" cy="135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1836600">
            <a:off x="60480" y="1052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18576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28640" y="3813120"/>
            <a:ext cx="294336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66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清静  悲凉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66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920" y="1630440"/>
            <a:ext cx="65516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故都的秋的总印象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71640" y="4428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12720" y="95868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总印象从开篇的文眼里来：可是啊，北国的秋，却特别地来得清，来得静，来得悲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情感的统摄嵌于文中和末了宕开一笔的联想：又觉得清闲，潜意识下并且还觉得有点儿落寞。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/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对于秋，总是一样的能特别引起深沉，幽远，严厉，萧索的感触来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971640" y="112536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971640" y="2781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71640" y="4428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31640" y="333360"/>
            <a:ext cx="853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《郁达夫评传》一书中对郁达夫这种情感的来自，有较详细的描述。本来，郁达夫一家于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1933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月从上海迁居杭州，主要原因是想找一个闲静的所在，以逃离白色恐怖。他曾将寄情山水作为治疗苦闷的良方。然而，迁居杭州后，心境并非因此宁静，甚至郁积矛盾和痛苦。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1933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日，他曾在一首诗的下面写道：“近来生活为左右所夹，颇觉烦闷，精神躯体都不能自由……。”由此可知，苦闷并力图排解苦闷，也就自然而然地成                       了写于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1934</a:t>
            </a:r>
            <a:r>
              <a:rPr b="1" lang="zh-CN" sz="32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年的《故都的秋》的                        感情基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3480" y="69228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3429000"/>
            <a:ext cx="18716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品味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0" y="2205000"/>
            <a:ext cx="1728720" cy="3379320"/>
            <a:chOff x="4572000" y="2205000"/>
            <a:chExt cx="1728720" cy="3379320"/>
          </a:xfrm>
        </p:grpSpPr>
        <p:sp>
          <p:nvSpPr>
            <p:cNvPr id="173" name=""/>
            <p:cNvSpPr/>
            <p:nvPr/>
          </p:nvSpPr>
          <p:spPr>
            <a:xfrm>
              <a:off x="4572000" y="437184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话秋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4572000" y="2205000"/>
              <a:ext cx="1728720" cy="3379320"/>
              <a:chOff x="4572000" y="2205000"/>
              <a:chExt cx="1728720" cy="3379320"/>
            </a:xfrm>
          </p:grpSpPr>
          <p:sp>
            <p:nvSpPr>
              <p:cNvPr id="175" name=""/>
              <p:cNvSpPr/>
              <p:nvPr/>
            </p:nvSpPr>
            <p:spPr>
              <a:xfrm>
                <a:off x="4572000" y="220500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赏秋景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72000" y="270972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知秋物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72000" y="3286080"/>
                <a:ext cx="165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听秋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3440" y="3860640"/>
                <a:ext cx="172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感秋意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72000" y="4941720"/>
                <a:ext cx="17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  <a:ea typeface="楷体_GB2312"/>
                  </a:rPr>
                  <a:t>明秋情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rot="1836600">
            <a:off x="60480" y="1052640"/>
            <a:ext cx="69516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24000" y="2201760"/>
            <a:ext cx="4535280" cy="4483080"/>
            <a:chOff x="324000" y="2201760"/>
            <a:chExt cx="4535280" cy="4483080"/>
          </a:xfrm>
        </p:grpSpPr>
        <p:sp>
          <p:nvSpPr>
            <p:cNvPr id="182" name=""/>
            <p:cNvSpPr/>
            <p:nvPr/>
          </p:nvSpPr>
          <p:spPr>
            <a:xfrm>
              <a:off x="2124000" y="2494080"/>
              <a:ext cx="287280" cy="2879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74880 h 2879640"/>
                <a:gd name="textAreaBottom" fmla="*/ 2804760 h 28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9840" y="2201760"/>
              <a:ext cx="244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槐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蝉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中外的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24000" y="3357720"/>
              <a:ext cx="1584000" cy="98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666699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清静  悲凉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66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445080" y="2421000"/>
            <a:ext cx="287640" cy="3024000"/>
          </a:xfrm>
          <a:custGeom>
            <a:avLst/>
            <a:gdLst>
              <a:gd name="textAreaLeft" fmla="*/ 0 w 287640"/>
              <a:gd name="textAreaRight" fmla="*/ 103680 w 28764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19280" y="944640"/>
            <a:ext cx="58323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故都的秋的对象抓取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524720" y="1125360"/>
            <a:ext cx="13510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1280" y="1174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作者用心中之秋写笔下之秋。从五个方面刻划故都的秋的景象，景象无不留有作者心的痕迹：北国院内赏秋景、北国槐下知秋物、北国蝉底听秋声、北国雨后感秋意、北国秋清话秋果。至于传统的文章里明秋情的内                    容，是联想的展开，不在                       景物描写之内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900000" y="1341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11280" y="69228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不用浓墨重彩，一篇《故都的秋》满写着赞美、眷念的韵味的和幽远、落寞的情怀。故都的秋早已都被作者涂抹了一层清、静、悲凉的色彩。郁达夫笔下的故都的秋究竟在哪里呢？在秋院的破壁腰，在秋槐的落蕊旁，在秋蝉的残鸣中，在秋雨滑落下，在秋果的成熟里，也在那故都闲人充满了京腔                    京韵的互答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971640" y="90792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rot="1836600">
            <a:off x="611280" y="98100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2360" y="2705040"/>
            <a:ext cx="4535280" cy="4483080"/>
            <a:chOff x="252360" y="2705040"/>
            <a:chExt cx="4535280" cy="4483080"/>
          </a:xfrm>
        </p:grpSpPr>
        <p:sp>
          <p:nvSpPr>
            <p:cNvPr id="201" name=""/>
            <p:cNvSpPr/>
            <p:nvPr/>
          </p:nvSpPr>
          <p:spPr>
            <a:xfrm>
              <a:off x="2052360" y="2997360"/>
              <a:ext cx="287280" cy="2879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74880 h 2879640"/>
                <a:gd name="textAreaBottom" fmla="*/ 2804760 h 28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8200" y="2705040"/>
              <a:ext cx="244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槐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蝉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北国的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中外的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252360" y="3861000"/>
              <a:ext cx="1584000" cy="98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666699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清静  悲凉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66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908000" y="907920"/>
            <a:ext cx="5472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南国的秋的嵌入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524720" y="836640"/>
            <a:ext cx="1351080" cy="1351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43280" y="2708280"/>
            <a:ext cx="230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草木  慢           空气  润          天色  淡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86372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深沉幽远严厉萧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042320" y="3213000"/>
            <a:ext cx="1922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半开半醉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2924280"/>
            <a:ext cx="223560" cy="1368360"/>
          </a:xfrm>
          <a:custGeom>
            <a:avLst/>
            <a:gdLst>
              <a:gd name="textAreaLeft" fmla="*/ 0 w 223560"/>
              <a:gd name="textAreaRight" fmla="*/ 80640 w 223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30920" y="4437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不饱不透不浓不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2781360"/>
            <a:ext cx="0" cy="33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23840" y="5065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1128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作者用深沉的忧思和落寞的感受来咏秋，于悲凉中悟到人生，于清静中获取追求。行文上将南国、北国之秋进行对比，其目的是抑彼而扬此，突出作者的主观感受</a:t>
            </a:r>
            <a:r>
              <a:rPr b="0" lang="zh-CN" sz="28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秋之味，北国胜江南。同时，作者的读秋的感悟也得到                 了强化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rot="1836600">
            <a:off x="60480" y="1052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30751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深沉 幽远 严厉 萧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19280" y="90792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末了议论文字的缀入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7524720" y="836640"/>
            <a:ext cx="1351080" cy="1351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43280" y="2205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古今中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43280" y="41562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中国文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22200" y="2852640"/>
            <a:ext cx="2305080" cy="1179720"/>
            <a:chOff x="322200" y="2852640"/>
            <a:chExt cx="2305080" cy="1179720"/>
          </a:xfrm>
        </p:grpSpPr>
        <p:sp>
          <p:nvSpPr>
            <p:cNvPr id="227" name=""/>
            <p:cNvSpPr/>
            <p:nvPr/>
          </p:nvSpPr>
          <p:spPr>
            <a:xfrm>
              <a:off x="322200" y="2852640"/>
              <a:ext cx="23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d2003"/>
                  </a:solidFill>
                  <a:latin typeface="Arial"/>
                  <a:ea typeface="隶书"/>
                </a:rPr>
                <a:t>不能自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280" y="332892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d2003"/>
                  </a:solidFill>
                  <a:latin typeface="Arial"/>
                  <a:ea typeface="隶书"/>
                </a:rPr>
                <a:t>的深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627280" y="2585880"/>
            <a:ext cx="214200" cy="1779840"/>
          </a:xfrm>
          <a:custGeom>
            <a:avLst/>
            <a:gdLst>
              <a:gd name="textAreaLeft" fmla="*/ 136800 w 214200"/>
              <a:gd name="textAreaRight" fmla="*/ 214560 w 214200"/>
              <a:gd name="textAreaTop" fmla="*/ 46080 h 1779840"/>
              <a:gd name="textAreaBottom" fmla="*/ 1733760 h 177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50198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Arial"/>
                <a:ea typeface="楷体_GB2312"/>
              </a:rPr>
              <a:t>关系特别深  感受得到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999040" y="3716280"/>
            <a:ext cx="3016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971640" y="90792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1280" y="76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缘情写景的需要。以情驭景，以景显情，情景互生之后，生发议论，使故都的秋愈显现出文化的积淀。 </a:t>
            </a:r>
            <a:br>
              <a:rPr sz="3600"/>
            </a:b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      可以说故都的秋的清、静、悲凉，全由作者着色，其色源自四个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4720" y="3500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4d2205"/>
                </a:solidFill>
                <a:latin typeface="楷体_GB2312"/>
                <a:ea typeface="楷体_GB2312"/>
              </a:rPr>
              <a:t>故都秋天自然和人文色彩的厚重； ⑵战乱中国社会和环境的晦暗；     ⑶作家个人气质和审美追求                     的抑郁深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6360" y="57960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920" y="11592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65f0e"/>
                </a:solidFill>
                <a:latin typeface="Arial"/>
                <a:ea typeface="华文行楷"/>
              </a:rPr>
              <a:t>故都的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140328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2195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360" y="2987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360" y="3780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有关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4572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5364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揣摩玩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听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 rot="1158600">
            <a:off x="8243640" y="5805360"/>
            <a:ext cx="73980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1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3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7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5079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4d2205"/>
                </a:solidFill>
                <a:latin typeface="Arial"/>
                <a:ea typeface="楷体_GB2312"/>
              </a:rPr>
              <a:t>在现实的人生里，作家的内心被过早地投下了忧郁、落寞的阴影。正因为这样，他笔下的秋境、秋味儿，被鲜明地笼上了一层郁达夫式的主观色彩。但故都的秋又并没有因为作家的情感体验而受到扭曲，以致失却了它固有的特征。在物我之间完美的交融里，那院落的牵牛、槐树的落蕊，秋蝉的鸣叫，还有那秋风秋                  雨等等，是多么清晰而逼真地                       将再现了故都之秋的韵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外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80200" y="260676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枯藤老树昏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小桥流水人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古道西风瘦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夕阳西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断肠人在天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08200" y="2476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-517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596360" y="5805360"/>
            <a:ext cx="1081080" cy="998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 rot="2125200">
            <a:off x="8070840" y="5803920"/>
            <a:ext cx="977760" cy="882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546800" y="798480"/>
            <a:ext cx="1136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将课文中的情境仿写成一首小令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20620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净沙   秋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　     马致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755640" y="105408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596360" y="5805360"/>
            <a:ext cx="1081080" cy="998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16000" y="1052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1708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76500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623736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 rot="2125200">
            <a:off x="8070840" y="5803920"/>
            <a:ext cx="977760" cy="882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d2003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d2003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d2003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740720" y="1303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142920" y="18900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 rot="1836600">
            <a:off x="203040" y="566280"/>
            <a:ext cx="695520" cy="480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879480" y="219240"/>
            <a:ext cx="7398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990" dur="5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992" dur="5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994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996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8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1836600">
            <a:off x="60480" y="566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1158600">
            <a:off x="8243640" y="58053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4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65f0e"/>
                </a:solidFill>
                <a:latin typeface="Arial"/>
                <a:ea typeface="华文行楷"/>
              </a:rPr>
              <a:t>故都的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360" y="140328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2360" y="2195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360" y="3780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987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有关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2360" y="4572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2360" y="5364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揣摩玩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25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27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29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31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1081080" cy="99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36560" y="79524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189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16200000">
            <a:off x="2411280" y="-638280"/>
            <a:ext cx="4321080" cy="914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0920" y="381636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8404200" y="544500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1520" y="1989000"/>
            <a:ext cx="498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梳理文脉，感受散文缘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写景，意味隽永的韵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040" y="3795840"/>
            <a:ext cx="49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揣摩语言，体会作者因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寄伤，色彩冷清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52293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2060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93080" y="206064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692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65f0e"/>
                </a:solidFill>
                <a:latin typeface="Arial"/>
                <a:ea typeface="华文行楷"/>
              </a:rPr>
              <a:t>故都的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60278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方正舒体"/>
                <a:ea typeface="方正舒体"/>
              </a:rPr>
              <a:t>主动探求　相互质疑　共同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rot="664200">
            <a:off x="7235640" y="5157720"/>
            <a:ext cx="109980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3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5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7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59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11280" y="-27000"/>
            <a:ext cx="67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郁达夫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896-1945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原名郁文，现代作家。浙江富阳人，生于书香家庭，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岁丧父。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13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留学日本。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21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与郭沫若等成立“创造社”。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28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加入太阳社，同年发起成立中国左翼作家联盟。主要作品有《沉沦》《春风沉醉的晚上》《薄奠》等，在不同程度上，揭露社会罪恶，表露内心苦闷，意义积极，或有颓丧情绪。其作品情景交触，文笔优美，自成一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1836600">
            <a:off x="60480" y="55357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36560" y="518796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581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1011600">
            <a:off x="8633880" y="6014520"/>
            <a:ext cx="546120" cy="52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rot="20065200">
            <a:off x="7956360" y="5880240"/>
            <a:ext cx="7394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96360" y="5516640"/>
            <a:ext cx="793440" cy="104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59640" y="4869000"/>
            <a:ext cx="2087640" cy="642600"/>
          </a:xfrm>
          <a:prstGeom prst="rect">
            <a:avLst/>
          </a:prstGeom>
          <a:solidFill>
            <a:srgbClr val="8a7846">
              <a:alpha val="38000"/>
            </a:srgbClr>
          </a:solidFill>
          <a:ln w="9360">
            <a:solidFill>
              <a:srgbClr val="f48826"/>
            </a:solidFill>
            <a:miter/>
          </a:ln>
          <a:effectLst>
            <a:outerShdw dist="107932" dir="2700000" blurRad="0" rotWithShape="0">
              <a:srgbClr val="f488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背景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280" y="44280"/>
            <a:ext cx="63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郁达夫以极大热情参加左联活动进行文学创作。由于国民党白色恐怖等因，郁达夫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由上海迁居杭州，闲居独处，在游历山水中排遣现实带给他的苦闷。作者提倡静的文学，写的多是“静如止水似的遁世文学”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郁达夫不远千里辗转从杭州经青岛去北平，再品故都秋“味”，写下散文《故都的秋》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0065200">
            <a:off x="8403840" y="5516640"/>
            <a:ext cx="7398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1836600">
            <a:off x="7596360" y="6165720"/>
            <a:ext cx="695160" cy="481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 rot="1158600">
            <a:off x="8243640" y="5805360"/>
            <a:ext cx="739800" cy="9781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395280" y="2006640"/>
            <a:ext cx="1728720" cy="3278160"/>
            <a:chOff x="395280" y="2006640"/>
            <a:chExt cx="1728720" cy="3278160"/>
          </a:xfrm>
        </p:grpSpPr>
        <p:sp>
          <p:nvSpPr>
            <p:cNvPr id="114" name=""/>
            <p:cNvSpPr/>
            <p:nvPr/>
          </p:nvSpPr>
          <p:spPr>
            <a:xfrm>
              <a:off x="395280" y="3664080"/>
              <a:ext cx="17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感秋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280" y="2871720"/>
              <a:ext cx="17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听秋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5280" y="2006640"/>
              <a:ext cx="17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赏秋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5280" y="4581360"/>
              <a:ext cx="17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品秋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7164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 rot="20065200">
            <a:off x="6732360" y="5563800"/>
            <a:ext cx="9792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89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1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3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5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59721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96360" y="5859360"/>
            <a:ext cx="1081080" cy="998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112536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2720" y="112536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1125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6021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 rot="2125200">
            <a:off x="6948360" y="5975280"/>
            <a:ext cx="978120" cy="88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50640" y="1557360"/>
            <a:ext cx="729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d2205"/>
                </a:solidFill>
                <a:latin typeface="Arial"/>
                <a:ea typeface="方正舒体"/>
              </a:rPr>
              <a:t>       </a:t>
            </a:r>
            <a:r>
              <a:rPr b="0" lang="zh-CN" sz="3600" spc="-1" strike="noStrike">
                <a:solidFill>
                  <a:srgbClr val="4d2205"/>
                </a:solidFill>
                <a:latin typeface="Arial"/>
                <a:ea typeface="方正舒体"/>
              </a:rPr>
              <a:t>通过预习，你有什么发现，有什么疑问，都请亮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 rot="20065200">
            <a:off x="8440200" y="5589720"/>
            <a:ext cx="7398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28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30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32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1081080" cy="998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82640" y="155736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755640" y="3095640"/>
            <a:ext cx="405000" cy="404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82640" y="4680000"/>
            <a:ext cx="404640" cy="404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73080" y="141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作者眼中故都的秋的总印象和统摄全文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997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知作者笔下故都的                                       秋的景象抓取及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4543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读《故都的秋》景                             物之外所写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听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1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3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5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7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故都 秋天</cp:keywords>
  <dc:language>en-US</dc:language>
  <cp:lastModifiedBy/>
  <cp:revision>0</cp:revision>
  <dc:subject/>
  <dc:title/>
</cp:coreProperties>
</file>