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adeGothi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radeGothic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ade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75800" y="4375080"/>
            <a:ext cx="54277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21040" y="8653320"/>
            <a:ext cx="304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F6A2255-8C45-4DA5-90D7-A4995D30334D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6" name=""/>
          <p:cNvSpPr/>
          <p:nvPr/>
        </p:nvSpPr>
        <p:spPr>
          <a:xfrm>
            <a:off x="5012280" y="8907480"/>
            <a:ext cx="1888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Proprietary and Confidential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7" name=""/>
          <p:cNvSpPr/>
          <p:nvPr/>
        </p:nvSpPr>
        <p:spPr>
          <a:xfrm>
            <a:off x="77040" y="8907480"/>
            <a:ext cx="931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marchFIRS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adeGothi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ade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8440" y="69840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1680" y="4371840"/>
            <a:ext cx="5111640" cy="41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nageability: group membership, access control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ability: NACK im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77100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12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12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72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77100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72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840" y="1905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840" y="377100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77100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905120"/>
            <a:ext cx="40136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771000"/>
            <a:ext cx="82249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5170" r="0" b="0"/>
          <a:stretch/>
        </p:blipFill>
        <p:spPr>
          <a:xfrm>
            <a:off x="0" y="0"/>
            <a:ext cx="9148680" cy="136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3000"/>
          </a:bodyPr>
          <a:p>
            <a:pPr marL="239760" indent="-2397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0992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9392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117936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117936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117936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BCD8E17-F29A-428C-ADB3-4780CBEA6160}" type="slidenum">
              <a:rPr b="0" lang="zh-CN" sz="9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6440" y="265752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E395DC5-EC23-4716-8DE5-F0343D3F02F5}" type="slidenum">
              <a:rPr b="0" lang="zh-CN" sz="9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" name=""/>
          <p:cNvSpPr/>
          <p:nvPr/>
        </p:nvSpPr>
        <p:spPr>
          <a:xfrm>
            <a:off x="389160" y="6634080"/>
            <a:ext cx="1348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700" spc="-1" strike="noStrike">
                <a:solidFill>
                  <a:srgbClr val="808080"/>
                </a:solidFill>
                <a:latin typeface="Arial"/>
                <a:ea typeface="宋体"/>
              </a:rPr>
              <a:t>© 2001, 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  <a:ea typeface="宋体"/>
              </a:rPr>
              <a:t>Cisco Systems, Inc. </a:t>
            </a:r>
            <a:endParaRPr b="0" lang="en-US" sz="7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159.226.8.5/cgi-bin/mrtg/traffic2.cgi?log=202.127.206.1_fastethernet4_1_0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solidFill>
            <a:srgbClr val="33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3959280" cy="397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73640" y="2606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"/>
                <a:ea typeface="宋体"/>
              </a:rPr>
              <a:t>构建全方位的网络监测平台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887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radeGothic"/>
                <a:ea typeface="宋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中国科技网网络监测平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基于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RRDtool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RTG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向安全监测的协议分析仪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气象图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ttp gets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基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RRDTool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MRTG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RTG (Multi Router Traffic Grapher)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称为多路由器流量图示仪，它采用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NMP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协议采集网络设备上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IB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库里的值，加工数据后绘制出流量曲线图显示在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上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RRDtool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循环数据库。提供了丰富的绘图功能，海量数据的存储能力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基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RRDTool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MRTG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387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3000"/>
          </a:bodyPr>
          <a:p>
            <a:pPr marL="239760" indent="-239760">
              <a:lnSpc>
                <a:spcPct val="85000"/>
              </a:lnSpc>
              <a:spcBef>
                <a:spcPts val="150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高效的数据采集性能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系统在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钟内可以处理的端口数目达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00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39760" indent="-239760">
              <a:lnSpc>
                <a:spcPct val="85000"/>
              </a:lnSpc>
              <a:spcBef>
                <a:spcPts val="150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长期的历史数据查询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供长达一年的精确数据查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39760" indent="-239760">
              <a:lnSpc>
                <a:spcPct val="85000"/>
              </a:lnSpc>
              <a:spcBef>
                <a:spcPts val="150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便的图形查看、缩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击可以缩放正在查看的图像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从而使系统操作更加灵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39760" indent="-239760">
              <a:lnSpc>
                <a:spcPct val="85000"/>
              </a:lnSpc>
              <a:spcBef>
                <a:spcPts val="150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准确的数值显示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小时图上移动鼠标可以查看该点的详细流量，包括时间、该时的进出速率。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39760" indent="-239760">
              <a:lnSpc>
                <a:spcPct val="85000"/>
              </a:lnSpc>
              <a:spcBef>
                <a:spcPts val="150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用户权限分级管理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69080">
              <a:lnSpc>
                <a:spcPct val="85000"/>
              </a:lnSpc>
              <a:spcBef>
                <a:spcPts val="1749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量数据安全保密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基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RRDTool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MRTG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>
            <a:hlinkClick r:id="rId1"/>
          </p:cNvPr>
          <p:cNvSpPr/>
          <p:nvPr/>
        </p:nvSpPr>
        <p:spPr>
          <a:xfrm>
            <a:off x="292896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22194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22147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22147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22147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380960" y="1295280"/>
            <a:ext cx="57819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面向安全监测的协议分析仪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4920" cy="3953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背景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蠕虫攻击、带宽滥用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DoS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攻击成为网络的隐患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带宽的占用按时间成规律性分布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”分析技术成为近年来安全监测技术的热点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749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量的攻击事件可以从流量的异常中预知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功能介绍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服务监测、协议监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op n user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op n ports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监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安全分析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实时报警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了解带宽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828800"/>
            <a:ext cx="284472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根据以下描述整体网络的使用量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接口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国际、国内）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服务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cp, udp,icmp..)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应用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mail,http,ftp,p2p..)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58672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了解用户行为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828800"/>
            <a:ext cx="29718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根据以下描述用户的网络行为：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op n User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2086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op n Port</a:t>
            </a:r>
            <a:endParaRPr b="0" lang="en-US" sz="1500" spc="-1" strike="noStrike">
              <a:solidFill>
                <a:srgbClr val="000000"/>
              </a:solidFill>
              <a:latin typeface="TradeGothic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971800" y="1447920"/>
          <a:ext cx="56386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447920"/>
                    <a:ext cx="56386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371600" y="3886200"/>
          <a:ext cx="6172200" cy="25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886200"/>
                    <a:ext cx="617220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监测网络攻击行为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387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77200" indent="-277200">
              <a:lnSpc>
                <a:spcPct val="85000"/>
              </a:lnSpc>
              <a:spcBef>
                <a:spcPts val="125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流量建模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设定基线，建立正常模式下的流量模型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某应用的流量突然上升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Code Red, Nimda?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77200" indent="-277200">
              <a:lnSpc>
                <a:spcPct val="85000"/>
              </a:lnSpc>
              <a:spcBef>
                <a:spcPts val="125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模式匹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端口匹配，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sql slamme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攻击是针对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UDP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端口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1434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地址匹配，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W32/Netsky.c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蠕虫发作时会向如下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dns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主机发出解析请求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145.253.2.171,151.189.13.35,193.189.244.205,193.193.144.12,193.193.158.1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等等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77200" indent="-277200">
              <a:lnSpc>
                <a:spcPct val="85000"/>
              </a:lnSpc>
              <a:spcBef>
                <a:spcPts val="125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扫描发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TopN session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单个主机对单个或多个目标主机发出超过正常数量的连接请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IP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伪装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5425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源地址、目的地址都非科技网地址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440" y="128160"/>
            <a:ext cx="7623000" cy="84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气象图 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尝试以网络气象图的形式来展示网络运行状况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中国科技网骨干网网络运行提供全局的性能监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图示化北京核心到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分中心的骨干网的网络性能状况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50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端到端的性能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50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一跳的性能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报告提纲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506600"/>
            <a:ext cx="8610840" cy="4410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网络监测的内容及重要性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国科技网网络监测平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几个实用的网络监测工具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一步的研发计划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4708440" y="5827680"/>
            <a:ext cx="32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4001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气象图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70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拓扑图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50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整体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50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区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5333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气象图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终端图：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65200">
              <a:lnSpc>
                <a:spcPct val="95000"/>
              </a:lnSpc>
              <a:spcBef>
                <a:spcPts val="150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供了端到端网络性能的浓缩，包括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ax cpu/mem/bandwidth/loss utilizatio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5410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气象图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65040"/>
            <a:ext cx="3230640" cy="2282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85840" indent="-285840">
              <a:lnSpc>
                <a:spcPct val="8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延迟图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55944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集成化的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elay,loss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监测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55944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e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式的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raceroute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85840" indent="-28584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OP HITS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表格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5029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Http get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性能监测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模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请求实时监测网络性能数据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得到网络性能的变化规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网络性能历史统计分析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性能数据预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及时报警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Http get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性能监测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371600" y="5181480"/>
          <a:ext cx="639936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181480"/>
                    <a:ext cx="6399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082520" y="1447920"/>
          <a:ext cx="684216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2520" y="1447920"/>
                    <a:ext cx="68421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报告提纲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1506600"/>
            <a:ext cx="8610840" cy="4410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网络监测的内容及重要性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国科技网网络监测平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2b01ff"/>
                </a:solidFill>
                <a:latin typeface="宋体"/>
              </a:rPr>
              <a:t>几个实用的网络监测工具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一步的研发计划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"/>
          <p:cNvSpPr/>
          <p:nvPr/>
        </p:nvSpPr>
        <p:spPr>
          <a:xfrm>
            <a:off x="4708440" y="5827680"/>
            <a:ext cx="32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4001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总结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监测对于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OC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运营至关重要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构建完善的网络监测平台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网络运行保驾护航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管理发展趋势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7" name=""/>
          <p:cNvSpPr/>
          <p:nvPr/>
        </p:nvSpPr>
        <p:spPr>
          <a:xfrm>
            <a:off x="81000" y="1386000"/>
            <a:ext cx="64245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0" anchor="t">
            <a:noAutofit/>
          </a:bodyPr>
          <a:p>
            <a:pPr lvl="1" marL="56664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网络发展趋势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网络环境日趋复杂，如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F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AT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网络技术日新月异，如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I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电话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所有的业务运行都和网络紧密相关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8" name=""/>
          <p:cNvSpPr/>
          <p:nvPr/>
        </p:nvSpPr>
        <p:spPr>
          <a:xfrm>
            <a:off x="1373040" y="4519440"/>
            <a:ext cx="65772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0" anchor="t">
            <a:noAutofit/>
          </a:bodyPr>
          <a:p>
            <a:pPr lvl="1" marL="56664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网络管理发展趋势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实现对复杂网络环境的可视化监控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从监控网络设备到面向网络应用的管理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在问题未发生时提前预警，最大限度的保证业务应用</a:t>
            </a: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  <a:p>
            <a:pPr lvl="1" marL="566640" indent="-2206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adeGothic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51480" y="1808280"/>
            <a:ext cx="3493800" cy="2589840"/>
            <a:chOff x="5451480" y="1808280"/>
            <a:chExt cx="3493800" cy="2589840"/>
          </a:xfrm>
        </p:grpSpPr>
        <p:grpSp>
          <p:nvGrpSpPr>
            <p:cNvPr id="100" name=""/>
            <p:cNvGrpSpPr/>
            <p:nvPr/>
          </p:nvGrpSpPr>
          <p:grpSpPr>
            <a:xfrm>
              <a:off x="6421680" y="3113280"/>
              <a:ext cx="1552680" cy="1284840"/>
              <a:chOff x="6421680" y="3113280"/>
              <a:chExt cx="1552680" cy="1284840"/>
            </a:xfrm>
          </p:grpSpPr>
          <p:sp>
            <p:nvSpPr>
              <p:cNvPr id="101" name=""/>
              <p:cNvSpPr/>
              <p:nvPr/>
            </p:nvSpPr>
            <p:spPr>
              <a:xfrm>
                <a:off x="6421680" y="349524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services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601320" y="387108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incidents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18200" y="404244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change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35080" y="387108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calls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86280" y="349524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staff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94120" y="311328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components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06280" y="3113280"/>
                <a:ext cx="388080" cy="355680"/>
              </a:xfrm>
              <a:prstGeom prst="ellipse">
                <a:avLst/>
              </a:prstGeom>
              <a:solidFill>
                <a:srgbClr val="02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customers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cxnSp>
            <p:nvCxnSpPr>
              <p:cNvPr id="108" name=""/>
              <p:cNvCxnSpPr>
                <a:stCxn id="106" idx="5"/>
                <a:endCxn id="107" idx="3"/>
              </p:cNvCxnSpPr>
              <p:nvPr/>
            </p:nvCxnSpPr>
            <p:spPr>
              <a:xfrm>
                <a:off x="6925680" y="3416760"/>
                <a:ext cx="537840" cy="10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09" name=""/>
              <p:cNvCxnSpPr>
                <a:stCxn id="106" idx="5"/>
                <a:endCxn id="101" idx="6"/>
              </p:cNvCxnSpPr>
              <p:nvPr/>
            </p:nvCxnSpPr>
            <p:spPr>
              <a:xfrm flipH="1">
                <a:off x="6809400" y="3416760"/>
                <a:ext cx="116640" cy="2566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0" name=""/>
              <p:cNvCxnSpPr>
                <a:stCxn id="106" idx="5"/>
                <a:endCxn id="102" idx="7"/>
              </p:cNvCxnSpPr>
              <p:nvPr/>
            </p:nvCxnSpPr>
            <p:spPr>
              <a:xfrm>
                <a:off x="6925320" y="3416760"/>
                <a:ext cx="7560" cy="5065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1" name=""/>
              <p:cNvCxnSpPr>
                <a:stCxn id="106" idx="5"/>
                <a:endCxn id="103" idx="0"/>
              </p:cNvCxnSpPr>
              <p:nvPr/>
            </p:nvCxnSpPr>
            <p:spPr>
              <a:xfrm>
                <a:off x="6925680" y="3416760"/>
                <a:ext cx="286920" cy="62604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2" name=""/>
              <p:cNvCxnSpPr>
                <a:stCxn id="106" idx="5"/>
                <a:endCxn id="104" idx="1"/>
              </p:cNvCxnSpPr>
              <p:nvPr/>
            </p:nvCxnSpPr>
            <p:spPr>
              <a:xfrm>
                <a:off x="6925680" y="3416760"/>
                <a:ext cx="566640" cy="5065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3" name=""/>
              <p:cNvCxnSpPr>
                <a:stCxn id="106" idx="5"/>
                <a:endCxn id="105" idx="2"/>
              </p:cNvCxnSpPr>
              <p:nvPr/>
            </p:nvCxnSpPr>
            <p:spPr>
              <a:xfrm>
                <a:off x="6925680" y="3416760"/>
                <a:ext cx="660600" cy="2566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4" name=""/>
              <p:cNvCxnSpPr>
                <a:stCxn id="101" idx="6"/>
                <a:endCxn id="102" idx="7"/>
              </p:cNvCxnSpPr>
              <p:nvPr/>
            </p:nvCxnSpPr>
            <p:spPr>
              <a:xfrm>
                <a:off x="6809400" y="3673080"/>
                <a:ext cx="123480" cy="25020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5" name=""/>
              <p:cNvCxnSpPr>
                <a:stCxn id="101" idx="6"/>
                <a:endCxn id="103" idx="0"/>
              </p:cNvCxnSpPr>
              <p:nvPr/>
            </p:nvCxnSpPr>
            <p:spPr>
              <a:xfrm>
                <a:off x="6809760" y="3673080"/>
                <a:ext cx="403200" cy="3697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6" name=""/>
              <p:cNvCxnSpPr>
                <a:stCxn id="101" idx="6"/>
                <a:endCxn id="104" idx="1"/>
              </p:cNvCxnSpPr>
              <p:nvPr/>
            </p:nvCxnSpPr>
            <p:spPr>
              <a:xfrm>
                <a:off x="6809760" y="3673080"/>
                <a:ext cx="682560" cy="25020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7" name=""/>
              <p:cNvCxnSpPr>
                <a:stCxn id="101" idx="6"/>
                <a:endCxn id="105" idx="2"/>
              </p:cNvCxnSpPr>
              <p:nvPr/>
            </p:nvCxnSpPr>
            <p:spPr>
              <a:xfrm>
                <a:off x="6809760" y="3673080"/>
                <a:ext cx="776880" cy="10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8" name=""/>
              <p:cNvCxnSpPr>
                <a:stCxn id="101" idx="6"/>
                <a:endCxn id="107" idx="3"/>
              </p:cNvCxnSpPr>
              <p:nvPr/>
            </p:nvCxnSpPr>
            <p:spPr>
              <a:xfrm flipV="1">
                <a:off x="6809760" y="3416400"/>
                <a:ext cx="653760" cy="2566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19" name=""/>
              <p:cNvCxnSpPr>
                <a:stCxn id="102" idx="7"/>
                <a:endCxn id="103" idx="0"/>
              </p:cNvCxnSpPr>
              <p:nvPr/>
            </p:nvCxnSpPr>
            <p:spPr>
              <a:xfrm>
                <a:off x="6932880" y="3922920"/>
                <a:ext cx="280080" cy="1198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0" name=""/>
              <p:cNvCxnSpPr>
                <a:stCxn id="102" idx="7"/>
                <a:endCxn id="104" idx="1"/>
              </p:cNvCxnSpPr>
              <p:nvPr/>
            </p:nvCxnSpPr>
            <p:spPr>
              <a:xfrm>
                <a:off x="6932880" y="3922920"/>
                <a:ext cx="559080" cy="10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1" name=""/>
              <p:cNvCxnSpPr>
                <a:stCxn id="102" idx="7"/>
                <a:endCxn id="105" idx="2"/>
              </p:cNvCxnSpPr>
              <p:nvPr/>
            </p:nvCxnSpPr>
            <p:spPr>
              <a:xfrm flipV="1">
                <a:off x="6932880" y="3672720"/>
                <a:ext cx="653760" cy="25020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2" name=""/>
              <p:cNvCxnSpPr>
                <a:stCxn id="102" idx="7"/>
                <a:endCxn id="107" idx="3"/>
              </p:cNvCxnSpPr>
              <p:nvPr/>
            </p:nvCxnSpPr>
            <p:spPr>
              <a:xfrm flipV="1">
                <a:off x="6932880" y="3416400"/>
                <a:ext cx="530640" cy="5065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3" name=""/>
              <p:cNvCxnSpPr>
                <a:stCxn id="103" idx="0"/>
                <a:endCxn id="104" idx="1"/>
              </p:cNvCxnSpPr>
              <p:nvPr/>
            </p:nvCxnSpPr>
            <p:spPr>
              <a:xfrm flipV="1">
                <a:off x="7212240" y="3922560"/>
                <a:ext cx="280080" cy="1198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4" name=""/>
              <p:cNvCxnSpPr>
                <a:stCxn id="103" idx="0"/>
                <a:endCxn id="105" idx="2"/>
              </p:cNvCxnSpPr>
              <p:nvPr/>
            </p:nvCxnSpPr>
            <p:spPr>
              <a:xfrm flipV="1">
                <a:off x="7212240" y="3672720"/>
                <a:ext cx="374400" cy="3697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5" name=""/>
              <p:cNvCxnSpPr>
                <a:stCxn id="103" idx="0"/>
                <a:endCxn id="107" idx="3"/>
              </p:cNvCxnSpPr>
              <p:nvPr/>
            </p:nvCxnSpPr>
            <p:spPr>
              <a:xfrm flipV="1">
                <a:off x="7212240" y="3416400"/>
                <a:ext cx="250920" cy="62604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6" name=""/>
              <p:cNvCxnSpPr>
                <a:stCxn id="104" idx="1"/>
                <a:endCxn id="105" idx="2"/>
              </p:cNvCxnSpPr>
              <p:nvPr/>
            </p:nvCxnSpPr>
            <p:spPr>
              <a:xfrm flipV="1">
                <a:off x="7491600" y="3672720"/>
                <a:ext cx="95040" cy="25020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7" name=""/>
              <p:cNvCxnSpPr>
                <a:stCxn id="104" idx="1"/>
                <a:endCxn id="107" idx="3"/>
              </p:cNvCxnSpPr>
              <p:nvPr/>
            </p:nvCxnSpPr>
            <p:spPr>
              <a:xfrm flipH="1" flipV="1">
                <a:off x="7462440" y="3416400"/>
                <a:ext cx="29160" cy="50652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  <p:cxnSp>
            <p:nvCxnSpPr>
              <p:cNvPr id="128" name=""/>
              <p:cNvCxnSpPr>
                <a:stCxn id="105" idx="2"/>
                <a:endCxn id="107" idx="3"/>
              </p:cNvCxnSpPr>
              <p:nvPr/>
            </p:nvCxnSpPr>
            <p:spPr>
              <a:xfrm flipH="1" flipV="1">
                <a:off x="7462440" y="3416400"/>
                <a:ext cx="123480" cy="256680"/>
              </a:xfrm>
              <a:prstGeom prst="straightConnector1">
                <a:avLst/>
              </a:prstGeom>
              <a:ln w="25560">
                <a:solidFill>
                  <a:srgbClr val="02c8fe"/>
                </a:solidFill>
                <a:miter/>
              </a:ln>
            </p:spPr>
          </p:cxnSp>
        </p:grpSp>
        <p:grpSp>
          <p:nvGrpSpPr>
            <p:cNvPr id="129" name=""/>
            <p:cNvGrpSpPr/>
            <p:nvPr/>
          </p:nvGrpSpPr>
          <p:grpSpPr>
            <a:xfrm>
              <a:off x="5451480" y="1808280"/>
              <a:ext cx="3493800" cy="2423880"/>
              <a:chOff x="5451480" y="1808280"/>
              <a:chExt cx="3493800" cy="24238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5645160" y="1808280"/>
                <a:ext cx="1394640" cy="1205640"/>
                <a:chOff x="5645160" y="1808280"/>
                <a:chExt cx="1394640" cy="120564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6625080" y="2216160"/>
                  <a:ext cx="110880" cy="13500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6158520" y="2606400"/>
                  <a:ext cx="95040" cy="14544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94440" y="2212560"/>
                  <a:ext cx="139320" cy="12852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6425280" y="2095920"/>
                  <a:ext cx="0" cy="17460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225480" y="180828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availability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45160" y="230256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security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810400" y="193320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performa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853600" y="265824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recoverability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5980680" y="2481840"/>
                  <a:ext cx="190440" cy="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651720" y="192024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usage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6421680" y="2473920"/>
                <a:ext cx="1552680" cy="0"/>
              </a:xfrm>
              <a:prstGeom prst="line">
                <a:avLst/>
              </a:prstGeom>
              <a:ln w="2030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241400" y="2473920"/>
                <a:ext cx="776160" cy="1225800"/>
              </a:xfrm>
              <a:prstGeom prst="line">
                <a:avLst/>
              </a:prstGeom>
              <a:ln w="2030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6421680" y="2473560"/>
                <a:ext cx="776160" cy="1186200"/>
              </a:xfrm>
              <a:prstGeom prst="line">
                <a:avLst/>
              </a:prstGeom>
              <a:ln w="2030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7457040" y="1821240"/>
                <a:ext cx="1250640" cy="1279080"/>
                <a:chOff x="7457040" y="1821240"/>
                <a:chExt cx="1250640" cy="1279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457040" y="190692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users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888320" y="182124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lobm 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/econ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buyer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254800" y="203184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staff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319600" y="243396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exec 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mgmt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24760" y="2744640"/>
                  <a:ext cx="388080" cy="355680"/>
                </a:xfrm>
                <a:prstGeom prst="ellipse">
                  <a:avLst/>
                </a:prstGeom>
                <a:solidFill>
                  <a:srgbClr val="02c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it mgmt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8038440" y="2131200"/>
                  <a:ext cx="21600" cy="17316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8186040" y="2532600"/>
                  <a:ext cx="181800" cy="5760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8190360" y="2280240"/>
                  <a:ext cx="147960" cy="11988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735320" y="2202120"/>
                  <a:ext cx="106920" cy="13716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098560" y="2661120"/>
                  <a:ext cx="66960" cy="159840"/>
                </a:xfrm>
                <a:prstGeom prst="line">
                  <a:avLst/>
                </a:prstGeom>
                <a:ln w="50760">
                  <a:solidFill>
                    <a:srgbClr val="02c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7711560" y="2218320"/>
                <a:ext cx="565200" cy="518040"/>
              </a:xfrm>
              <a:prstGeom prst="ellipse">
                <a:avLst/>
              </a:prstGeom>
              <a:solidFill>
                <a:srgbClr val="2086b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report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15240" y="3405600"/>
                <a:ext cx="565200" cy="518040"/>
              </a:xfrm>
              <a:prstGeom prst="ellipse">
                <a:avLst/>
              </a:prstGeom>
              <a:solidFill>
                <a:srgbClr val="2086b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track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42320" y="2218320"/>
                <a:ext cx="565920" cy="518040"/>
              </a:xfrm>
              <a:prstGeom prst="ellipse">
                <a:avLst/>
              </a:prstGeom>
              <a:solidFill>
                <a:srgbClr val="2086b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measure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Futura Hv"/>
                    <a:ea typeface="Arial"/>
                  </a:rPr>
                  <a:t>(aggregate)</a:t>
                </a:r>
                <a:endParaRPr b="0" lang="en-US" sz="800" spc="-1" strike="noStrike">
                  <a:solidFill>
                    <a:srgbClr val="000000"/>
                  </a:solidFill>
                  <a:latin typeface="TradeGothic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451480" y="2915640"/>
                <a:ext cx="1149840" cy="1316520"/>
                <a:chOff x="5451480" y="2915640"/>
                <a:chExt cx="1149840" cy="1316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256440" y="2915640"/>
                  <a:ext cx="309960" cy="284040"/>
                </a:xfrm>
                <a:prstGeom prst="ellipse">
                  <a:avLst/>
                </a:prstGeom>
                <a:solidFill>
                  <a:srgbClr val="d00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network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 elements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033600" y="3139560"/>
                  <a:ext cx="309960" cy="284040"/>
                </a:xfrm>
                <a:prstGeom prst="ellipse">
                  <a:avLst/>
                </a:prstGeom>
                <a:solidFill>
                  <a:srgbClr val="d00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apps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76800" y="3442680"/>
                  <a:ext cx="309960" cy="284040"/>
                </a:xfrm>
                <a:prstGeom prst="ellipse">
                  <a:avLst/>
                </a:prstGeom>
                <a:solidFill>
                  <a:srgbClr val="d00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systems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cxnSp>
              <p:nvCxnSpPr>
                <p:cNvPr id="162" name=""/>
                <p:cNvCxnSpPr>
                  <a:stCxn id="159" idx="5"/>
                </p:cNvCxnSpPr>
                <p:nvPr/>
              </p:nvCxnSpPr>
              <p:spPr>
                <a:xfrm>
                  <a:off x="6520680" y="3157560"/>
                  <a:ext cx="74160" cy="133560"/>
                </a:xfrm>
                <a:prstGeom prst="straightConnector1">
                  <a:avLst/>
                </a:prstGeom>
                <a:ln w="25560">
                  <a:solidFill>
                    <a:srgbClr val="d00e2e"/>
                  </a:solidFill>
                  <a:miter/>
                </a:ln>
              </p:spPr>
            </p:cxnSp>
            <p:cxnSp>
              <p:nvCxnSpPr>
                <p:cNvPr id="163" name=""/>
                <p:cNvCxnSpPr>
                  <a:stCxn id="160" idx="6"/>
                </p:cNvCxnSpPr>
                <p:nvPr/>
              </p:nvCxnSpPr>
              <p:spPr>
                <a:xfrm>
                  <a:off x="6343560" y="3282120"/>
                  <a:ext cx="250920" cy="9360"/>
                </a:xfrm>
                <a:prstGeom prst="straightConnector1">
                  <a:avLst/>
                </a:prstGeom>
                <a:ln w="25560">
                  <a:solidFill>
                    <a:srgbClr val="d00e2e"/>
                  </a:solidFill>
                  <a:miter/>
                </a:ln>
              </p:spPr>
            </p:cxnSp>
            <p:cxnSp>
              <p:nvCxnSpPr>
                <p:cNvPr id="164" name=""/>
                <p:cNvCxnSpPr>
                  <a:stCxn id="161" idx="7"/>
                </p:cNvCxnSpPr>
                <p:nvPr/>
              </p:nvCxnSpPr>
              <p:spPr>
                <a:xfrm flipV="1">
                  <a:off x="6341040" y="3290760"/>
                  <a:ext cx="254160" cy="194400"/>
                </a:xfrm>
                <a:prstGeom prst="straightConnector1">
                  <a:avLst/>
                </a:prstGeom>
                <a:ln w="25560">
                  <a:solidFill>
                    <a:srgbClr val="d00e2e"/>
                  </a:solidFill>
                  <a:miter/>
                </a:ln>
              </p:spPr>
            </p:cxnSp>
            <p:sp>
              <p:nvSpPr>
                <p:cNvPr id="165" name=""/>
                <p:cNvSpPr/>
                <p:nvPr/>
              </p:nvSpPr>
              <p:spPr>
                <a:xfrm>
                  <a:off x="5451480" y="3866400"/>
                  <a:ext cx="398520" cy="365760"/>
                </a:xfrm>
                <a:prstGeom prst="rect">
                  <a:avLst/>
                </a:prstGeom>
                <a:solidFill>
                  <a:srgbClr val="d00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ops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mgmt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cxnSp>
              <p:nvCxnSpPr>
                <p:cNvPr id="166" name=""/>
                <p:cNvCxnSpPr>
                  <a:stCxn id="160" idx="2"/>
                  <a:endCxn id="165" idx="0"/>
                </p:cNvCxnSpPr>
                <p:nvPr/>
              </p:nvCxnSpPr>
              <p:spPr>
                <a:xfrm flipV="1" rot="10800000">
                  <a:off x="5649840" y="3281760"/>
                  <a:ext cx="383400" cy="584640"/>
                </a:xfrm>
                <a:prstGeom prst="curvedConnector2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7" name=""/>
                <p:cNvCxnSpPr>
                  <a:stCxn id="165" idx="3"/>
                </p:cNvCxnSpPr>
                <p:nvPr/>
              </p:nvCxnSpPr>
              <p:spPr>
                <a:xfrm>
                  <a:off x="5849640" y="4048920"/>
                  <a:ext cx="752040" cy="1080"/>
                </a:xfrm>
                <a:prstGeom prst="straightConnector1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8" name=""/>
                <p:cNvCxnSpPr>
                  <a:stCxn id="161" idx="2"/>
                  <a:endCxn id="165" idx="0"/>
                </p:cNvCxnSpPr>
                <p:nvPr/>
              </p:nvCxnSpPr>
              <p:spPr>
                <a:xfrm flipV="1" rot="10800000">
                  <a:off x="5649840" y="3584880"/>
                  <a:ext cx="426600" cy="281520"/>
                </a:xfrm>
                <a:prstGeom prst="curvedConnector2">
                  <a:avLst/>
                </a:prstGeom>
                <a:ln w="25560">
                  <a:solidFill>
                    <a:srgbClr val="d00e2e"/>
                  </a:solidFill>
                  <a:miter/>
                </a:ln>
              </p:spPr>
            </p:cxnSp>
            <p:cxnSp>
              <p:nvCxnSpPr>
                <p:cNvPr id="169" name=""/>
                <p:cNvCxnSpPr>
                  <a:stCxn id="159" idx="2"/>
                  <a:endCxn id="165" idx="0"/>
                </p:cNvCxnSpPr>
                <p:nvPr/>
              </p:nvCxnSpPr>
              <p:spPr>
                <a:xfrm flipV="1" rot="10800000">
                  <a:off x="5649840" y="3056760"/>
                  <a:ext cx="606240" cy="808920"/>
                </a:xfrm>
                <a:prstGeom prst="curvedConnector2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170" name=""/>
              <p:cNvGrpSpPr/>
              <p:nvPr/>
            </p:nvGrpSpPr>
            <p:grpSpPr>
              <a:xfrm>
                <a:off x="7794720" y="3290760"/>
                <a:ext cx="1150560" cy="941040"/>
                <a:chOff x="7794720" y="3290760"/>
                <a:chExt cx="1150560" cy="9410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546400" y="3866040"/>
                  <a:ext cx="398880" cy="365760"/>
                </a:xfrm>
                <a:prstGeom prst="rect">
                  <a:avLst/>
                </a:prstGeom>
                <a:solidFill>
                  <a:srgbClr val="d00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help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ffffff"/>
                      </a:solidFill>
                      <a:latin typeface="Futura Hv"/>
                      <a:ea typeface="Arial"/>
                    </a:rPr>
                    <a:t>desk</a:t>
                  </a:r>
                  <a:endParaRPr b="0" lang="en-US" sz="8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cxnSp>
              <p:nvCxnSpPr>
                <p:cNvPr id="172" name=""/>
                <p:cNvCxnSpPr>
                  <a:endCxn id="171" idx="0"/>
                </p:cNvCxnSpPr>
                <p:nvPr/>
              </p:nvCxnSpPr>
              <p:spPr>
                <a:xfrm>
                  <a:off x="7794720" y="3290760"/>
                  <a:ext cx="951480" cy="575640"/>
                </a:xfrm>
                <a:prstGeom prst="curvedConnector2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73" name=""/>
                <p:cNvCxnSpPr>
                  <a:endCxn id="171" idx="0"/>
                </p:cNvCxnSpPr>
                <p:nvPr/>
              </p:nvCxnSpPr>
              <p:spPr>
                <a:xfrm>
                  <a:off x="7974360" y="3672720"/>
                  <a:ext cx="771480" cy="193320"/>
                </a:xfrm>
                <a:prstGeom prst="curvedConnector2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74" name=""/>
                <p:cNvCxnSpPr>
                  <a:stCxn id="171" idx="1"/>
                </p:cNvCxnSpPr>
                <p:nvPr/>
              </p:nvCxnSpPr>
              <p:spPr>
                <a:xfrm flipH="1">
                  <a:off x="7822800" y="4048560"/>
                  <a:ext cx="723240" cy="1080"/>
                </a:xfrm>
                <a:prstGeom prst="straightConnector1">
                  <a:avLst/>
                </a:prstGeom>
                <a:ln w="25560">
                  <a:solidFill>
                    <a:srgbClr val="d00e2e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175" name=""/>
              <p:cNvGrpSpPr/>
              <p:nvPr/>
            </p:nvGrpSpPr>
            <p:grpSpPr>
              <a:xfrm>
                <a:off x="6810120" y="2692080"/>
                <a:ext cx="776160" cy="243000"/>
                <a:chOff x="6810120" y="2692080"/>
                <a:chExt cx="776160" cy="2430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810120" y="2789280"/>
                  <a:ext cx="776160" cy="81000"/>
                </a:xfrm>
                <a:prstGeom prst="rect">
                  <a:avLst/>
                </a:prstGeom>
                <a:solidFill>
                  <a:srgbClr val="d00e2e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845040" y="2692080"/>
                  <a:ext cx="123480" cy="113400"/>
                </a:xfrm>
                <a:prstGeom prst="ellipse">
                  <a:avLst/>
                </a:prstGeom>
                <a:solidFill>
                  <a:srgbClr val="dddddd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915960" y="2805480"/>
                  <a:ext cx="0" cy="810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845040" y="2837880"/>
                  <a:ext cx="1411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6862680" y="2886480"/>
                  <a:ext cx="52920" cy="4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6915600" y="2886120"/>
                  <a:ext cx="52920" cy="48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039440" y="2740680"/>
                  <a:ext cx="229320" cy="194400"/>
                </a:xfrm>
                <a:prstGeom prst="diamond">
                  <a:avLst/>
                </a:prstGeom>
                <a:solidFill>
                  <a:srgbClr val="dddddd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56960" y="2692080"/>
                  <a:ext cx="158760" cy="145800"/>
                </a:xfrm>
                <a:prstGeom prst="rect">
                  <a:avLst/>
                </a:prstGeom>
                <a:solidFill>
                  <a:srgbClr val="dddddd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0800000">
                  <a:off x="7303680" y="2853720"/>
                  <a:ext cx="264600" cy="81000"/>
                </a:xfrm>
                <a:custGeom>
                  <a:avLst/>
                  <a:gdLst>
                    <a:gd name="textAreaLeft" fmla="*/ 47520 w 264600"/>
                    <a:gd name="textAreaRight" fmla="*/ 217080 w 264600"/>
                    <a:gd name="textAreaTop" fmla="*/ 14400 h 81000"/>
                    <a:gd name="textAreaBottom" fmla="*/ 66600 h 81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776" y="21600"/>
                      </a:lnTo>
                      <a:lnTo>
                        <a:pt x="3824" y="2160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radeGothic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我们的问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5068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网络设备的工作状态是否正常，有没有直观的监控手段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端到端的网络链路是否正常，网络的瓶颈在哪里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网络中发生了什么故障，哪些影响了我的网络运行，影响程度如何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网络发生了问题，到底根源问题在哪里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网络的流量如何，带宽需不需要扩容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174600" indent="-17460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谁在消耗带宽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监测的定义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4920" cy="3953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监测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etwork Measurement)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供了一种探索实际环境中网络特性的手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监测是指从网络设备上采集数据、收集数据、分析数据的过程。它从网络中采集一些具体指标性数据，并反馈给监测者。这些数据可以用来作为分析网络性能、了解网络运行动态、诊断可能存在的问题、甚至预测可能出现问题的“度量值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监测的重要性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387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8000"/>
          </a:bodyPr>
          <a:p>
            <a:pPr marL="254160" indent="-25416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网络监测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至关重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管人员全面了解网络运行状况的重要手段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安全保障的前提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计费的前提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实现网络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L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前提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扩容、升级改造、容量规划的重要依据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ISP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建立对等连接的重要依据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254160" indent="-254160">
              <a:lnSpc>
                <a:spcPct val="8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网络监测对网络使用者非常重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保护重要应用的前提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49716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实现网络安全的手段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网络监测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44080" cy="456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动监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ctive):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量采集者主动发包去探测网络设备的运行情况，根据反馈信息分析网络的具体性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ing,Traceroute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ttp gets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基于事件戳的分布式测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85000"/>
              </a:lnSpc>
              <a:spcBef>
                <a:spcPts val="1250"/>
              </a:spcBef>
              <a:buClr>
                <a:srgbClr val="02c8fe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被动监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assive):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被动采集网络中现有的标志性数据以了解网络设备的运行情况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cpdump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isco Netflow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131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105520" y="4343400"/>
          <a:ext cx="37335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3400"/>
                    <a:ext cx="37335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监测什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?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224920" cy="380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80080" indent="-280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性能参数测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479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仿宋_GB2312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elay,loss,jitter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80080" indent="-280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路由测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479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路由稳定性；路由可达性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网络拓扑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80080" indent="-280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流量测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479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端口进出流量；协议、服务比率；字节、流、包的比率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80080" indent="-280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服务可用性测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547920">
              <a:lnSpc>
                <a:spcPct val="85000"/>
              </a:lnSpc>
              <a:spcBef>
                <a:spcPts val="1125"/>
              </a:spcBef>
              <a:buClr>
                <a:srgbClr val="02c8fe"/>
              </a:buClr>
              <a:buFont typeface="宋体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服务；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email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服务；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ftp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_GB2312"/>
              </a:rPr>
              <a:t>服务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280080" indent="-280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宋体"/>
              </a:rPr>
              <a:t>报告提纲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506600"/>
            <a:ext cx="8610840" cy="4410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网络监测的内容及重要性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2b01ff"/>
                </a:solidFill>
                <a:latin typeface="宋体"/>
              </a:rPr>
              <a:t>中国科技网网络监测平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几个实用的网络监测工具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一步的研发计划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Wingdings" charset="2"/>
              <a:buChar char="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"/>
          <p:cNvSpPr/>
          <p:nvPr/>
        </p:nvSpPr>
        <p:spPr>
          <a:xfrm>
            <a:off x="4708440" y="5827680"/>
            <a:ext cx="32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4001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构建 全方位网络 监测平台</cp:keywords>
  <dc:language>en-US</dc:language>
  <cp:lastModifiedBy/>
  <cp:revision>0</cp:revision>
  <dc:subject/>
  <dc:title/>
</cp:coreProperties>
</file>