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ADA.WAV" ContentType="audio/x-wav"/>
  <Override PartName="/ppt/media/Ctmelody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FDF0-DE53-4312-83A0-7ECFFC0CF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9343-70BA-4326-9825-80470FC0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03B4-1D63-44B0-B1B3-29346003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2D28-1FA7-4D7A-8A13-EADEF1046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756E-8ED3-45CC-8D5A-41EA1A68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AC72-5378-4B47-B671-852B4619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1568-43CF-4921-9A6D-9BFCEFD6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3CDE-4150-41FA-AC5D-25FD69C1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2FFE-E858-4EDE-A9A6-84D9B7F3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3398-F243-4109-967F-122AD7EC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7043-EE04-47F5-8B93-BCB6B1CD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1EAF-440A-4520-8073-A265B252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F6A9-3F40-4CFA-B06F-699924B6AC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ADA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tmelody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../../../download/&#31532;&#19977;&#31456;%2520%2520&#35745;&#21010;.ppt" TargetMode="External"/><Relationship Id="rId2" Type="http://schemas.openxmlformats.org/officeDocument/2006/relationships/hyperlink" Target="../../../download/&#31532;&#20116;&#31456;%2520%2520&#39044;&#27979;.ppt" TargetMode="External"/><Relationship Id="rId3" Type="http://schemas.openxmlformats.org/officeDocument/2006/relationships/hyperlink" Target="../../../download/&#31532;&#20845;&#31456;%2520%2520&#20915;&#31574;.ppt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../../../download/&#31532;&#21313;&#19968;&#31456;%2520%2520&#28608;&#21169;.ppt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6858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《管理学基础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33720" y="2743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主        讲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95680" y="2743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金山简行楷"/>
              </a:rPr>
              <a:t>XX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33720" y="3809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工作单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95680" y="3809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XXXXX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大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05320" y="3809880"/>
            <a:ext cx="365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金山简行楷"/>
              </a:rPr>
              <a:t>再见！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523880"/>
            <a:ext cx="8686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00ffff"/>
                </a:solidFill>
                <a:latin typeface="Times New Roman"/>
              </a:rPr>
              <a:t>本次内容结束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tmelo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《管理学基础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2057400"/>
            <a:ext cx="746748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管理学是一门系统地研究管理活动的普遍规律和一般方法的科学。管理学研究的内容包括生产力、生产关系和上层建筑三方面，它必然同许多学科如经济科学、技术科学、心理学、数学、计算机科学等相关联，吸收和运用与之有关的研究成果。因此它是一门广泛吸收多学科知识的边缘科学，同时它又具有很强的实践性，属于应用科学。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371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彩云"/>
              </a:rPr>
              <a:t>课程的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《管理学基础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2057400"/>
            <a:ext cx="74674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正确认识课程的性质、任务及其研究对象 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掌握管理学的基本职能、基本概念、基本原理和基本方法 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紧密联系实际，学会分析案例，解决实际问题，把学科理论的学习融入对经济活动实践的研究和认识之中，切实提高分析问题、解决问题的能力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3716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彩云"/>
              </a:rPr>
              <a:t>课程教学的基本要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3049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《管理学基础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20574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第一篇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"/>
          </p:cNvPr>
          <p:cNvSpPr/>
          <p:nvPr/>
        </p:nvSpPr>
        <p:spPr>
          <a:xfrm>
            <a:off x="3581280" y="20574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Times New Roman"/>
              </a:rPr>
              <a:t>概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2819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第二篇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"/>
          </p:cNvPr>
          <p:cNvSpPr/>
          <p:nvPr/>
        </p:nvSpPr>
        <p:spPr>
          <a:xfrm>
            <a:off x="3581280" y="2819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Times New Roman"/>
              </a:rPr>
              <a:t>计划与决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35812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第三篇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3"/>
          </p:cNvPr>
          <p:cNvSpPr/>
          <p:nvPr/>
        </p:nvSpPr>
        <p:spPr>
          <a:xfrm>
            <a:off x="3581280" y="35812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Times New Roman"/>
              </a:rPr>
              <a:t>组织与人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43434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第四篇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4"/>
          </p:cNvPr>
          <p:cNvSpPr/>
          <p:nvPr/>
        </p:nvSpPr>
        <p:spPr>
          <a:xfrm>
            <a:off x="3581280" y="43434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Times New Roman"/>
              </a:rPr>
              <a:t>领导与激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5105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第五篇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5"/>
          </p:cNvPr>
          <p:cNvSpPr/>
          <p:nvPr/>
        </p:nvSpPr>
        <p:spPr>
          <a:xfrm>
            <a:off x="3581280" y="5105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Times New Roman"/>
              </a:rPr>
              <a:t>控制与协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500"/>
                            </p:stCondLst>
                            <p:childTnLst>
                              <p:par>
                                <p:cTn id="9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5335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《管理学基础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36576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一章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36576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管理与管理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4419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二章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441972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管理理论的形成和发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28600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第一篇    概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《管理学基础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2004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三章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1"/>
          </p:cNvPr>
          <p:cNvSpPr/>
          <p:nvPr/>
        </p:nvSpPr>
        <p:spPr>
          <a:xfrm>
            <a:off x="4038480" y="32004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计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3962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四章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39625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目标管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213372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第二篇    计划与决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47840" y="47242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五章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2"/>
          </p:cNvPr>
          <p:cNvSpPr/>
          <p:nvPr/>
        </p:nvSpPr>
        <p:spPr>
          <a:xfrm>
            <a:off x="4038480" y="472428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预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5562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六章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3"/>
          </p:cNvPr>
          <p:cNvSpPr/>
          <p:nvPr/>
        </p:nvSpPr>
        <p:spPr>
          <a:xfrm>
            <a:off x="4038480" y="556272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决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500"/>
                            </p:stCondLst>
                            <p:childTnLst>
                              <p:par>
                                <p:cTn id="17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3049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《管理学基础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3526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七章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335268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组织概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4114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八章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38480" y="41148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组织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205740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第三篇    组织与人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49528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九章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495288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人员配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500"/>
                            </p:stCondLst>
                            <p:childTnLst>
                              <p:par>
                                <p:cTn id="20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《管理学基础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6576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十章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35812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领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05120" y="4419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十一章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/>
          </p:cNvPr>
          <p:cNvSpPr/>
          <p:nvPr/>
        </p:nvSpPr>
        <p:spPr>
          <a:xfrm>
            <a:off x="3886200" y="43434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激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236232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第四篇    领导与激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500"/>
                            </p:stCondLst>
                            <p:childTnLst>
                              <p:par>
                                <p:cTn id="2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5335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《管理学基础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36576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十二章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36720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控制的理论基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4419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十三章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44197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控制技术与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81080" y="228600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第五篇    控制与协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5257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十四章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51814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协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500"/>
                            </p:stCondLst>
                            <p:childTnLst>
                              <p:par>
                                <p:cTn id="27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管理学 基础</cp:keywords>
  <dc:language>en-US</dc:language>
  <cp:lastModifiedBy/>
  <cp:revision>0</cp:revision>
  <dc:subject/>
  <dc:title/>
</cp:coreProperties>
</file>