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1016-E3FB-44F6-B475-7F8898B20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531C-F829-4438-AF8D-6E523739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C506-DD0B-423F-B39F-90E2D497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8DC9-F4C0-43AB-9B50-304605095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1B13-DE3C-450B-A0B8-5FE4C92A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5C0C-F837-470B-A254-F2AF2809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A9FC-AC0B-4274-BA01-7097A9BD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281C-0C71-463A-A160-FD3C9DA7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EE0A-1892-45DF-BBEA-66855279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008D-C9A1-4450-A4F9-D573E6C3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046D-37D9-4552-A2D7-A3A211BD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2CAD-C222-4D6E-9E64-ACD14952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125B-1E3D-4A0B-9342-DB42BDB4278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6D9E-1F82-4E63-A795-B61EAEF8D8C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53053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3440" y="48096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供应商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285768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3"/>
          <p:cNvSpPr/>
          <p:nvPr/>
        </p:nvSpPr>
        <p:spPr>
          <a:xfrm>
            <a:off x="6804000" y="1468440"/>
            <a:ext cx="7923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5450-270C-4B32-9B8D-1FE2B0FC86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07:11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3:02:32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