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货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4343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724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1.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现金先行（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cash in advance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模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772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857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第一节    货币需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1.3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其他货币需求理论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75438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85741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第二节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货币超中性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3.1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托宾效应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579096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438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1.1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运用迭代模型探讨货币价值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3.2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希德劳斯基模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2017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第三节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最优货币数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3.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弗里德曼定律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80773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3.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铸币税与最优货币数量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345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214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84978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85741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857412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017800"/>
            <a:ext cx="87264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8650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2017800"/>
            <a:ext cx="7162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017800"/>
            <a:ext cx="7467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59436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货币</cp:keywords>
  <dc:language>en-US</dc:language>
  <cp:lastModifiedBy/>
  <cp:revision>0</cp:revision>
  <dc:subject/>
  <dc:title/>
</cp:coreProperties>
</file>