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PROJCTOR.WAV" ContentType="audio/x-wav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534C-7534-4046-9E50-E37CD9129E3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DF34-4857-4159-B134-AAFDB07098C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C4F3-26F4-498C-9E8C-D7A9648D2C8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E1C0-15DE-464E-AEA0-2248A0F8049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4E5E-54AB-4EAD-8043-D32F1B93A8A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DCF6-31A5-47B1-A727-7DF6760D7EA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B4F-3E5D-4F08-8FEF-8B41ACBA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5E3-1E28-407B-AB96-B22ED059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9EE-26C1-4CA9-85AE-A4160BD1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067-FA6E-4B88-9E3B-A78701EA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A484-1C37-4584-8A92-1950917F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C93F-7D1B-49D1-8C69-FE330BAD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3B43-5873-4AC7-ACAC-00F1F4A9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A22A-99D7-408A-AF46-1AE56E47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EE33-9555-4070-9069-6A3C30AC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5A73-073A-404E-8F6A-ECDC1B06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73CC-16C9-4CDB-96AF-0DEB6170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4E8-242F-467D-A26D-5D58FA1C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61A0-7521-45E2-B06E-7D16A4FB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1E35-BDB8-4CC3-8692-E145078D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19D1-1AB8-41E2-AE00-AAD1E92D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B39E-0E7C-4D4C-A36A-4C06CFC6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9D7A-48EC-46D5-B1FE-4AAB0C4A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E75-59D4-4806-802D-E4FABE23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850-0131-4E11-B213-8C6A279D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7C3-3782-468B-B060-EE6B8EB2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A61B-BA71-4601-99D2-A95E5832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575-BF3C-440B-B6E2-325858EA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058-4DC6-4776-A7A7-18973B42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336-91FD-49E5-8CCA-37BB7530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2225-DB8F-4764-B260-1B567856602C}" type="slidenum">
              <a:rPr b="0" lang="zh-TW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D5FE-8682-497D-8923-9CF6BC507F15}" type="slidenum">
              <a:rPr b="0" lang="zh-TW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71600" y="380880"/>
            <a:ext cx="70819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aeaea"/>
                </a:solidFill>
                <a:latin typeface="Arial"/>
                <a:ea typeface="標楷體"/>
              </a:rPr>
              <a:t>會計資訊系統的角色－</a:t>
            </a:r>
            <a:r>
              <a:rPr b="0" lang="zh-TW" sz="4800" spc="-1" strike="noStrike">
                <a:solidFill>
                  <a:srgbClr val="eaeaea"/>
                </a:solidFill>
                <a:latin typeface="Arial"/>
                <a:ea typeface="標楷體"/>
              </a:rPr>
              <a:t>2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5640" y="3352320"/>
            <a:ext cx="25909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1.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客戶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2.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供應商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3.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股東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4.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債權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2880" y="3352320"/>
            <a:ext cx="3810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5.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證券分析師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6.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員工工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7.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政府機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2286000"/>
            <a:ext cx="614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Times New Roman"/>
                <a:ea typeface="MingLiU"/>
              </a:rPr>
              <a:t>→</a:t>
            </a:r>
            <a:r>
              <a:rPr b="0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外部使用者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6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＊</a:t>
            </a: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企業專題</a:t>
            </a:r>
            <a:r>
              <a:rPr b="0" lang="zh-TW" sz="4400" spc="-1" strike="noStrike">
                <a:solidFill>
                  <a:srgbClr val="ffff00"/>
                </a:solidFill>
                <a:latin typeface="Arial"/>
                <a:ea typeface="超研澤魏碑體"/>
              </a:rPr>
              <a:t>4-1</a:t>
            </a:r>
            <a:br>
              <a:rPr sz="3600"/>
            </a:b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聯強國際：</a:t>
            </a:r>
            <a:r>
              <a:rPr b="0" lang="zh-TW" sz="4400" spc="-1" strike="noStrike">
                <a:solidFill>
                  <a:srgbClr val="ffff00"/>
                </a:solidFill>
                <a:latin typeface="Arial"/>
                <a:ea typeface="超研澤魏碑體"/>
              </a:rPr>
              <a:t>ERP</a:t>
            </a: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 </a:t>
            </a:r>
            <a:r>
              <a:rPr b="0" lang="zh-TW" sz="4400" spc="-1" strike="noStrike">
                <a:solidFill>
                  <a:srgbClr val="ffff00"/>
                </a:solidFill>
                <a:latin typeface="Mirror"/>
                <a:ea typeface="超研澤魏碑體"/>
              </a:rPr>
              <a:t>v.s.</a:t>
            </a: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 </a:t>
            </a: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會計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MingLiU"/>
                <a:ea typeface="標楷體"/>
              </a:rPr>
              <a:t>導入</a:t>
            </a:r>
            <a:r>
              <a:rPr b="0" lang="zh-TW" sz="4400" spc="-1" strike="noStrike">
                <a:solidFill>
                  <a:srgbClr val="ffff00"/>
                </a:solidFill>
                <a:latin typeface="Arial"/>
                <a:ea typeface="標楷體"/>
              </a:rPr>
              <a:t>ERP</a:t>
            </a:r>
            <a:r>
              <a:rPr b="0" lang="zh-TW" sz="4400" spc="-1" strike="noStrike">
                <a:solidFill>
                  <a:srgbClr val="ffff00"/>
                </a:solidFill>
                <a:latin typeface="MingLiU"/>
                <a:ea typeface="標楷體"/>
              </a:rPr>
              <a:t>時之要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lvl="1" marL="1219320" indent="-457200">
              <a:lnSpc>
                <a:spcPct val="100000"/>
              </a:lnSpc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Times New Roman"/>
              </a:rPr>
              <a:t>會計科目要非常清楚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1219320" indent="-457200">
              <a:lnSpc>
                <a:spcPct val="100000"/>
              </a:lnSpc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Times New Roman"/>
              </a:rPr>
              <a:t>各部門必須在一定期限內向會計部門報支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MingLiU"/>
                <a:ea typeface="標楷體"/>
              </a:rPr>
              <a:t>企業</a:t>
            </a:r>
            <a:r>
              <a:rPr b="0" lang="zh-TW" sz="4400" spc="-1" strike="noStrike">
                <a:solidFill>
                  <a:srgbClr val="ffff00"/>
                </a:solidFill>
                <a:latin typeface="Arial"/>
                <a:ea typeface="標楷體"/>
              </a:rPr>
              <a:t>e</a:t>
            </a:r>
            <a:r>
              <a:rPr b="0" lang="zh-TW" sz="4400" spc="-1" strike="noStrike">
                <a:solidFill>
                  <a:srgbClr val="ffff00"/>
                </a:solidFill>
                <a:latin typeface="MingLiU"/>
                <a:ea typeface="標楷體"/>
              </a:rPr>
              <a:t>化之共通重點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lvl="1" marL="1219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Times New Roman"/>
              </a:rPr>
              <a:t>「維持第一時間的工作品質」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571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超研澤魏碑體"/>
                <a:ea typeface="超研澤魏碑體"/>
              </a:rPr>
              <a:t>第三節　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會計資訊系統與組織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價值鏈的基本理論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資訊科技對價值鏈的影響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長鞭效應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企業專題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4-2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　汽車業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e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化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會計資訊系統如何增加企業之價值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為什麼要學會計資訊系統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會計資訊系統的基本型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1.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有類似的架構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(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不論人工或電腦化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2.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有類似的處理流程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(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使用的會計方法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3.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有類似的目的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(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提供會計資訊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571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資訊系統可增加企業之價值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2743200"/>
            <a:ext cx="7162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1.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提升產品或勞務的品質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2.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增進效率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3.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改進管理決策的過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21280" y="1981080"/>
            <a:ext cx="27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圖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8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　價值工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571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長鞭效應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96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定義：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579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當價值系統中的某一點發生波動時，連帶造成價值系統中的其他成員也發生波動，而距波動發生的來源愈遠，波動就愈大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形成原因：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1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批次訂貨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	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2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訂貨間隔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3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價格波動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	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4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供給短缺之預期心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6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＊</a:t>
            </a: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企業專題</a:t>
            </a:r>
            <a:r>
              <a:rPr b="0" lang="zh-TW" sz="4400" spc="-1" strike="noStrike">
                <a:solidFill>
                  <a:srgbClr val="ffff00"/>
                </a:solidFill>
                <a:latin typeface="Arial"/>
                <a:ea typeface="超研澤魏碑體"/>
              </a:rPr>
              <a:t>4-2</a:t>
            </a:r>
            <a:r>
              <a:rPr b="0" lang="zh-TW" sz="36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　</a:t>
            </a: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汽車業</a:t>
            </a:r>
            <a:r>
              <a:rPr b="0" lang="zh-TW" sz="4400" spc="-1" strike="noStrike">
                <a:solidFill>
                  <a:srgbClr val="ffff00"/>
                </a:solidFill>
                <a:latin typeface="Arial"/>
                <a:ea typeface="超研澤魏碑體"/>
              </a:rPr>
              <a:t>e</a:t>
            </a: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化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MingLiU"/>
                <a:ea typeface="標楷體"/>
              </a:rPr>
              <a:t>汽車的生命週期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lvl="1" marL="1219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Times New Roman"/>
              </a:rPr>
              <a:t>研發→設計→製造→銷售→售後服務→廢車回收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MingLiU"/>
                <a:ea typeface="標楷體"/>
              </a:rPr>
              <a:t>資訊科技之影響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lvl="1" marL="1219320" indent="-457200">
              <a:lnSpc>
                <a:spcPct val="100000"/>
              </a:lnSpc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新細明體"/>
              </a:rPr>
              <a:t>車款研發及測試工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1219320" indent="-457200">
              <a:lnSpc>
                <a:spcPct val="100000"/>
              </a:lnSpc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Times New Roman"/>
              </a:rPr>
              <a:t>生產線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1219320" indent="-457200">
              <a:lnSpc>
                <a:spcPct val="100000"/>
              </a:lnSpc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Times New Roman"/>
              </a:rPr>
              <a:t>行銷、銷售及服務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會計資訊系統</a:t>
            </a:r>
            <a:br>
              <a:rPr sz="4400"/>
            </a:b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如何增加企業之價值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</a:rPr>
              <a:t>主要活動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1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內運、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2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操作、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3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外運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4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行銷與銷售、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5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服務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</a:rPr>
              <a:t>支援性活動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1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	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公司基礎功能、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2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人力資源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3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	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研究發展、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4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採購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Arial"/>
                <a:ea typeface="超研澤魏碑體"/>
              </a:rPr>
              <a:t>為什麼要學會計資訊系統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99840" y="2590560"/>
            <a:ext cx="2438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Arial"/>
                <a:ea typeface="標楷體"/>
              </a:rPr>
              <a:t>1.</a:t>
            </a:r>
            <a:r>
              <a:rPr b="0" lang="zh-TW" sz="4000" spc="-1" strike="noStrike">
                <a:solidFill>
                  <a:srgbClr val="3333ff"/>
                </a:solidFill>
                <a:latin typeface="Arial"/>
                <a:ea typeface="標楷體"/>
              </a:rPr>
              <a:t>使用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Arial"/>
                <a:ea typeface="標楷體"/>
              </a:rPr>
              <a:t>2.</a:t>
            </a:r>
            <a:r>
              <a:rPr b="0" lang="zh-TW" sz="4000" spc="-1" strike="noStrike">
                <a:solidFill>
                  <a:srgbClr val="3333ff"/>
                </a:solidFill>
                <a:latin typeface="Arial"/>
                <a:ea typeface="標楷體"/>
              </a:rPr>
              <a:t>評估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Arial"/>
                <a:ea typeface="標楷體"/>
              </a:rPr>
              <a:t>3.</a:t>
            </a:r>
            <a:r>
              <a:rPr b="0" lang="zh-TW" sz="4000" spc="-1" strike="noStrike">
                <a:solidFill>
                  <a:srgbClr val="3333ff"/>
                </a:solidFill>
                <a:latin typeface="Arial"/>
                <a:ea typeface="標楷體"/>
              </a:rPr>
              <a:t>開發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809880" cy="359280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3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571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超研澤魏碑體"/>
                <a:ea typeface="超研澤魏碑體"/>
              </a:rPr>
              <a:t>第四節　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會計資訊系統之未來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315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  <a:ea typeface="標楷體"/>
              </a:rPr>
              <a:t>會計資訊系統未來的應用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  <a:ea typeface="標楷體"/>
              </a:rPr>
              <a:t>傳統的會計資訊系統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  <a:ea typeface="標楷體"/>
              </a:rPr>
              <a:t>未來會計資訊系統的設計概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lvl="1" marL="3513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＊企業專題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4-3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　網路財報新語言－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XBR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實務焦點－會計教育何去何從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MingLiU"/>
                <a:ea typeface="標楷體"/>
              </a:rPr>
              <a:t>三個令人引以為憂的現象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MingLiU"/>
                <a:ea typeface="標楷體"/>
              </a:rPr>
              <a:t>會計系的課程內容安排及設計，應予重新思考及定位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4920" y="556920"/>
            <a:ext cx="723924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Arial"/>
                <a:ea typeface="超研澤魏碑體"/>
              </a:rPr>
              <a:t>會計資訊系統未來的應用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2286000"/>
            <a:ext cx="1905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圖</a:t>
            </a:r>
            <a:r>
              <a:rPr b="0" lang="zh-TW" sz="40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11</a:t>
            </a:r>
            <a:r>
              <a:rPr b="0" lang="zh-TW" sz="40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　不同年代下的資訊種類與獲得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4835520" cy="43783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3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aeaea"/>
                </a:solidFill>
                <a:latin typeface="Arial"/>
                <a:ea typeface="超研澤魏碑體"/>
              </a:rPr>
              <a:t>傳統的會計資訊系統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3200400"/>
            <a:ext cx="4191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請參見　圖</a:t>
            </a:r>
            <a:r>
              <a:rPr b="0" lang="zh-TW" sz="40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12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571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未來會計資訊系統的設計概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圖</a:t>
            </a:r>
            <a:r>
              <a:rPr b="0" lang="zh-TW" sz="36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13</a:t>
            </a:r>
            <a:r>
              <a:rPr b="0" lang="zh-TW" sz="36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　決策導向的會計資訊系統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5892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圖</a:t>
            </a:r>
            <a:r>
              <a:rPr b="0" lang="zh-TW" sz="44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14</a:t>
            </a:r>
            <a:r>
              <a:rPr b="0" lang="zh-TW" sz="44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　各種決策模式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92200" y="2071800"/>
            <a:ext cx="712800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92200" y="3503520"/>
            <a:ext cx="712800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371600" y="1295280"/>
            <a:ext cx="7467480" cy="53103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3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6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＊</a:t>
            </a: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企業專題</a:t>
            </a:r>
            <a:r>
              <a:rPr b="0" lang="zh-TW" sz="4400" spc="-1" strike="noStrike">
                <a:solidFill>
                  <a:srgbClr val="ffff00"/>
                </a:solidFill>
                <a:latin typeface="Arial"/>
                <a:ea typeface="超研澤魏碑體"/>
              </a:rPr>
              <a:t>4-3</a:t>
            </a:r>
            <a:br>
              <a:rPr sz="3600"/>
            </a:br>
            <a:r>
              <a:rPr b="0" lang="zh-TW" sz="48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網路財報新語言－</a:t>
            </a:r>
            <a:r>
              <a:rPr b="0" lang="zh-TW" sz="4800" spc="-1" strike="noStrike">
                <a:solidFill>
                  <a:srgbClr val="ffff00"/>
                </a:solidFill>
                <a:latin typeface="Arial"/>
                <a:ea typeface="超研澤魏碑體"/>
              </a:rPr>
              <a:t>XBRL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37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  <a:ea typeface="超研澤魏碑體"/>
              </a:rPr>
              <a:t>XML </a:t>
            </a:r>
            <a:r>
              <a:rPr b="0" lang="zh-TW" sz="4000" spc="-1" strike="noStrike">
                <a:solidFill>
                  <a:srgbClr val="eaeaea"/>
                </a:solidFill>
                <a:latin typeface="Mirror"/>
                <a:ea typeface="超研澤魏碑體"/>
              </a:rPr>
              <a:t>v.s.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  <a:ea typeface="超研澤魏碑體"/>
              </a:rPr>
              <a:t> XBRL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71680" indent="-571680">
              <a:spcBef>
                <a:spcPts val="4124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  <a:ea typeface="超研澤魏碑體"/>
              </a:rPr>
              <a:t>XBRL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標楷體"/>
              </a:rPr>
              <a:t>之發展沿革及目的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571680" indent="-571680">
              <a:spcBef>
                <a:spcPts val="4124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  <a:ea typeface="超研澤魏碑體"/>
              </a:rPr>
              <a:t>XBRL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標楷體"/>
              </a:rPr>
              <a:t>之特性及效益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571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超研澤魏碑體"/>
                <a:ea typeface="超研澤魏碑體"/>
              </a:rPr>
              <a:t>第一節　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企業的語言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企業活動與財務報表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會計資訊的重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ff"/>
                </a:solidFill>
                <a:latin typeface="Arial"/>
                <a:ea typeface="超研澤魏碑體"/>
              </a:rPr>
              <a:t>企業活動與財務報表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828800"/>
            <a:ext cx="3429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0000"/>
                </a:solidFill>
                <a:latin typeface="Times New Roman"/>
                <a:ea typeface="超研澤魏碑體"/>
              </a:rPr>
              <a:t>會計：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企業的語言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(Language of Business)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267080" y="1676520"/>
          <a:ext cx="419112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1676520"/>
                    <a:ext cx="41911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043000" y="5257800"/>
            <a:ext cx="468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圖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1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　企業循環與財務報表的關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圖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2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　會計循環的一般化模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41144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Arial"/>
                <a:ea typeface="超研澤魏碑體"/>
              </a:rPr>
              <a:t>會計資訊的重要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47560" y="487692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Arial"/>
                <a:ea typeface="標楷體"/>
              </a:rPr>
              <a:t>1.</a:t>
            </a:r>
            <a:r>
              <a:rPr b="0" lang="zh-TW" sz="3200" spc="-1" strike="noStrike">
                <a:solidFill>
                  <a:srgbClr val="3333ff"/>
                </a:solidFill>
                <a:latin typeface="Arial"/>
                <a:ea typeface="標楷體"/>
              </a:rPr>
              <a:t>	</a:t>
            </a:r>
            <a:r>
              <a:rPr b="0" lang="zh-TW" sz="3200" spc="-1" strike="noStrike">
                <a:solidFill>
                  <a:srgbClr val="3333ff"/>
                </a:solidFill>
                <a:latin typeface="Arial"/>
                <a:ea typeface="標楷體"/>
              </a:rPr>
              <a:t>交易事項的處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Arial"/>
                <a:ea typeface="標楷體"/>
              </a:rPr>
              <a:t>2.</a:t>
            </a:r>
            <a:r>
              <a:rPr b="0" lang="zh-TW" sz="3200" spc="-1" strike="noStrike">
                <a:solidFill>
                  <a:srgbClr val="3333ff"/>
                </a:solidFill>
                <a:latin typeface="Arial"/>
                <a:ea typeface="標楷體"/>
              </a:rPr>
              <a:t>	</a:t>
            </a:r>
            <a:r>
              <a:rPr b="0" lang="zh-TW" sz="3200" spc="-1" strike="noStrike">
                <a:solidFill>
                  <a:srgbClr val="3333ff"/>
                </a:solidFill>
                <a:latin typeface="Arial"/>
                <a:ea typeface="標楷體"/>
              </a:rPr>
              <a:t>制訂決策、規劃和控制活動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Arial"/>
                <a:ea typeface="標楷體"/>
              </a:rPr>
              <a:t>3.</a:t>
            </a:r>
            <a:r>
              <a:rPr b="0" lang="zh-TW" sz="3200" spc="-1" strike="noStrike">
                <a:solidFill>
                  <a:srgbClr val="3333ff"/>
                </a:solidFill>
                <a:latin typeface="Arial"/>
                <a:ea typeface="標楷體"/>
              </a:rPr>
              <a:t>	</a:t>
            </a:r>
            <a:r>
              <a:rPr b="0" lang="zh-TW" sz="3200" spc="-1" strike="noStrike">
                <a:solidFill>
                  <a:srgbClr val="3333ff"/>
                </a:solidFill>
                <a:latin typeface="Arial"/>
                <a:ea typeface="標楷體"/>
              </a:rPr>
              <a:t>產品及服務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219320"/>
          <a:ext cx="5715000" cy="26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219320"/>
                    <a:ext cx="57150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185200" y="533520"/>
            <a:ext cx="41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圖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3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　會計系統的組成與功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792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906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超研澤魏碑體"/>
                <a:ea typeface="超研澤魏碑體"/>
              </a:rPr>
              <a:t>第二節　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會計資訊系統之定義與角色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MIS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與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AI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會計資訊系統的角色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343044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Arial"/>
                <a:ea typeface="標楷體"/>
              </a:rPr>
              <a:t>＊企業專題</a:t>
            </a:r>
            <a:r>
              <a:rPr b="0" lang="zh-TW" sz="3600" spc="-1" strike="noStrike">
                <a:solidFill>
                  <a:srgbClr val="ff0000"/>
                </a:solidFill>
                <a:latin typeface="Arial"/>
                <a:ea typeface="標楷體"/>
              </a:rPr>
              <a:t>4-1</a:t>
            </a:r>
            <a:r>
              <a:rPr b="0" lang="zh-TW" sz="3600" spc="-1" strike="noStrike">
                <a:solidFill>
                  <a:srgbClr val="ff0000"/>
                </a:solidFill>
                <a:latin typeface="Arial"/>
                <a:ea typeface="標楷體"/>
              </a:rPr>
              <a:t>　聯強國際：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3430440" indent="0">
              <a:spcBef>
                <a:spcPts val="9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ERP </a:t>
            </a:r>
            <a:r>
              <a:rPr b="0" lang="zh-TW" sz="3200" spc="-1" strike="noStrike">
                <a:solidFill>
                  <a:srgbClr val="ff0000"/>
                </a:solidFill>
                <a:latin typeface="Mirror"/>
                <a:ea typeface="標楷體"/>
              </a:rPr>
              <a:t>v.s. </a:t>
            </a:r>
            <a:r>
              <a:rPr b="0" lang="zh-TW" sz="3600" spc="-1" strike="noStrike">
                <a:solidFill>
                  <a:srgbClr val="ff0000"/>
                </a:solidFill>
                <a:latin typeface="Arial"/>
                <a:ea typeface="標楷體"/>
              </a:rPr>
              <a:t>會計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543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MIS</a:t>
            </a:r>
            <a:r>
              <a:rPr b="0" lang="zh-CN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與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A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AIS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通常被視為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MIS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中的一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一套完整的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MIS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會涉及四個部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在管理資訊系統中，包含一些子系統：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行銷資訊系統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製造資訊系統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人力資源系統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財務資訊系統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會計資訊系統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會計資訊系統的定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</a:rPr>
              <a:t>狹義：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一個電腦化的會計系統，它將會計資料變成會計資訊，供組織內、外部使用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</a:rPr>
              <a:t>廣義：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一個經過整合的資訊系統，為組織資訊系統中的一部份，利用各種資源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(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人、機器、資本等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)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，將組織的經濟事項，轉換成會計資訊的資料處理系統，其目的在提供資訊使用者可靠的會計資訊，協助其制定各種決策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13680" y="5791320"/>
            <a:ext cx="39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圖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5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　管理資訊系統之組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aeaea"/>
                </a:solidFill>
                <a:latin typeface="Arial"/>
                <a:ea typeface="超研澤魏碑體"/>
              </a:rPr>
              <a:t>會計資訊系統的角色</a:t>
            </a:r>
            <a:r>
              <a:rPr b="0" lang="zh-TW" sz="4800" spc="-1" strike="noStrike">
                <a:solidFill>
                  <a:srgbClr val="eaeaea"/>
                </a:solidFill>
                <a:latin typeface="Arial"/>
                <a:ea typeface="標楷體"/>
              </a:rPr>
              <a:t>－</a:t>
            </a:r>
            <a:r>
              <a:rPr b="0" lang="zh-TW" sz="4800" spc="-1" strike="noStrike">
                <a:solidFill>
                  <a:srgbClr val="eaeaea"/>
                </a:solidFill>
                <a:latin typeface="Arial"/>
                <a:ea typeface="標楷體"/>
              </a:rPr>
              <a:t>1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28954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MingLiU"/>
              </a:rPr>
              <a:t>→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內部使用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1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指出問題所在，促使管理人員採取適當的措施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2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降低可行方案的不確定性，作為選擇可行方案之判斷基礎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65960" y="990720"/>
            <a:ext cx="39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圖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6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　會計資訊系統之角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会计 资讯</cp:keywords>
  <dc:language>en-US</dc:language>
  <cp:lastModifiedBy/>
  <cp:revision>0</cp:revision>
  <dc:subject/>
  <dc:title/>
</cp:coreProperties>
</file>