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E42-E1CC-4B60-957B-11A177BE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8C8-8E52-4AD5-81E7-55449DCB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6B3-C4C4-4CBD-83ED-AAD9290E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30C-66F6-4BB8-9BFC-284FC639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DA30-354B-4E5A-B28E-1421B829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24A69-7BFA-4B80-800C-F0D4C7D5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EC90C-07EB-4E54-A444-4D890792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7B199-A651-4C2F-95BC-58F8D189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6CE0B-0CBB-474B-9D2D-72E2B4BB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A049-7565-43AB-B2A2-E9384368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6067-6D56-4089-ADF6-5CDB921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39C-7A3A-4107-955A-3968CEE5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B9EB5-95D6-4C9B-81EE-1461D1D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54F4-2EB8-4380-A85F-02A29B84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73E1-4917-4317-A61D-7C0BCF7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2718F-ADF3-40D0-B81C-FF3D2B32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7DF6F-BF9B-41FE-ACF6-F9B91D0B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13A-3054-46C9-B68F-73A1628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FDF-395F-4DA3-9EEC-79E72BF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288-053D-49CB-B685-80D6B29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72B-0CFC-492B-8A6B-9D12FFF2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FBA-6C3A-47FD-9C3A-C155DB8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B2D-4B5C-44E2-8838-6395CA6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A6B-4411-496A-A9CF-E3E700C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A16-F454-4826-8245-6AFF403294E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1DD-EDF2-45E5-9B72-B2332C3ADA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400000">
            <a:off x="5485680" y="3124080"/>
            <a:ext cx="5181480" cy="12193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cccc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话题作文创新例说</a:t>
            </a:r>
            <a:endParaRPr b="0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33cccc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3505320" cy="7635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  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书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295280"/>
            <a:ext cx="755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亲爱的弟弟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好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信已收到。信中你提到，升入初中后，感觉思维一下子丰富起来，正如一堂数学课下来，大家对一道题竟前前后后想出了十几种解法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……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衷心祝福你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43720" y="388800"/>
            <a:ext cx="26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 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讨论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75320" y="1563840"/>
            <a:ext cx="3891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四个图形引发了一场争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－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情景一：高三（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）班课堂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讨论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600"/>
                </a:solidFill>
                <a:latin typeface="Times New Roman"/>
              </a:rPr>
              <a:t>情景二  踏雪回家   饭桌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6320" y="1239840"/>
            <a:ext cx="7176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话题：最近教育部招生办宣布：取消对高考考生的年龄年龄和婚否条件的限制。这一改革是利大于弊还是弊大于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正方：这一改革利大于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反方：这一改革弊大于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主席：教育部新闻发言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现在辩论开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主席：先由反方发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反方：我方认为，高考招生的这一改革，弊大于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3810240" cy="7621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辩论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380880"/>
            <a:ext cx="4724280" cy="6858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采访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最近，教育部招生办宣布：取消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年对高考考生年龄以及婚否条件的限制，针对这些改革措施，本报记者余小龙向教育部发言人沈达明作了专题采访。上述改革措施的利弊何在呢？让我们来看看余小龙的报道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余：沈达明先生，您好。近年来，我国的教育改革有过许多的举措，比如，大力开展素质教育。今年，在高考制度改革上又有了新的规定，取消了对高考考生年龄以及婚否条件的限制，这是为什么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沈：道理只有一个－－一切为了学生的教育，一切教育为了学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04920"/>
            <a:ext cx="358164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  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闻发布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31616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新闻背景：前不久，教育部宣布：从今年起，将取消对高考考生的年龄、婚否等限制。这引起了社会的广泛关注。有人赞成，有人反对，有人忧喜参半。本报就这一问题进行了采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一、“等的就是这一天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二、“还好，今年，我毕业！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三、“我能上体育课吗？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编者按：结束此次采访，记者们对此项政策也表达了各自的不同的看法，见仁见智。我们认为，关键问题在于如何落实这项政策，并解决好相关的问题。我们相信，教育部会进一步推出相关的措施，使这项工作得到广大群众的认可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80880"/>
            <a:ext cx="4114800" cy="6858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题记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6320" y="2535120"/>
            <a:ext cx="74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1932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生活在这个时代，你幸福吗？是的，但我同时恐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－－题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幸福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考前的某一天，朋友问我：“你幸福吗？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然。”我毫不犹豫地回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确。我有给予我全部爱的父母，我衣食无忧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生活在摩登的城市，如果顺利的通过高考，我还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拥有似锦的前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是，常常，我面对镜子反思这一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想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066680"/>
            <a:ext cx="854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6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题乌江亭（散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当虞姬横刀，将一朵生命之情绽放成矛尖锋刃的湛蓝。我看到鲜红鲜红的血流过雪白雪白的颈。壮士掩面，乌骓悲鸣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鲁迅说成功是把好的东西包装给人看，而失败是把好的东西毁灭给人看。于是，你便成了最伟大的毁灭的艺术。“曾是气吞残虏！”你的英勇是无人企及的神话。釜破舟沉，是你无畏的誓言。“何弊之乘”的果敢，“挡我者死”的豪迈。几千年后似乎还可以听到你圆睁环眼倒竖钢髯的一声断喝。乌骓马来往奔突，每一个轮回的拼杀都像是一条法力无边的咒语，使尸堆成山，使血流成河。那杆长予挑起了几多秦国虎狼之将的尸首，几千年后壁上清吟之时还自滴着秦兵的黑血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然而，你胜不了刘邦。因为你，还有诚信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28600"/>
            <a:ext cx="5943600" cy="7621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  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散文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3049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千年的呼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散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它曾是千年前的儒学大师发自肺腑的呐喊，它曾在勾心斗争、尔虞我诈中变得不名一钱。它曾是无数饱学之士终生恪守的行为规范，它曾是阴险狡诈之辈赖以飞黄腾达的外衣。它太简单，简单得连牙牙学语的孩童都能叫出它的名字。它又太复杂，复杂得让有些人将它遗失得无怨无悔，无影无踪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它，就是诚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了它，才有了“君子一言、驷马难追”的承诺；才有了五关之前“赤兔胭脂兽”的一骑绝尘，才有了“三分天下有其一”的丰功伟绩。因为诚信“文不能安邦，武不能服众”的宋江才能坐上聚义厅的头把交椅，将替天行道的大旗扯得迎风飘扬。因为诚信，平遥小城诞生出来的“日升昌”，才将分号开遍大江南北，将半个中国的财富汇集一堂。同样是因为同广大人民群众的诚信之约，嘉兴南湖的微波，井冈山头的星火终于汇成滔天巨浪，熊熊烈火。席卷了古老的神州大地，一个年青政党走过了八十载的漫漫征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2952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圆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本来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月的天空不该是这样：惨白，灰暗，像无精打采的人的眼。陵园里，似乎笼罩着一层水雾。一条孤独的小路在雾气中浮现，直通那座孤独的坟碑。她静静的走上前，嘴角略微抽搐着，眼中透着莫名的光。这是一种复杂而又极微妙的表情。我默默的跟随著她，唯恐出声会将她从凄凉的世界中惊醒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第一次见到她是在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日－－高考第一天的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试场里。她是我监考的试场中唯一年过不惑的人，加之她有一种特殊的似乎是女强人的风韵和气质，这一切引起了我对她的关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此刻，她正清理着墓地周围昨夜被风打下的枯枝残叶。动作是那么轻柔，似乎怕惊醒了墓中的人，怕惊醒心中的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04920"/>
            <a:ext cx="4800600" cy="8380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说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858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是中文系的学生，教授布置了一份特殊的作业，看四幕短剧，写篇论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背景：一条泥泞的乡间小路，一条小溪静静地流，几块零乱的石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：这有什么风景好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暴雨、小路、溪流、石头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：这有许多东西。小路边长着青草，溪流里藏着歌谣，石头边花朵在欢笑，暴雨后挂着彩虹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全剧终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凝神思考，在笔记本上写道：其实生活中的任何情景都是美丽的，能发现这一美丽的就是敏锐的眼睛，敏感的思维，更重要的是一颗充满爱与希望的心。正如：生活不是缺少美，而是缺少发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-316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戏剧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标题式（序号式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447920"/>
            <a:ext cx="6553080" cy="914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谁能给生活下定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362320"/>
            <a:ext cx="6095880" cy="914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定义一：生活是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276720"/>
            <a:ext cx="6019920" cy="914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定义二：生活是微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91120"/>
            <a:ext cx="5943600" cy="914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定义三：生活是酸甜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5105520"/>
            <a:ext cx="6095880" cy="9144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定义四：生活是锻炼与聊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43200" y="558720"/>
            <a:ext cx="64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答案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背负着黄河的淤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手捧着长江的清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迈着日月交替的脚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追赶着问题的音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拾一串缤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投入流火七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有人问：梦为何物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答案——多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梦是天边飘浮的一朵悠悠的黄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梦是山沟里升起的一束淡淡的青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梦是巫山峡壁上缀着的那团闲适的白雾不知何时来，何时去，去向何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梦是三月绚丽的风染绿了秃枝，拂开了红桃白李银梨粉杏的芳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梦是一道伸向河里的若隐若现的彩虹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920" y="185760"/>
            <a:ext cx="8506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诗歌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60948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  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童话、寓言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207792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981080"/>
            <a:ext cx="5638680" cy="8384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600"/>
                </a:solidFill>
                <a:latin typeface="Times New Roman"/>
              </a:rPr>
              <a:t>漫游奇景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038480"/>
            <a:ext cx="7162560" cy="9907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三个和尚新传：变、变、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800" spc="-1" strike="noStrike">
                <a:solidFill>
                  <a:srgbClr val="00c600"/>
                </a:solidFill>
                <a:latin typeface="Times New Roman"/>
              </a:rPr>
              <a:t>上帝的回答（寓言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一个鬼魂被判要下地狱，他不服，他当然不服了：在阳世间，他活得多好，健康、美貌、机敏、才学、金钱、荣誉……哪一样他没有，为什么偏偏死去了，却要受折磨：地狱的阴暗、潮湿、饥饿…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　　这个鬼魂找到上帝，要求去天堂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　　上帝笑一笑，问：“你有什么条件可以进入这极乐的天堂？”鬼魂于是把阳世间他的所有统统抖出来，带着炫耀的口气，反问：“所有这些，难道不足以使我去天堂吗？”说完眯起眼睛，似乎他已经到了天堂，正受着天堂明亮的阳光的照耀，正受着上帝耶和华的抚摸，一副神气的表情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　　“难道你不知道你没有‘允许进入天堂’的最重要的一种东西？”上帝并不恼怒，他总以平和的心态对待世间万事万物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1676520"/>
            <a:ext cx="67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守住心灵的契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　　我常常被那个叫做尾生的古人感动得落泪。“尾生与女子约，女子三日不至，遇大水，尾生抱柱而死。”尾生就是这样一位执著得可爱的君子，为了那一个或许并不重要的约定，为了守住自己心灵深处写给自己的那一份契约，他竟然用生命来壮烈地捍卫它。我从他的身上看到了闪光的两个字———诚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04920"/>
            <a:ext cx="632484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事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43000" y="401760"/>
            <a:ext cx="64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诚信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。因为它比机敏来得憨实。诚信好比一个乡间小伙，他每日只知弓着黝黑宽阔的脊梁在人生的沃土上默默耕耘；机敏则更像一个电脑黑客，他总是那样才思敏捷，头脑灵活，却总是不露真相叫人紧张。在人生的剧本里，一位老实踏实的演员总要比一个奸诈精怪的角儿更受观众青睐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诚信</a:t>
            </a: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。因为它比金钱更具内蕴。举着“金钱万能”旗号东奔西走的人生注定是辛苦乏味的人生，满身的铜臭最终带来的也不过是金钱堆砌而成的冰冷墓穴；而诚信，能给人生打底润色，让人生高大起来，丰满起来，它给生命灌注醉人的色泽与丰富含蕴，让生命在天地之中盈润注目，善始善终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604080" y="1020600"/>
            <a:ext cx="182628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论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04920"/>
            <a:ext cx="3429000" cy="8380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  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反复强调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392120"/>
            <a:ext cx="7848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留些信用给自己取暖吧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冰雪覆盖的时候，我们需要一团火来取暖；暗夜无边的时候，我们需要点点星光来取暖；前途茫茫时，我们需要一盏航灯来取暖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四季轮回，心里滤不去的是烦恼和忧愁，脚下略不去的是艰辛和伤痛。寒天冷日，让我们用什么来温暖迎风而立的自己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些真诚给自己取暖吧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人类没有了真诚，生活便没有了分量。让我们在真诚中舒展心灵的畏惧，在真诚中领略世界的风采。留住真诚，生命便有了前进的依托；留住真诚，你我便有了心灵的共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些信用给自己取暖吧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1676520"/>
            <a:ext cx="502920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整散结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590920"/>
            <a:ext cx="594360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繁简结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505320"/>
            <a:ext cx="685800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文白结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419720"/>
            <a:ext cx="746784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雅俗结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4120"/>
            <a:ext cx="792504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长短结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80880"/>
            <a:ext cx="5486400" cy="6858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创新语言的基本特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05320" y="1371600"/>
            <a:ext cx="520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故事里的故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二、故事背后的沉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三、故事外的生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、从故事看人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0"/>
            <a:ext cx="3581640" cy="9144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600"/>
                </a:solidFill>
                <a:latin typeface="Times New Roman"/>
                <a:ea typeface="华文新魏"/>
              </a:rPr>
              <a:t>人生定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457200"/>
            <a:ext cx="46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联想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5280"/>
            <a:ext cx="76485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4000" spc="-1" strike="noStrike">
                <a:solidFill>
                  <a:srgbClr val="00c600"/>
                </a:solidFill>
                <a:latin typeface="方正舒体"/>
                <a:ea typeface="方正舒体"/>
              </a:rPr>
              <a:t>联想</a:t>
            </a:r>
            <a:r>
              <a:rPr b="0" lang="zh-CN" sz="4000" spc="-1" strike="noStrike">
                <a:solidFill>
                  <a:srgbClr val="00c600"/>
                </a:solidFill>
                <a:latin typeface="方正舒体"/>
                <a:ea typeface="方正舒体"/>
              </a:rPr>
              <a:t>1</a:t>
            </a:r>
            <a:r>
              <a:rPr b="0" lang="zh-CN" sz="4000" spc="-1" strike="noStrike">
                <a:solidFill>
                  <a:srgbClr val="00c600"/>
                </a:solidFill>
                <a:latin typeface="方正舒体"/>
                <a:ea typeface="方正舒体"/>
              </a:rPr>
              <a:t>＋</a:t>
            </a:r>
            <a:r>
              <a:rPr b="0" lang="zh-CN" sz="4000" spc="-1" strike="noStrike">
                <a:solidFill>
                  <a:srgbClr val="00c600"/>
                </a:solidFill>
                <a:latin typeface="方正舒体"/>
                <a:ea typeface="方正舒体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是什么？它是一个父亲和一个母亲，它是一个温暖的家庭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还是什么？它是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个人＋另一个人，它是一个和谐的社会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是什么？它是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亩田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亩田，它是一个富庶的国家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还是什么？它是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块砖＋另一块砖，它是屹立不倒的万里长城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Times New Roman"/>
              </a:rPr>
              <a:t>的含义当然不止这些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800" y="422280"/>
            <a:ext cx="63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答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195560"/>
            <a:ext cx="7543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最美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儿时的我，总爱问这样一个问题：什么是最美的？每逢此时，母亲总是微微笑着，并不回答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问南去的旅客，他告诉我：故乡是最美的。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又问拉小提琴的朋友，他告诉我：音乐是最美的。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是我不满足，又去问老师，她笑着告诉我：知识是最美的。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经退休了却总不闲着的爷爷告诉我：劳动是最美的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9120" y="24912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520" y="20160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庭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143000"/>
            <a:ext cx="2209680" cy="6094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钟的启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69560" y="1771560"/>
            <a:ext cx="5265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我家有四口人，爸爸是高中教师，妈妈在街道办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处上班，弟弟念小学三年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中秋节晚上，吃过晚饭后，弟弟嚷着要吃月饼。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爸却说：“先别急。我拿一样东西考考你们，谁说对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就让谁吃月饼。”说完，爸爸拿起那个小闹钟放到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们面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还不到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分钟，弟弟迫不及待地说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妈妈接着说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爸爸点点头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我看了一眼爸爸说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爸爸慢慢说道：“这钟更像一个国家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533520"/>
            <a:ext cx="4724280" cy="6858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 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日记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6970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840" y="2382840"/>
            <a:ext cx="77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日        星期五      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离高考没有几天了，快加油啊！”耳边总是回荡着爸爸妈妈说了一遍又一遍的这句话。可是不听也得听。没办法，谁教咱今年已经读高三了呢。我一边想着，手却不断地的动着，耳朵也听着外面的电视机播放的国内新闻。我突然听到了一条有关高考最新动向的消息：“教育部招生办宣布，从今年起，取消对考生年龄、婚否条件的限制。”我想，高考竞争已经够激烈了，这不又增加了几个对手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523880"/>
            <a:ext cx="2362320" cy="4572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考场父子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34240" y="541440"/>
            <a:ext cx="26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 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白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160" y="1712880"/>
            <a:ext cx="5283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花儿为什么这样红？为什么小孩子要听大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？为什么我要如此辛苦，用青春去换取书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的文字与符号？为什么为了高三这三天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十二年都不能认认真真地笑一笑？－－谁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告诉我答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妈妈说，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说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爸爸说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说 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95440" y="706320"/>
            <a:ext cx="50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  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话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4920" y="2154240"/>
            <a:ext cx="63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77336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有一个问题人们自古便争论不休，努力说服对方却永不能够。或许直到整个人类灰飞烟灭时，这个亘古不变的疑难仍要留给上帝解决。这就是：什么是幸福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拿破仑：独裁是达到幸福的唯一途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葛朗台：只有金子才能给人带来幸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佛陀：摒弃物欲，方为至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房龙：我却是人本主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我：每个人的幸福只能自己去追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话题作文 创新 例说</cp:keywords>
  <dc:language>en-US</dc:language>
  <cp:lastModifiedBy/>
  <cp:revision>0</cp:revision>
  <dc:subject/>
  <dc:title/>
</cp:coreProperties>
</file>