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2A702-890C-4EDA-BCA1-83A1FB770D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6048B-7A91-4FB9-AC72-AD2D57C865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3E1A0-CAFF-473A-84FE-DFBC05D899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782A5-76D9-45CC-9711-A3926D2E20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ED305-ECD9-4338-A260-A7F04ABA4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0813AD-0ABC-49D7-B3E8-964F1C97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D9D0B-49F5-48F7-AFFF-01E35A12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20B03-53E9-4845-A7A2-80EF4FEE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B6FF4-2A79-46B9-BF42-5273CA17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BC9D1-3493-4410-AFE6-8E476291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DA3CE-E9C5-46CB-AEA2-9D2C6E7B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7A164-50F7-4A98-9D05-B7F918B44E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8908B-0F3F-48F4-A68A-962E465F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BA4CE-245B-4553-89D8-217D3DE4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8AE7A-81A4-4431-9506-63E103F3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C914C-DD9E-4978-A40A-E91B2DC5F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C8BEE-B30B-47F1-984D-3CA91028F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D53F0-2D5E-4CE8-906B-8402EFF779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387B5-94B7-4A99-9FC2-FCD7D57795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A58E9-FDCE-42F0-9149-684D5495B3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1CE7E-EA0C-40F8-8F83-B00F3C597C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B549A-2C72-4979-B02B-280DF7B04B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7D696-05DB-4590-AD50-210248FA6D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D5B29-F216-40AA-B472-FE03689288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567E-E307-44EB-93C1-67B29D7EEE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F56C-9BDA-4A25-940F-E7C2B59C90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会展市场营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XX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会展产业研究所所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大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XXXX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学院副教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863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会展市场营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渠道激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根本性激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驱动性激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保健型激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辅佐性刺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863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会展市场营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会展促销策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会展促销的含义和功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会展促销的原则和效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促销方式的检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四、会展公共关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五、会展宣传与广告促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X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59280" y="2492280"/>
            <a:ext cx="338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谢谢各位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863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会展市场营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会展产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会展产品的特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会展产品的综合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会展产品的无形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会展产品的同一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会展产品的不可重复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863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会展市场营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会展市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．会展市场的概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从经济学的角度来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从市场学角度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．会展市场的特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会展市场的开放化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会展市场的多样性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会展市场的年度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会展市场的依存性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_x000b__x000c_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_x000b__x000c_"/>
              </a:rPr>
              <a:t>、会展市场的病态诊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863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会展市场营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宋体"/>
              </a:rPr>
              <a:t>会展产品（项目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一、展会价值三角分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、考察主办方的期望价值和成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本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、分析参展商的期望价值和成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、专业观众的期望价值和成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二、会展项目策划考虑因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三、实例分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、展会策划方向—以产业为基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举办地点适合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----XX</a:t>
            </a:r>
            <a:r>
              <a:rPr b="0" lang="zh-TW" sz="12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硬件、软件条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、展会定位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竞争对手、</a:t>
            </a:r>
            <a:r>
              <a:rPr b="0" lang="zh-TW" sz="1000" spc="-1" strike="noStrike">
                <a:solidFill>
                  <a:srgbClr val="000000"/>
                </a:solidFill>
                <a:latin typeface="宋体"/>
              </a:rPr>
              <a:t>自身的力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、换位思考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从参</a:t>
            </a:r>
            <a:r>
              <a:rPr b="0" lang="zh-TW" sz="1000" spc="-1" strike="noStrike">
                <a:solidFill>
                  <a:srgbClr val="000000"/>
                </a:solidFill>
                <a:latin typeface="宋体"/>
              </a:rPr>
              <a:t>展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商的角度来拓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、大型国际展览策划考虑专业观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四</a:t>
            </a: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项目开发策略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一</a:t>
            </a: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资源重组策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．从市场需求的角度来组合会展资源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．以关联性来组合会展资源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二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产品升级策略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．提升会展产品形象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．提高会展产品品质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．引入和应用高新技术设计创意、大手笔的会展项目产品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五、项目组合策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一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会展产品组合的类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．地域组合形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．内容组合形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（二）会展产品的组合策略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．会展产品组合扩展策略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．会展产品组合简化策略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．会展产品组合改进策略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六、会展产品品牌策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（一）品牌标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（二）</a:t>
            </a:r>
            <a:r>
              <a:rPr b="1" lang="zh-CN" sz="1000" spc="-1" strike="noStrike">
                <a:solidFill>
                  <a:srgbClr val="000000"/>
                </a:solidFill>
                <a:latin typeface="_x000b__x000c_"/>
              </a:rPr>
              <a:t>如何创立品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（三）会展品牌经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863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会展市场营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会展产品定价策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会展项目的价格制约因素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一）根据会展行业竞争状况及企业的竞争能力来制定价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二）根据会展企业成本状况来制定价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三）根据会展市场需求状况及水平来制定价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四）根据会展企业项目周期来制定价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五）根据市场发展情况及市场环境来制定价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六）根据会展企业定价目标来制定价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七）根据会展企业整体经营战略来制定价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863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会展市场营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会展项目的价格构成与定价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价格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定价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会展项目常用定价技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心理定价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折扣折让定价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四、会展项目价格调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863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会展市场营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会展渠道策略</a:t>
            </a:r>
            <a:r>
              <a:rPr b="1" lang="zh-CN" sz="3200" spc="-1" strike="noStrike">
                <a:solidFill>
                  <a:srgbClr val="00cc99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会展项目分销渠道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直接分销渠道多于间接渠道，且间接渠道层级很少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会展项目分销渠道是一种短而窄的分销渠道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会展项目分销渠道是一种多通路的分销渠道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863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会展市场营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会展项目分销渠道的类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代理制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代理商的原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经济的原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控制的原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适应的原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代理商的管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加强与代理商的合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对代理商的评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会展分销渠道的调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863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会展市场营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代理商的控制与激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渠道控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胁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额外报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履行责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利用专业权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营造声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会展 市场 营销</cp:keywords>
  <dc:language>en-US</dc:language>
  <cp:lastModifiedBy/>
  <cp:revision>0</cp:revision>
  <dc:subject/>
  <dc:title/>
</cp:coreProperties>
</file>