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3.jpeg" ContentType="image/jpeg"/>
  <Override PartName="/ppt/media/image30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6.gif" ContentType="image/gif"/>
  <Override PartName="/ppt/media/chimes.wav" ContentType="audio/x-wav"/>
  <Override PartName="/ppt/media/image18.png" ContentType="image/png"/>
  <Override PartName="/ppt/media/image7.jpeg" ContentType="image/jpeg"/>
  <Override PartName="/ppt/media/image10.gif" ContentType="image/gif"/>
  <Override PartName="/ppt/media/image12.png" ContentType="image/png"/>
  <Override PartName="/ppt/media/image2.png" ContentType="image/png"/>
  <Override PartName="/ppt/media/image25.png" ContentType="image/png"/>
  <Override PartName="/ppt/media/image9.jpeg" ContentType="image/jpeg"/>
  <Override PartName="/ppt/media/image1.jpeg" ContentType="image/jpeg"/>
  <Override PartName="/ppt/media/image27.gif" ContentType="image/gif"/>
  <Override PartName="/ppt/media/image13.jpeg" ContentType="image/jpeg"/>
  <Override PartName="/ppt/media/image20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7.jpeg" ContentType="image/jpeg"/>
  <Override PartName="/ppt/media/image16.png" ContentType="image/png"/>
  <Override PartName="/ppt/media/image23.gif" ContentType="image/gif"/>
  <Override PartName="/ppt/media/image21.gif" ContentType="image/gif"/>
  <Override PartName="/ppt/media/image11.jpeg" ContentType="image/jpeg"/>
  <Override PartName="/ppt/media/image24.png" ContentType="image/png"/>
  <Override PartName="/ppt/media/image22.png" ContentType="image/png"/>
  <Override PartName="/ppt/media/image26.gif" ContentType="image/gif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29AE-95D6-4CFF-B25E-5FBBED9B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B0B0-78A3-4D7D-893E-EC9F72A5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9436-F339-4F4A-BF47-6602405D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49C-D295-4D3D-AED6-4CF6268D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C535-8BC2-4394-AE42-23ACA299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69BC-8540-44EF-9F87-9BED846D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3300-39E6-4B82-B541-39C96786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4B3-8244-4A16-AB85-7C899CDF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7F70-390D-4441-B6D7-42E07F38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975-54A9-4197-9905-B713B39E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0A2D-A64A-48FA-815B-B899BDC9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2157-0DF0-4C2B-9442-13A4D5B6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5071-ACC4-4E0B-A625-3A2F2017BC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gif"/><Relationship Id="rId11" Type="http://schemas.openxmlformats.org/officeDocument/2006/relationships/image" Target="../media/image21.gi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gif"/><Relationship Id="rId6" Type="http://schemas.openxmlformats.org/officeDocument/2006/relationships/image" Target="../media/image27.gif"/><Relationship Id="rId7" Type="http://schemas.openxmlformats.org/officeDocument/2006/relationships/image" Target="../media/image28.gif"/><Relationship Id="rId8" Type="http://schemas.openxmlformats.org/officeDocument/2006/relationships/image" Target="../media/image29.gif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908040" y="0"/>
            <a:ext cx="1849680" cy="1739880"/>
            <a:chOff x="6908040" y="0"/>
            <a:chExt cx="1849680" cy="1739880"/>
          </a:xfrm>
        </p:grpSpPr>
        <p:sp>
          <p:nvSpPr>
            <p:cNvPr id="43" name=""/>
            <p:cNvSpPr/>
            <p:nvPr/>
          </p:nvSpPr>
          <p:spPr>
            <a:xfrm>
              <a:off x="7135560" y="0"/>
              <a:ext cx="162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佛山剪纸的发展历程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-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071840" y="3808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过去，是辉煌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71840" y="68580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现在，是灿烂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6908040" y="990720"/>
              <a:ext cx="1304280" cy="749160"/>
              <a:chOff x="6908040" y="990720"/>
              <a:chExt cx="1304280" cy="749160"/>
            </a:xfrm>
          </p:grpSpPr>
          <p:sp>
            <p:nvSpPr>
              <p:cNvPr id="47" name=""/>
              <p:cNvSpPr/>
              <p:nvPr/>
            </p:nvSpPr>
            <p:spPr>
              <a:xfrm>
                <a:off x="7071480" y="990720"/>
                <a:ext cx="1140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Times New Roman"/>
                    <a:ea typeface="黑体"/>
                  </a:rPr>
                  <a:t>未来，是繁荣的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908040" y="137160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…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9" name="" descr=""/>
          <p:cNvPicPr/>
          <p:nvPr/>
        </p:nvPicPr>
        <p:blipFill>
          <a:blip r:embed="rId2"/>
          <a:srcRect l="0" t="65020" r="0" b="0"/>
          <a:stretch/>
        </p:blipFill>
        <p:spPr>
          <a:xfrm>
            <a:off x="0" y="4457880"/>
            <a:ext cx="9144000" cy="2400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0" t="0" r="0" b="75449"/>
          <a:stretch/>
        </p:blipFill>
        <p:spPr>
          <a:xfrm>
            <a:off x="0" y="0"/>
            <a:ext cx="9144000" cy="168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395280" y="981000"/>
          <a:ext cx="2112840" cy="1087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981000"/>
                    <a:ext cx="211284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 txBox="1"/>
          <p:nvPr/>
        </p:nvSpPr>
        <p:spPr>
          <a:xfrm rot="1332600">
            <a:off x="6553080" y="4038120"/>
            <a:ext cx="1371600" cy="130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Copperplate Gothic Light"/>
              </a:rPr>
              <a:t>de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Copperplate Gothic Light"/>
              <a:ea typeface="Copperplate Gothic Light"/>
            </a:endParaRPr>
          </a:p>
        </p:txBody>
      </p:sp>
      <p:sp>
        <p:nvSpPr>
          <p:cNvPr id="54" name=""/>
          <p:cNvSpPr txBox="1"/>
          <p:nvPr/>
        </p:nvSpPr>
        <p:spPr>
          <a:xfrm rot="4218000">
            <a:off x="571320" y="4762080"/>
            <a:ext cx="114300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cc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仿宋_GB2312"/>
              </a:rPr>
              <a:t>过去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仿宋_GB2312"/>
              <a:ea typeface="仿宋_GB2312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2095200" y="468648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现在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6" name=""/>
          <p:cNvSpPr txBox="1"/>
          <p:nvPr/>
        </p:nvSpPr>
        <p:spPr>
          <a:xfrm rot="6570000">
            <a:off x="3699720" y="4833720"/>
            <a:ext cx="1071720" cy="5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bdbdd2"/>
                    </a:gs>
                    <a:gs pos="100000">
                      <a:srgbClr val="6666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未来</a:t>
            </a:r>
            <a:endParaRPr b="1" lang="en-US" sz="2400" spc="1" strike="noStrike">
              <a:ln w="936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bdbdd2"/>
                  </a:gs>
                  <a:gs pos="100000">
                    <a:srgbClr val="6666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2090400">
            <a:off x="7543440" y="380520"/>
            <a:ext cx="1600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5840">
                  <a:solidFill>
                    <a:srgbClr val="66ff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alisto MT"/>
              </a:rPr>
              <a:t>过去</a:t>
            </a:r>
            <a:endParaRPr b="1" i="1" lang="en-US" sz="2400" spc="1" strike="noStrike">
              <a:ln w="15840">
                <a:solidFill>
                  <a:srgbClr val="66ff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59" name=""/>
          <p:cNvSpPr txBox="1"/>
          <p:nvPr/>
        </p:nvSpPr>
        <p:spPr>
          <a:xfrm rot="860400">
            <a:off x="755280" y="6021000"/>
            <a:ext cx="144792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ankGothic Md BT"/>
              </a:rPr>
              <a:t>foretime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ankGothic Md BT"/>
              <a:ea typeface="BankGothic Md BT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Times New Roman"/>
                <a:ea typeface="幼圆"/>
              </a:rPr>
              <a:t>剪纸是中国最为流行的民间艺术之一，根据考古其历史可追朔到公元六世纪，但人们认为它的实际开始时间比这还要早几百年。剪纸常用于宗教仪式，装饰和造型艺术等方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447920" cy="1158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828800" y="1371600"/>
            <a:ext cx="6172200" cy="114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1523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cccc"/>
                </a:solidFill>
                <a:latin typeface="Times New Roman"/>
                <a:ea typeface="幼圆"/>
              </a:rPr>
              <a:t>    </a:t>
            </a:r>
            <a:r>
              <a:rPr b="1" lang="zh-TW" sz="1800" spc="-1" strike="noStrike">
                <a:solidFill>
                  <a:srgbClr val="ffcccc"/>
                </a:solidFill>
                <a:latin typeface="Times New Roman"/>
                <a:ea typeface="幼圆"/>
              </a:rPr>
              <a:t>唐朝有位詩人曾經有著「欲剪宜春字，春寒入剪刀」的詩句，可見剪紙這項技藝在當時社會中，已經是十分普遍的一項民間技藝了；尤其是未婚的女孩子，在勤學女紅刺繡之餘，剪紙也是她們必修的一門技藝，平時在家裡，妯娌姐妹鄰居之間，相互切磋剪紙的經驗和技巧，也是一件十分普遍的社交方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1676520"/>
            <a:ext cx="1752840" cy="2133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16765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ffcc"/>
                </a:solidFill>
                <a:latin typeface="Times New Roman"/>
                <a:ea typeface="幼圆"/>
              </a:rPr>
              <a:t>中國剪紙的主要材料是棉紙和宣紙，中國的宣紙是用手工做的，具有薄、輕、柔、吸水、韌度大等特性，實在是剪紙最適當的材料。宣紙和棉紙還可以用染料染成各種需要的顏色，一次可以剪三到五張而不會使原稿變型</a:t>
            </a:r>
            <a:r>
              <a:rPr b="1" lang="zh-TW" sz="1800" spc="-1" strike="noStrike">
                <a:solidFill>
                  <a:srgbClr val="99ffcc"/>
                </a:solidFill>
                <a:latin typeface="Times New Roman"/>
                <a:ea typeface="幼圆"/>
              </a:rPr>
              <a:t>.</a:t>
            </a:r>
            <a:r>
              <a:rPr b="1" lang="zh-CN" sz="18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4038480"/>
            <a:ext cx="3733920" cy="2590920"/>
          </a:xfrm>
          <a:prstGeom prst="foldedCorner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4648320" y="3581280"/>
            <a:ext cx="4228920" cy="23832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6553080" y="4038480"/>
            <a:ext cx="2590920" cy="2437200"/>
            <a:chOff x="6553080" y="4038480"/>
            <a:chExt cx="2590920" cy="2437200"/>
          </a:xfrm>
        </p:grpSpPr>
        <p:sp>
          <p:nvSpPr>
            <p:cNvPr id="69" name=""/>
            <p:cNvSpPr/>
            <p:nvPr/>
          </p:nvSpPr>
          <p:spPr>
            <a:xfrm>
              <a:off x="6705720" y="403848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ecff"/>
                  </a:solidFill>
                  <a:latin typeface="Times New Roman"/>
                  <a:ea typeface="黑体"/>
                </a:rPr>
                <a:t>剪纸的艺术风格：</a:t>
              </a:r>
              <a:r>
                <a:rPr b="1" lang="zh-CN" sz="1800" spc="-1" strike="noStrike">
                  <a:solidFill>
                    <a:srgbClr val="ccec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53080" y="4461480"/>
              <a:ext cx="25909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ffff"/>
                  </a:solidFill>
                  <a:latin typeface="Times New Roman"/>
                  <a:ea typeface="幼圆"/>
                </a:rPr>
                <a:t>1.</a:t>
              </a:r>
              <a:r>
                <a:rPr b="1" lang="zh-CN" sz="1800" spc="-1" strike="noStrike">
                  <a:solidFill>
                    <a:srgbClr val="66ffff"/>
                  </a:solidFill>
                  <a:latin typeface="Times New Roman"/>
                  <a:ea typeface="幼圆"/>
                </a:rPr>
                <a:t>线线相连与线线相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ffff"/>
                  </a:solidFill>
                  <a:latin typeface="Times New Roman"/>
                  <a:ea typeface="幼圆"/>
                </a:rPr>
                <a:t>2.</a:t>
              </a:r>
              <a:r>
                <a:rPr b="1" lang="zh-CN" sz="1800" spc="-1" strike="noStrike">
                  <a:solidFill>
                    <a:srgbClr val="66ffff"/>
                  </a:solidFill>
                  <a:latin typeface="Times New Roman"/>
                  <a:ea typeface="幼圆"/>
                </a:rPr>
                <a:t>构图造型图案化</a:t>
              </a:r>
              <a:br>
                <a:rPr sz="1800"/>
              </a:br>
              <a:r>
                <a:rPr b="1" lang="zh-CN" sz="1800" spc="-1" strike="noStrike">
                  <a:solidFill>
                    <a:srgbClr val="66ffff"/>
                  </a:solidFill>
                  <a:latin typeface="Times New Roman"/>
                  <a:ea typeface="幼圆"/>
                </a:rPr>
                <a:t>3.</a:t>
              </a:r>
              <a:r>
                <a:rPr b="1" lang="zh-CN" sz="1800" spc="-1" strike="noStrike">
                  <a:solidFill>
                    <a:srgbClr val="66ffff"/>
                  </a:solidFill>
                  <a:latin typeface="Times New Roman"/>
                  <a:ea typeface="幼圆"/>
                </a:rPr>
                <a:t>形象夸张、简洁、优美，富有节奏感 </a:t>
              </a:r>
              <a:r>
                <a:rPr b="1" lang="zh-CN" sz="1800" spc="-1" strike="noStrike">
                  <a:solidFill>
                    <a:srgbClr val="66ffff"/>
                  </a:solidFill>
                  <a:latin typeface="幼圆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ffff"/>
                  </a:solidFill>
                  <a:latin typeface="Times New Roman"/>
                  <a:ea typeface="幼圆"/>
                </a:rPr>
                <a:t>4.</a:t>
              </a:r>
              <a:r>
                <a:rPr b="1" lang="zh-CN" sz="1800" spc="-1" strike="noStrike">
                  <a:solidFill>
                    <a:srgbClr val="66ffff"/>
                  </a:solidFill>
                  <a:latin typeface="Times New Roman"/>
                  <a:ea typeface="幼圆"/>
                </a:rPr>
                <a:t>色彩单纯、明快</a:t>
              </a:r>
              <a:br>
                <a:rPr sz="1800"/>
              </a:br>
              <a:r>
                <a:rPr b="1" lang="zh-CN" sz="1800" spc="-1" strike="noStrike">
                  <a:solidFill>
                    <a:srgbClr val="66ffff"/>
                  </a:solidFill>
                  <a:latin typeface="Times New Roman"/>
                  <a:ea typeface="幼圆"/>
                </a:rPr>
                <a:t>5.</a:t>
              </a:r>
              <a:r>
                <a:rPr b="1" lang="zh-CN" sz="1800" spc="-1" strike="noStrike">
                  <a:solidFill>
                    <a:srgbClr val="66ffff"/>
                  </a:solidFill>
                  <a:latin typeface="Times New Roman"/>
                  <a:ea typeface="幼圆"/>
                </a:rPr>
                <a:t>刀法要”稳、准、巧” </a:t>
              </a: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" name="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 flipH="1" rot="10800000">
            <a:off x="7848720" y="6248520"/>
            <a:ext cx="106668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500"/>
                            </p:stCondLst>
                            <p:childTnLst>
                              <p:par>
                                <p:cTn id="5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500"/>
                            </p:stCondLst>
                            <p:childTnLst>
                              <p:par>
                                <p:cTn id="6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 rot="5400000">
            <a:off x="0" y="45684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7671"/>
                <a:gd name="adj2" fmla="val 4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260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现在</a:t>
            </a:r>
            <a:endParaRPr b="1" i="1" lang="en-US" sz="2400" spc="1" strike="noStrike">
              <a:ln w="1260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772400" y="617220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ISOCPEUR"/>
              </a:rPr>
              <a:t>NOW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ISOCPEUR"/>
              <a:ea typeface="ISOCPEUR"/>
            </a:endParaRPr>
          </a:p>
        </p:txBody>
      </p:sp>
      <p:sp>
        <p:nvSpPr>
          <p:cNvPr id="75" name=""/>
          <p:cNvSpPr/>
          <p:nvPr/>
        </p:nvSpPr>
        <p:spPr>
          <a:xfrm>
            <a:off x="1547640" y="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Times New Roman"/>
              </a:rPr>
              <a:t>剪纸更多地是用于装饰。剪纸可用于点缀墙壁、门窗、房柱、镜子、灯和灯笼等，也可为礼品作点缀之用，甚至剪纸本身也可作为礼物赠送他人。人们以前还常把剪纸作绣花和喷漆艺术的模型…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58920" y="5084640"/>
            <a:ext cx="7543800" cy="325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" y="1752480"/>
            <a:ext cx="1295280" cy="2590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04920" y="4495680"/>
            <a:ext cx="761760" cy="1524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8120" y="1447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到了近年，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剪纸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一旦被冠上藝術兩個字之後，反而使社會大眾感覺到它不是一項簡單的技藝，從而產生了望而卻步的想法；在現代的工業社會裡，人們的所得增加，食、衣、住、行各方面的需求，都可以很容易的獲得滿足，但是在精神生活上卻總像是缺少了什麼似的，當然，精神上的陶冶是多方面的，剪紙只是其中的一部分而已，但是它所費不多，而且有著取之不盡、用之不竭的素材和題材。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2108160" cy="1517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3048120" y="3505320"/>
            <a:ext cx="1784160" cy="1476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32000" y="551664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Times New Roman"/>
                <a:ea typeface="幼圆"/>
              </a:rPr>
              <a:t>进入新千年，所发行的第一套剪纸图彩票即为《中华武术》，彩票代码为２０００／０６Ｊ１００ＥＨ，全套５枚，图案为中国武术的５种基本技法，即：剑术、刀术、棍术、拳术、枪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3124080" y="55440"/>
            <a:ext cx="1905120" cy="1370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4952880" y="3505320"/>
            <a:ext cx="1478160" cy="1523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5334120" y="122400"/>
            <a:ext cx="1752480" cy="1325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250920" y="58770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7391520" y="1522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 rot="650400">
            <a:off x="7524720" y="6165360"/>
            <a:ext cx="1322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Calisto MT"/>
              </a:rPr>
              <a:t>未来</a:t>
            </a:r>
            <a:endParaRPr b="1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90" name=""/>
          <p:cNvSpPr txBox="1"/>
          <p:nvPr/>
        </p:nvSpPr>
        <p:spPr>
          <a:xfrm rot="20869200">
            <a:off x="304920" y="304560"/>
            <a:ext cx="1904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GothicG"/>
              </a:rPr>
              <a:t>FUTURE</a:t>
            </a:r>
            <a:endParaRPr b="1" i="1" lang="en-US" sz="2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GothicG"/>
              <a:ea typeface="GothicG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6400800" cy="241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26920" y="1773360"/>
            <a:ext cx="7272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Times New Roman"/>
              </a:rPr>
              <a:t>11</a:t>
            </a:r>
            <a:r>
              <a:rPr b="0" lang="zh-CN" sz="1600" spc="-1" strike="noStrike">
                <a:solidFill>
                  <a:srgbClr val="ffff00"/>
                </a:solidFill>
                <a:latin typeface="Times New Roman"/>
              </a:rPr>
              <a:t>）</a:t>
            </a:r>
            <a:r>
              <a:rPr b="0" lang="zh-CN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 </a:t>
            </a:r>
            <a:r>
              <a:rPr b="0" lang="zh-CN" sz="1600" spc="-1" strike="noStrike">
                <a:solidFill>
                  <a:srgbClr val="ffff00"/>
                </a:solidFill>
                <a:latin typeface="Times New Roman"/>
              </a:rPr>
              <a:t>增添剪纸兴趣班，使更多的人学会剪纸技术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ffcc"/>
                </a:solidFill>
                <a:latin typeface="Times New Roman"/>
                <a:ea typeface="幼圆"/>
              </a:rPr>
              <a:t>22</a:t>
            </a:r>
            <a:r>
              <a:rPr b="0" lang="zh-CN" sz="1600" spc="-1" strike="noStrike">
                <a:solidFill>
                  <a:srgbClr val="99ffcc"/>
                </a:solidFill>
                <a:latin typeface="Times New Roman"/>
                <a:ea typeface="幼圆"/>
              </a:rPr>
              <a:t>）</a:t>
            </a:r>
            <a:r>
              <a:rPr b="0" lang="zh-CN" sz="16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  </a:t>
            </a:r>
            <a:r>
              <a:rPr b="0" lang="zh-CN" sz="1600" spc="-1" strike="noStrike">
                <a:solidFill>
                  <a:srgbClr val="99ffcc"/>
                </a:solidFill>
                <a:latin typeface="Times New Roman"/>
              </a:rPr>
              <a:t>在各学校中开展剪纸讲座、展览，详细地介绍剪纸的历史，做法，式样与意义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ffff"/>
                </a:solidFill>
                <a:latin typeface="Times New Roman"/>
                <a:ea typeface="幼圆"/>
              </a:rPr>
              <a:t>33</a:t>
            </a:r>
            <a:r>
              <a:rPr b="0" lang="zh-CN" sz="1600" spc="-1" strike="noStrike">
                <a:solidFill>
                  <a:srgbClr val="66ffff"/>
                </a:solidFill>
                <a:latin typeface="Times New Roman"/>
                <a:ea typeface="幼圆"/>
              </a:rPr>
              <a:t>）</a:t>
            </a:r>
            <a:r>
              <a:rPr b="0" lang="zh-CN" sz="16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  </a:t>
            </a:r>
            <a:r>
              <a:rPr b="0" lang="zh-CN" sz="1600" spc="-1" strike="noStrike">
                <a:solidFill>
                  <a:srgbClr val="66ffff"/>
                </a:solidFill>
                <a:latin typeface="Times New Roman"/>
              </a:rPr>
              <a:t>开展剪纸大赛，鼓励少年儿童多多参加，培养下一代对剪纸的热情，对大赛的优胜者进行剪纸培训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99ff"/>
                </a:solidFill>
                <a:latin typeface="Times New Roman"/>
              </a:rPr>
              <a:t>44</a:t>
            </a:r>
            <a:r>
              <a:rPr b="0" lang="zh-CN" sz="1600" spc="-1" strike="noStrike">
                <a:solidFill>
                  <a:srgbClr val="ff99ff"/>
                </a:solidFill>
                <a:latin typeface="Times New Roman"/>
              </a:rPr>
              <a:t>）</a:t>
            </a:r>
            <a:r>
              <a:rPr b="0" lang="zh-CN" sz="16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  </a:t>
            </a:r>
            <a:r>
              <a:rPr b="0" lang="zh-CN" sz="1600" spc="-1" strike="noStrike">
                <a:solidFill>
                  <a:srgbClr val="ff99ff"/>
                </a:solidFill>
                <a:latin typeface="Times New Roman"/>
              </a:rPr>
              <a:t>把剪纸和民间文化融合在一起，共同发展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55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在日常生活中推广，所以可以把剪纸作为装饰品大力推广、宣传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9966"/>
                </a:solidFill>
                <a:latin typeface="Times New Roman"/>
              </a:rPr>
              <a:t>66</a:t>
            </a:r>
            <a:r>
              <a:rPr b="0" lang="zh-CN" sz="1600" spc="-1" strike="noStrike">
                <a:solidFill>
                  <a:srgbClr val="ff9966"/>
                </a:solidFill>
                <a:latin typeface="Times New Roman"/>
              </a:rPr>
              <a:t>）</a:t>
            </a:r>
            <a:r>
              <a:rPr b="0" lang="zh-CN" sz="16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  </a:t>
            </a:r>
            <a:r>
              <a:rPr b="0" lang="zh-CN" sz="1600" spc="-1" strike="noStrike">
                <a:solidFill>
                  <a:srgbClr val="ff9966"/>
                </a:solidFill>
                <a:latin typeface="Times New Roman"/>
              </a:rPr>
              <a:t>可以和其他地域的剪纸工艺互相参考，进行技术交流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 rot="5400000">
            <a:off x="-485640" y="2543040"/>
            <a:ext cx="188604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ffffff"/>
                </a:solidFill>
                <a:latin typeface="仿宋_GB2312"/>
              </a:rPr>
              <a:t>我们的建议</a:t>
            </a:r>
            <a:endParaRPr b="1" lang="en-US" sz="2400" spc="1" strike="noStrike">
              <a:ln w="9360">
                <a:solidFill>
                  <a:srgbClr val="ccffff"/>
                </a:solidFill>
                <a:miter/>
              </a:ln>
              <a:solidFill>
                <a:srgbClr val="ffffff"/>
              </a:solidFill>
              <a:latin typeface="仿宋_GB2312"/>
              <a:ea typeface="仿宋_GB2312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467480" y="304920"/>
            <a:ext cx="1335240" cy="1854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09680" y="228600"/>
            <a:ext cx="51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5b5ff"/>
                </a:solidFill>
                <a:latin typeface="宋体"/>
                <a:ea typeface="幼圆"/>
              </a:rPr>
              <a:t>纵使</a:t>
            </a:r>
            <a:r>
              <a:rPr b="0" lang="zh-CN" sz="2000" spc="-1" strike="noStrike">
                <a:solidFill>
                  <a:srgbClr val="b5b5ff"/>
                </a:solidFill>
                <a:latin typeface="Times New Roman"/>
              </a:rPr>
              <a:t>我们不敢想象未来的剪纸艺术会如何繁荣，但我们敢说，剪纸艺术是会继续繁荣地发展下去。一定会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0" y="6137280"/>
            <a:ext cx="900000" cy="720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8064360" y="4005360"/>
            <a:ext cx="1079640" cy="1022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9320" y="1047600"/>
            <a:ext cx="685800" cy="596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0" y="449568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5562720" y="914400"/>
            <a:ext cx="1417680" cy="84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1371600" y="6324480"/>
            <a:ext cx="5864400" cy="2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剪纸 文化</cp:keywords>
  <dc:language>en-US</dc:language>
  <cp:lastModifiedBy/>
  <cp:revision>0</cp:revision>
  <dc:subject/>
  <dc:title/>
</cp:coreProperties>
</file>