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CCED-E702-45BC-9DD2-CC127DF9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09F1-2222-480C-BC5B-87BC5D06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E97-0574-4A11-AFD6-93856F63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F75-1959-42E6-813B-E4C44964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BAFB-70A7-4A74-902F-E0838670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A5D1-17C5-4178-9B84-4F8B2EDF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5A53-7AB3-4A5D-B3CB-0D42C526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5E45-F1A9-4D30-80D6-2D4C04B8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5C51-46FD-4681-AD07-8F01B91B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6E5A-41AC-4741-9622-F01DCBF2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1A46-E7A9-42C7-99B6-ECCAFAD7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E99-FA53-4EEA-A6FF-3B495CC2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CA29-F0F8-492C-AC73-233C5EAC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0948-AF48-4056-99A8-06950C8E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2B2C-0C40-46D2-B8C2-12C3A6B9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1D20-B5EE-479C-B7CB-5497277B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F908-8ACA-4983-B295-D3FE0D54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E94-9DA6-4A19-A320-2870E265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00F-F93C-46A6-BD1C-4AE1E4DB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08E-9AE0-4677-9576-7B6BECEE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76B6-D50F-436D-8E39-1B15AB50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7934-F357-40E7-8CAC-5FD74C08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AAB-7C63-48B0-AE07-CF048DD2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E34-D91A-4827-918E-095A38EE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8477-94AB-4857-BE8E-0171109350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335D-F5DB-4609-8557-28382166CD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336666"/>
                </a:solidFill>
                <a:latin typeface="Arial Black"/>
                <a:ea typeface="隶书"/>
              </a:rPr>
              <a:t>XXX</a:t>
            </a:r>
            <a:r>
              <a:rPr b="0" lang="zh-CN" sz="3700" spc="-1" strike="noStrike">
                <a:solidFill>
                  <a:srgbClr val="336666"/>
                </a:solidFill>
                <a:latin typeface="Arial Black"/>
                <a:ea typeface="隶书"/>
              </a:rPr>
              <a:t>先生</a:t>
            </a:r>
            <a:br>
              <a:rPr sz="3700"/>
            </a:br>
            <a:r>
              <a:rPr b="0" lang="zh-CN" sz="3700" spc="-1" strike="noStrike">
                <a:solidFill>
                  <a:srgbClr val="336666"/>
                </a:solidFill>
                <a:latin typeface="Arial Black"/>
                <a:ea typeface="隶书"/>
              </a:rPr>
              <a:t>与</a:t>
            </a:r>
            <a:r>
              <a:rPr b="0" lang="zh-CN" sz="3700" spc="-1" strike="noStrike">
                <a:solidFill>
                  <a:srgbClr val="336666"/>
                </a:solidFill>
                <a:latin typeface="Arial Black"/>
                <a:ea typeface="隶书"/>
              </a:rPr>
              <a:t>XXXX</a:t>
            </a:r>
            <a:r>
              <a:rPr b="0" lang="zh-CN" sz="3700" spc="-1" strike="noStrike">
                <a:solidFill>
                  <a:srgbClr val="336666"/>
                </a:solidFill>
                <a:latin typeface="Arial Black"/>
                <a:ea typeface="隶书"/>
              </a:rPr>
              <a:t>大学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60040" y="4105080"/>
            <a:ext cx="648684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1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纪念</a:t>
            </a:r>
            <a:r>
              <a:rPr b="0" lang="zh-CN" sz="31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X</a:t>
            </a:r>
            <a:r>
              <a:rPr b="0" lang="zh-CN" sz="3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先生</a:t>
            </a:r>
            <a:r>
              <a:rPr b="0" lang="zh-CN" sz="31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</a:t>
            </a:r>
            <a:r>
              <a:rPr b="0" lang="zh-CN" sz="3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周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3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教学特色安排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8480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开设专题讲座：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1440" y="2624040"/>
            <a:ext cx="3435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先生：核反应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61800" y="3129120"/>
            <a:ext cx="3239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先生：宇宙线与高能物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06120" y="3581280"/>
            <a:ext cx="2172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先生：核谱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1440" y="4038480"/>
            <a:ext cx="4197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先生：分子束实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0" y="4692600"/>
            <a:ext cx="23173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开拓学生视野，追踪科研前沿。这种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演化为现在的研究生“近代物理专题”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教学特色安排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92436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加强实验室建设：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35840" y="2635200"/>
            <a:ext cx="44784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教学实验与科研实验室结合，不断向新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前沿课题发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27160" y="3733920"/>
            <a:ext cx="7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37600" y="37339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9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：十进制万位定标器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20680" y="4267080"/>
            <a:ext cx="34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9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：穆斯堡尔谱学实验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32320" y="4815000"/>
            <a:ext cx="32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9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：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扰动角关联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55880" y="5348160"/>
            <a:ext cx="32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9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：百道脉冲分析器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教学特色安排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学生参与实验室建设及教师的科研工作，沿续至今。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建立的</a:t>
            </a:r>
            <a:br>
              <a:rPr sz="3300"/>
            </a:b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优良学风已结硕果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2201760"/>
            <a:ext cx="76960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强烈的冲击科技前沿（课题）意识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拼搏精神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建立的</a:t>
            </a:r>
            <a:br>
              <a:rPr sz="3300"/>
            </a:b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优良学风已结硕果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6035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依据科技发展调整专业方向：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37280" y="2595600"/>
            <a:ext cx="2170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7cd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粒子物理与核物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1240" y="3139920"/>
            <a:ext cx="4611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从单纯核物理转向高能物理、原子分子物理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核技术应用、核固体物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27600" y="4172040"/>
            <a:ext cx="156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7cd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核电子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4724280"/>
            <a:ext cx="398448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国内最先开展核电子学与计算机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当前开展物理电子学方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352520" y="2874960"/>
            <a:ext cx="1317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7cd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理论物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94720" y="3562200"/>
            <a:ext cx="1743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7cd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等离子体物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81600" y="4248000"/>
            <a:ext cx="1103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7cd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加速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建立的</a:t>
            </a:r>
            <a:br>
              <a:rPr sz="3300"/>
            </a:b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优良学风已结硕果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6035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依据科技发展调整专业方向：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78760" y="3562200"/>
            <a:ext cx="1919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全国最早建立的专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21720" y="4267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核技术及应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建立的</a:t>
            </a:r>
            <a:br>
              <a:rPr sz="3300"/>
            </a:b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优良学风已结硕果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520704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选择前沿课题：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54240" y="29401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步辐射加速器的研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4120" y="3809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量子计算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3962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建立的</a:t>
            </a:r>
            <a:br>
              <a:rPr sz="3300"/>
            </a:b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优良学风已结硕果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30056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培养一批高素质人才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01360" y="297180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大部分毕业生成为各科研单位业务骨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建立的</a:t>
            </a:r>
            <a:br>
              <a:rPr sz="3300"/>
            </a:b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优良学风已结硕果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7162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二名院士：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65840" y="2863800"/>
            <a:ext cx="42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院院士，现任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大校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00120" y="3716280"/>
            <a:ext cx="41720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X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X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院院士，同步辐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二期工程领导小组负责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建立的</a:t>
            </a:r>
            <a:br>
              <a:rPr sz="3300"/>
            </a:b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优良学风已结硕果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62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同步辐射加速器主要业务骨干：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14160" y="2811600"/>
            <a:ext cx="411228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总工程师，总工艺师，直线加速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控制系统，电子束流光学等等都是科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毕业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目  录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4280" y="1905120"/>
            <a:ext cx="475488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参与筹建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XXX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大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2666880"/>
            <a:ext cx="45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学特色安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07920" y="3456000"/>
            <a:ext cx="4438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XXX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大学建立的优良学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已结硕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47242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束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建立的</a:t>
            </a:r>
            <a:br>
              <a:rPr sz="3300"/>
            </a:b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优良学风已结硕果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2055600"/>
            <a:ext cx="769608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在老一辈科学家指导下，中国科大迅速成长，已成为一所重点大学，在国外亦受到重视。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建立的</a:t>
            </a:r>
            <a:br>
              <a:rPr sz="3300"/>
            </a:b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优良学风已结硕果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62088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各系系主任：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0720" y="2635200"/>
            <a:ext cx="89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73880" y="2743200"/>
            <a:ext cx="32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1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原子核物理和原子核工程系主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25240" y="327672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47280" y="3352680"/>
            <a:ext cx="19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2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技术物理系主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0040" y="3886200"/>
            <a:ext cx="13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X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77160" y="3886200"/>
            <a:ext cx="20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3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化学物理系主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32080" y="4562640"/>
            <a:ext cx="15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39800" y="457200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4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物理热工程系主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25240" y="511956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68960" y="5181480"/>
            <a:ext cx="23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05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无线电电子学系主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500"/>
                            </p:stCondLst>
                            <p:childTnLst>
                              <p:par>
                                <p:cTn id="4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500"/>
                            </p:stCondLst>
                            <p:childTnLst>
                              <p:par>
                                <p:cTn id="5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500"/>
                            </p:stCondLst>
                            <p:childTnLst>
                              <p:par>
                                <p:cTn id="5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8920" y="380880"/>
            <a:ext cx="59385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97212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336666"/>
                </a:solidFill>
                <a:latin typeface="Arial Black"/>
                <a:ea typeface="隶书"/>
              </a:rPr>
              <a:t>谢 谢 </a:t>
            </a:r>
            <a:r>
              <a:rPr b="0" lang="zh-CN" sz="4500" spc="-1" strike="noStrike">
                <a:solidFill>
                  <a:srgbClr val="336666"/>
                </a:solidFill>
                <a:latin typeface="Arial Black"/>
                <a:ea typeface="隶书"/>
              </a:rPr>
              <a:t>!</a:t>
            </a:r>
            <a:endParaRPr b="0" lang="en-US" sz="45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参与筹建中国科技大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21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建校初期制定教学及科研方针是关键，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先生参与全校的方针制定，并为本系的专业设置，教学安排具体作出决定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参与筹建中国科技大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19X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X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书记处在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同志主持下讨论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副总理向书记处提交的“成立中国科学技术大学”报告，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同志批示：“书记处会议批准这个报告，决定成立这个大学”。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X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等领导也审核同意了书记处的意见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参与筹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先生决定，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01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系，即原子核物理与原子核工程系：数学、物理、化学都按第一类课程安排。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参与筹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8480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专业设置：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2160" y="387036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原子核物理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原子核工程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31845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原子核物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47960" y="5013360"/>
            <a:ext cx="37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原子核工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核反应堆物理；反应堆工程；热工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00520" y="2590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理论物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37160" y="318456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实验核物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54520" y="3794040"/>
            <a:ext cx="34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（核）电物理——核电子学；加速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312408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25909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参与筹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717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办学模式：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240" y="2867040"/>
            <a:ext cx="40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教员：教学和科学研究同时并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87640" y="358128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学生：课堂学习和科研实践同时并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640" y="44956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贯彻中国科大的办学活动全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参与筹建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XXXX</a:t>
            </a: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大学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2055960"/>
            <a:ext cx="7696080" cy="16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先生作为系主任的这些决策，对中国科大，特别是对系的迅速成长起了关键作用。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336666"/>
                </a:solidFill>
                <a:latin typeface="Arial Black"/>
                <a:ea typeface="隶书"/>
              </a:rPr>
              <a:t>教学特色安排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84804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聘请知名专家：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640" y="2666880"/>
            <a:ext cx="44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XX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0360" y="3429000"/>
            <a:ext cx="468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XXX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58000" y="422100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科技 工作者</cp:keywords>
  <dc:language>en-US</dc:language>
  <cp:lastModifiedBy/>
  <cp:revision>0</cp:revision>
  <dc:subject/>
  <dc:title/>
</cp:coreProperties>
</file>