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1F9-1619-4BA9-B6BD-E2F94D65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359-8BED-4F52-86CB-43AEEEE8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964-E511-4872-8636-DA33C610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C12-22B5-4646-B812-53278E82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2E14-755E-4BCB-9018-4A09A08B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1491-3FBE-485C-A668-D94D0677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AA8D-79A6-44D3-B44B-5841902D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E257-3A32-4ED2-88A5-04C02734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5A32-DCEB-46D7-A7AE-66F3E3A8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6C6D-DBE7-4785-924E-6AEB932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36DC-3629-4505-B592-D2ADCAA0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12C-DA85-49E8-89E8-DF928723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AD10-98FE-4F2A-A055-ED7C7667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F6E6-C8CA-40CC-9920-8E20A59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806C-E24D-4DEE-B261-79F6ED52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DEEF-5CC3-414C-9F45-ECBD3494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A7BB-A121-4298-A86D-979F2F9F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F9D-B258-48C6-999E-B5DD4C38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922-D20D-45F2-A32B-A0578E72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428-5736-4B5E-9864-616C1070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CE0-5666-440C-A8DD-E2A434BC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133-9049-43BA-B0D9-3C295FE9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3B7-3EDE-4355-BD59-25934C5D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0A1-7298-47A0-85C4-E69F2B57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1740-6568-4D5E-833E-79E3E00BDAE0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4815-8363-466F-AB34-B9E19C9781C8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b7"/>
                </a:solidFill>
                <a:uFillTx/>
                <a:latin typeface="Arial Black"/>
                <a:ea typeface="標楷體"/>
              </a:rPr>
              <a:t>綠色化學的原則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279440" y="270972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286000"/>
            <a:ext cx="740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Anastas &amp; Warner (1998)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的十二條原則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化工技術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9(12), 128,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避免廢棄物的生成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從</a:t>
            </a:r>
            <a:r>
              <a:rPr b="1" i="1" lang="zh-TW" sz="24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源頭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防治污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使得製程中所採用的原料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進入最終產品之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使得所使用與產生的物質對人體健康和環境無毒無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使得產品具有高效的功能與最低的毒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避免使用溶劑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分離試劑等助劑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如不可避免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也要選用無毒無害的助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200"/>
            <a:ext cx="8385120" cy="9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b7"/>
                </a:solidFill>
                <a:latin typeface="Arial Black"/>
              </a:rPr>
              <a:t>Use of Structure-Activity Relationship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950760" y="193824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近年來分子模擬的主要工作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; sometimes called structure – property relationshi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From qualitative relationship to quantitative structure activity relationships (QSAR);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後者定量關係之建立可以靠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i) correlation; or (ii) molecular simulation;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用於發展藥物的技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me 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28180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11280" y="4000680"/>
            <a:ext cx="8459640" cy="144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63480" y="2874960"/>
            <a:ext cx="80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Polyeoxylated nonylphenols: as surfactants/emulsifier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8200" y="539604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Glycidyl ethers: as reagents for synthesi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b7"/>
                </a:solidFill>
                <a:latin typeface="Arial Black"/>
              </a:rPr>
              <a:t>Isosteric Replac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23840" y="1700280"/>
            <a:ext cx="765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一個新的定義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: isosteres – chemical substances, atoms, or substituents that possess near equal or similar molecular shape and volume, approximately the same distribution of electrons, and which exhibit similar physicochemical proper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5400720" cy="1946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64200" y="4437000"/>
            <a:ext cx="27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範例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三者皆為液體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12 &amp; 41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沸點皆為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81</a:t>
            </a:r>
            <a:r>
              <a:rPr b="0" lang="zh-TW" sz="2400" spc="-1" strike="noStrike" baseline="30000">
                <a:solidFill>
                  <a:srgbClr val="ffffff"/>
                </a:solidFill>
                <a:latin typeface="Tahoma"/>
                <a:ea typeface="標楷體"/>
              </a:rPr>
              <a:t>o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C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4527360" cy="4824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08720" y="2011320"/>
            <a:ext cx="33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Metallized azo dy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M= Cr (tox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M = Fe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色澤類似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但不具毒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ther Techniqu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950760" y="1866960"/>
            <a:ext cx="7869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i="1" lang="zh-TW" sz="24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retrometabolic design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soft drug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觀念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i.e.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該物質很容易被新陳代謝作用轉換掉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e.g. hydrolysis step;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因而毒性降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i="1" lang="zh-TW" sz="24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Equally useful, less toxic substitutes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例如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acetoacetate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取代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isocyanate in sealant and adhesive; isothiazolones for organotin as antifoulant for ships;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i="1" lang="zh-TW" sz="24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Elimination of the need for associated toxic substances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該物質本身無毒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但其輸送儲存時會用到毒性物質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e.g.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油漆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水性比油性好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no or less VOC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esigning Biodegradable Chemical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808200" y="1700280"/>
            <a:ext cx="79405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p.157-171, ACS 640, 1996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Microbial degradation is the major loss mechanism for most organic chemical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一般會增加生物分解阻力者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: (a)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含鹵素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, esp. Cl, F; (b)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太多支鏈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, branched, such as quaternary C or tertiary N; (c) nitro-, nitroso- azo- arylamino groups; (d) polycyclic residues,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尤其是超過三個以上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; (e) aliphatic ether bonds, C-O-C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i="1" lang="zh-TW" sz="28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生物法合成的東西大概都可以被生物分解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degradable Chemicals (2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808200" y="1722600"/>
            <a:ext cx="794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比較喜歡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引入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oxygen in the form of hydroxyl, aldehydic, carboxylic; unsubstituted linear alkyl chains (&gt;4) and phenyl rings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3456000" cy="2157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4895640" cy="145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23840" y="5157720"/>
            <a:ext cx="77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TPBS: tetrapropylene akylbenzene sulfonat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LAS: linear alkylbenzene sulfo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後者比前者容易被生物分解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一般用途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清潔劑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193080" cy="1638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5977080" cy="1871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4360" y="4859280"/>
            <a:ext cx="820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前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Ethoxylated ethanaminium quaternary ammonium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後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ester analog of previous compound;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比較容易為生物分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360" y="722160"/>
            <a:ext cx="57528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ffb7"/>
                </a:solidFill>
                <a:uFillTx/>
                <a:latin typeface="Tahoma"/>
                <a:ea typeface="標楷體"/>
              </a:rPr>
              <a:t>綠色化學的原則 </a:t>
            </a:r>
            <a:r>
              <a:rPr b="1" lang="zh-TW" sz="3200" spc="-1" strike="noStrike" u="sng">
                <a:solidFill>
                  <a:srgbClr val="ffffb7"/>
                </a:solidFill>
                <a:uFillTx/>
                <a:latin typeface="Tahoma"/>
                <a:ea typeface="標楷體"/>
              </a:rPr>
              <a:t>(2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127160" y="217656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降低製程的能耗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最好在溫和的溫度與壓力下進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在技術可行和經濟合理的前提下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降量採用可再生資源代替消耗性資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避免使用與產生不必要的衍生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選用高選擇性的催化劑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這比使用化學劑量助劑更優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改用溫和的生物製程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酵素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生物觸媒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進量使產品在其成功終結後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不會永存於環境中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要能分解成無害的物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27120"/>
            <a:ext cx="5589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ffb7"/>
                </a:solidFill>
                <a:uFillTx/>
                <a:latin typeface="Arial Black"/>
                <a:ea typeface="標楷體"/>
              </a:rPr>
              <a:t>綠色化學的原則 </a:t>
            </a:r>
            <a:r>
              <a:rPr b="1" lang="zh-TW" sz="3200" spc="-1" strike="noStrike" u="sng">
                <a:solidFill>
                  <a:srgbClr val="ffffb7"/>
                </a:solidFill>
                <a:uFillTx/>
                <a:latin typeface="Arial Black"/>
                <a:ea typeface="標楷體"/>
              </a:rPr>
              <a:t>(3)</a:t>
            </a:r>
            <a:r>
              <a:rPr b="1" lang="zh-TW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203480" y="2328840"/>
            <a:ext cx="740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儘量在製程中即時線上監控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有可能產生的有害物質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並儘量避免產生這些有害物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儘量使用與產生可降低意外事故如洩漏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爆炸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火災等的化學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0560" y="817560"/>
            <a:ext cx="5672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cc00"/>
                </a:solidFill>
                <a:latin typeface="Arial Black"/>
              </a:rPr>
              <a:t>綠色化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2997360"/>
            <a:ext cx="2664000" cy="143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Chem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2060640"/>
            <a:ext cx="165564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替代性原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無毒性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低毒性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3573360"/>
            <a:ext cx="165600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替代性溶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zh-TW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870440"/>
            <a:ext cx="165600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新觸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更有效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5080" y="4870440"/>
            <a:ext cx="165564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生物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生物觸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27640" y="3500280"/>
            <a:ext cx="165600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替代性產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2133720"/>
            <a:ext cx="187200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提升製程效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ign Safer Chemic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6002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藉由分子設計概念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使用各種合成化學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(organic/ inorganic)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得到比較安全的化學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早期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focus: </a:t>
            </a:r>
            <a:r>
              <a:rPr b="0" i="1" lang="zh-TW" sz="28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efficacy of chemicals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, i.e.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效用好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成本低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;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如今修正為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必須</a:t>
            </a:r>
            <a:r>
              <a:rPr b="0" i="1" lang="zh-TW" sz="28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注重對環境與與健康安全的影響與衝擊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(or </a:t>
            </a:r>
            <a:r>
              <a:rPr b="1" i="1" lang="zh-TW" sz="28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毒性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Green Chemistry is a source prevention approach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new chemical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structural design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safe and efficac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existing chemicals (toxic)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structural redesign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safe and efficac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neral Approach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47920" y="3854520"/>
            <a:ext cx="6629400" cy="2851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46280" y="1447920"/>
            <a:ext cx="504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Reducing absorption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Use of toxic mechan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Use of </a:t>
            </a:r>
            <a:r>
              <a:rPr b="1" i="1" lang="zh-TW" sz="24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structural-activity 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Use of isosteric repla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Use of retrometabolic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144792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Identification of equally efficacious, less toxic chemical substit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Elimination of the need for associated toxic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00920" y="5322960"/>
            <a:ext cx="17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ACS, 640,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09680" y="709560"/>
            <a:ext cx="62928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b7"/>
                </a:solidFill>
                <a:latin typeface="Arial Black"/>
              </a:rPr>
              <a:t>減少吸收 – 降低效應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09880"/>
            <a:ext cx="816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毒性物質之生物化學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知其原因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才有對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影響吸收的因素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physicochemical factors – molecular size, MW, dissociation constant, solubility, lipophilicity, physical state (G, L or S), particle siz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細胞膜內含有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lipid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所以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lipid solubility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在腸胃內吸收角色重要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      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表面積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m</a:t>
            </a:r>
            <a:r>
              <a:rPr b="0" lang="zh-TW" sz="2400" spc="-1" strike="noStrike" baseline="30000">
                <a:solidFill>
                  <a:srgbClr val="ffffff"/>
                </a:solidFill>
                <a:latin typeface="Tahoma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)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吸收層厚度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m) 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血流速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L/m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皮膚   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1.8              100-1000           0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小腸 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200                   8-12               1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肺部 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140                0.2-0.4              5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Designing safer chemicals, ACS 640,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20720" y="528480"/>
            <a:ext cx="63676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xic Mechanis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1916280"/>
            <a:ext cx="26640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Electrophilic chemic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sub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1866960"/>
            <a:ext cx="30240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Electrophilic metabol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(from metabolis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78136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3284640"/>
            <a:ext cx="374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720" y="278136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3284640"/>
            <a:ext cx="0" cy="288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3573360"/>
            <a:ext cx="4608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357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4365720"/>
            <a:ext cx="32400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Reactions with nucleoph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With defensive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4365720"/>
            <a:ext cx="33116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Reactions with nucleoph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Of non-defensive cell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Molecules, DNA, RNA, et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3573360"/>
            <a:ext cx="0" cy="7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48360" y="3573360"/>
            <a:ext cx="0" cy="7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4836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5516640"/>
            <a:ext cx="73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   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excretion                                    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35120" y="366696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Path I                                       Path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ral Modific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773360"/>
            <a:ext cx="338472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1-(alkoxy)-2-propan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R-O-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標楷體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-C(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標楷體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)-H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2997360"/>
            <a:ext cx="338472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1-(alkoxy)-1-propan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R-O-CH(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標楷體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)-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標楷體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227664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350028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72200" y="203508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No 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72200" y="3235320"/>
            <a:ext cx="13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4508640"/>
            <a:ext cx="3313080" cy="649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Hex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5372280"/>
            <a:ext cx="3313080" cy="649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2,5-dimethyl hex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486900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566100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00560" y="4627440"/>
            <a:ext cx="22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Neuro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72200" y="5396040"/>
            <a:ext cx="19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No toxicity expected; BP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增加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40</a:t>
            </a:r>
            <a:r>
              <a:rPr b="0" lang="zh-TW" sz="2400" spc="-1" strike="noStrike" baseline="30000">
                <a:solidFill>
                  <a:srgbClr val="ffffff"/>
                </a:solidFill>
                <a:latin typeface="Tahoma"/>
                <a:ea typeface="標楷體"/>
              </a:rPr>
              <a:t>o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251460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藉由改變新陳代謝路徑達成降低毒性效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绿色化学 原则</cp:keywords>
  <dc:language>en-US</dc:language>
  <cp:lastModifiedBy/>
  <cp:revision>0</cp:revision>
  <dc:subject/>
  <dc:title/>
</cp:coreProperties>
</file>