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  <p:custShowLst>
    <p:custShow name="自定义放映3" id="0">
      <p:sldLst>
        <p:sld r:id="rId14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63B-D5A1-492C-8214-A9FA50B3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92C-C762-4E20-9747-FC767F2E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69FF-2063-4DFF-A3DB-EDE6D85C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F95-38C8-4834-AFBD-0FBBAA56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7848-BAF6-4BF7-A7ED-8A98C993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78C9-B41F-4FBE-93DF-CB72882B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3B85-0E07-44D1-81B9-8E0522E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D88D-CA60-4B2C-9CA9-EF9A99CF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CCA8-9B72-41FF-A87F-CCB3ACE3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499-1F1B-4CBD-BFC0-217F6D6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726F-63E0-4540-ADBC-D96EC84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22E-E0B9-49A2-B7B3-BA81F5B1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232-9244-45E5-8606-89E0CAF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BC53-9A75-4883-87D9-A4D432DC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F48-2176-4BDD-A794-9893E01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BA4-7756-48A7-B2F3-EFB0060B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F78E-5A60-44DB-8EBD-6C48AA29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98B-CFA0-44B2-88BF-D00ED2F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CD3-074C-49E3-B250-5BF28FB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B2B-40B9-4880-BB9A-BD61BD0D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300-703B-4066-8829-514E396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D2D-CFB7-4AB8-B4E7-6BC4C1C2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69D-2B62-412D-9FD3-D42EDB0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9A7-89A5-4729-A349-6632325A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6EBA-3861-4465-BFCD-27640E60D1EA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E2B9-7D5D-4C41-9DFA-442D4F4A3E9B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ahoma"/>
                <a:ea typeface="隶书"/>
              </a:rPr>
              <a:t>普通高中</a:t>
            </a:r>
            <a:br>
              <a:rPr sz="8000"/>
            </a:br>
            <a:r>
              <a:rPr b="1" lang="zh-CN" sz="8000" spc="-1" strike="noStrike">
                <a:solidFill>
                  <a:srgbClr val="ffffff"/>
                </a:solidFill>
                <a:latin typeface="Tahoma"/>
                <a:ea typeface="隶书"/>
              </a:rPr>
              <a:t>历史课程标准解读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华文彩云"/>
              </a:rPr>
              <a:t>三、课程设计思路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坚持课改理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明确课程目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优化课程结构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设置学习专题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便于课程实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隶书"/>
                <a:ea typeface="隶书"/>
              </a:rPr>
              <a:t>设置学习专题三原则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2491920"/>
            <a:ext cx="7710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楷体_GB2312"/>
              </a:rPr>
              <a:t>遵循历史学科的特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楷体_GB2312"/>
              </a:rPr>
              <a:t>遵循教育学科的特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楷体_GB2312"/>
              </a:rPr>
              <a:t>适应高中生认知程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第二部分  课程目标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Tahoma"/>
                <a:ea typeface="隶书"/>
              </a:rPr>
              <a:t>  </a:t>
            </a: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历史教育功能的实质就在于全面完成历史课程目标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纵向：三个层度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35080" y="2349000"/>
            <a:ext cx="72676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宏观：总体目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中观：模块目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微观：专题目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横向：三个维度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2640" y="2349000"/>
            <a:ext cx="6567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知识与能力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过程与方法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情感态度与价值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华文彩云"/>
              </a:rPr>
              <a:t>一、知识与能力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2560" y="2362320"/>
            <a:ext cx="777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知识与能力有机结合是历史课程目标特点之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何谓知识？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学科知识与课程知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广义知识与狭义知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历史知识：高中历史课程标准所规定的史实知识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  <a:ea typeface="隶书"/>
              </a:rPr>
              <a:t>知识选择原则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重要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能力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教育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现实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综合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幼圆"/>
                <a:ea typeface="幼圆"/>
              </a:rPr>
              <a:t>适应性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何谓能力？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历史能力：历史学科基本技能、历史思维能力以及社会实践能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智力：记忆力、思维力、注意力、观察力、想象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智能：组织能力、表达能力、操作能力、应变能力、审美能力、创造能力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知识能力的三个层次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列举、知道、了解、说出、讲述、简述、复述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概述、理解、说明、阐述、归纳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运用、分析、综合、比较、探讨、讨论、 评价等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华文彩云"/>
              </a:rPr>
              <a:t>历史课程标准内容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一部分 前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二部分 课程目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三部分 内容标准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四部分 实施建议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ahoma"/>
                <a:ea typeface="华文彩云"/>
              </a:rPr>
              <a:t>二、过程与方法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2858760"/>
            <a:ext cx="75438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过程与方法纳入课程目标是课程改革的突出特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过程与方法既是手段，更是目标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隶书"/>
              </a:rPr>
              <a:t>过  程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接触    巩固     运用   创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善于从不同角度：提出问题、解决问题、总结问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隶书"/>
              </a:rPr>
              <a:t>方  法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82320" y="2781000"/>
            <a:ext cx="258156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幼圆"/>
              </a:rPr>
              <a:t>原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幼圆"/>
              </a:rPr>
              <a:t>程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6960" y="2708280"/>
            <a:ext cx="314316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幼圆"/>
              </a:rPr>
              <a:t>形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幼圆"/>
              </a:rPr>
              <a:t>手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历史学习的一些基本方法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认知学习包括听说、阅读、观察、记忆、思考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实践学习包括练习、收集资料、制作图表、写作、实验、参观、表演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评鉴性学习包括欣赏、研究、总结、评论、创作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交流性学习包括模仿、暗示、讨论、访问、调查、游戏、社会活动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隶书"/>
              </a:rPr>
              <a:t>探究式学习方式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学生主动参与教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善于提出、解决和总结问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独立探究与交流合作相结合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注重实践能力和创新精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  <a:ea typeface="华文彩云"/>
              </a:rPr>
              <a:t>三、情感态度与价值观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拓宽了以往政治思想教育目标的内涵，是课程目标改革的重要特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在学会知识、学会学习的同时，强调学会做人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黑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情感态度与价值观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情感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道德感、美感、理智感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态度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认知成分、情感成分、行为倾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价值观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行为取向、对思想和行为的评价</a:t>
            </a:r>
            <a:r>
              <a:rPr b="1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情感态度与价值观目标功能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幼圆"/>
              </a:rPr>
              <a:t>动力系统：兴趣、动机、情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幼圆"/>
              </a:rPr>
              <a:t>调控系统：意志、气质、性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幼圆"/>
              </a:rPr>
              <a:t>导向系统：道德、思想、政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方正粗圆简体"/>
              </a:rPr>
              <a:t>历史课程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方正粗圆简体"/>
              </a:rPr>
              <a:t>        三维目标的关系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3382920"/>
            <a:ext cx="754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密切联系、不可分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黑体"/>
              </a:rPr>
              <a:t>相互独立、相互制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黑体"/>
              </a:rPr>
              <a:t>俗话三维目标之关系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4400" y="2060640"/>
            <a:ext cx="7869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触景生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有感而发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含而待发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动之以情  晓之以理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示之以行  持之以恒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黑体"/>
                <a:ea typeface="黑体"/>
              </a:rPr>
              <a:t>第一部分 前言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华文彩云"/>
              </a:rPr>
              <a:t>引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华文彩云"/>
              </a:rPr>
              <a:t>一、课程性质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华文彩云"/>
              </a:rPr>
              <a:t>二、课程的基本理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华文彩云"/>
              </a:rPr>
              <a:t>三、课程设计思路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应注意的几个问题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9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课程与学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历史与综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达标与超标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重点与难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关键点与面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132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体系与整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大字与小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目标与过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教学与评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幼圆"/>
              </a:rPr>
              <a:t>教学与科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第三部分 内容标准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一、必修课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历史（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历史（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历史（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819520" y="2743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二、选修课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一）历史上重大改革回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二）近代社会的民主思想与实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三）</a:t>
            </a: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世纪的战争与和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四）中外历史人物评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五）探索历史的奥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彩云"/>
                <a:ea typeface="华文彩云"/>
              </a:rPr>
              <a:t>（六）世界文化遗产荟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  <a:ea typeface="华文彩云"/>
              </a:rPr>
              <a:t>一、必修课程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历史</a:t>
            </a:r>
            <a:r>
              <a:rPr b="1" lang="zh-CN" sz="6000" spc="-1" strike="noStrike">
                <a:solidFill>
                  <a:srgbClr val="ffffff"/>
                </a:solidFill>
                <a:latin typeface="幼圆"/>
                <a:ea typeface="幼圆"/>
              </a:rPr>
              <a:t>(Ⅰ)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楷体_GB2312"/>
              </a:rPr>
              <a:t>前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楷体_GB2312"/>
              </a:rPr>
              <a:t>学习专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楷体_GB2312"/>
              </a:rPr>
              <a:t>说明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楷体_GB2312"/>
              </a:rPr>
              <a:t>教学活动建议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第四部分 实施建议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彩云"/>
              </a:rPr>
              <a:t>一、教学建议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彩云"/>
              </a:rPr>
              <a:t>二、评价建议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彩云"/>
              </a:rPr>
              <a:t>三、教科书编写建议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彩云"/>
              </a:rPr>
              <a:t>四、课程资源的利用与开发建议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华文彩云"/>
              </a:rPr>
              <a:t>一、教学建议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完整、准确地把握历史教学目标及内容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处理好教与学的关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及时对教学进行客观有效的评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华文彩云"/>
              </a:rPr>
              <a:t>二、评价建议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评价的性质与功能：定性定量的价值判断；导向功能、诊断功能、激励功能和促进功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评价的主要对象、内容和依据：以学生为主体；考察知识与能力、过程与方法、情感态度与价值观；以历史课程标准为主要依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评价方法：考试、历史习作、综合实践活动、历史学习档案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三、教科书编写建议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的性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编写依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知识内容的选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的教学目标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的呈现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的教学评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幼圆"/>
              </a:rPr>
              <a:t>健全高中历史教材体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的性质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中历史教科书是依据课程标准编制的历史教学用书，是高中历史课程的重要组成部分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中历史课程的性质决定了历史教科书的性质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编写依据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依据高中历史课程标准和课程计划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尊重历史学科特点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考虑不同地区、学校和学生的实际情况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遵从国家的法律法规和方针政策。</a:t>
            </a:r>
            <a:r>
              <a:rPr b="1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历史教科书知识内容的选择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2819520"/>
          <a:ext cx="27417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2741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利于历史课程目标的全面实现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现基础教育的基础性，坚持少而精的原则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学生为本，体现基础教育的适应性和发展性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挥历史学科的综合性特长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充分体现时代性特点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符合社会发展的需要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3429000"/>
            <a:ext cx="8146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社会发展的需要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国际教育改革的浪潮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1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历史课程存在的问题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0580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华文彩云"/>
              </a:rPr>
              <a:t>引  言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华文彩云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黑体"/>
              </a:rPr>
              <a:t>历史课程改革背景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华文彩云"/>
              </a:rPr>
              <a:t>四、课程资源的利用与与开发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人力资源：教师和学生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教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校图书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网络资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社区课程资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历史题材的影视作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历史遗迹、遗址、博物馆、纪念馆、档案馆、爱国主义教育基地，人文景观、自然景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社会发展的需要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全球化、多极化、多元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国际竞争加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综合国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经济基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科学技术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基础教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  <a:ea typeface="隶书"/>
              </a:rPr>
              <a:t>国际教育改革的浪潮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3048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各国教育改革对我国的影响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紧跟国际基础教育改革步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历史课程存在的问题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理念：忽视科学精神和人文精神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性质：强调学科性，忽视课程性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容：“难、繁、偏、旧”现象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过程：忽视课程目标全面完成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一、课程性质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历史性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幼圆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历史知识为载体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  <a:ea typeface="隶书"/>
              </a:rPr>
              <a:t>课程性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幼圆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ahoma"/>
                <a:ea typeface="幼圆"/>
              </a:rPr>
              <a:t>素质教育为目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  <a:ea typeface="华文彩云"/>
              </a:rPr>
              <a:t>二、基本理念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4495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以学生发展为本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遵循基础性、多样性和发展性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0" y="1699920"/>
            <a:ext cx="4572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体现课程性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全面落实课程目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改进教学方法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隶书"/>
              </a:rPr>
              <a:t>健全评价机制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历史课程 标准 解读</cp:keywords>
  <dc:language>en-US</dc:language>
  <cp:lastModifiedBy/>
  <cp:revision>0</cp:revision>
  <dc:subject/>
  <dc:title/>
</cp:coreProperties>
</file>