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7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4.gif" ContentType="image/gif"/>
  <Override PartName="/ppt/media/image22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C43-447F-45B8-BFED-3DF1AB33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38B-466E-4F24-BDD6-373F446E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F45-D244-4CF9-A4E9-52829CC6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F24-7F8A-475F-A7E9-FE968040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A17D-DD59-4BE7-8362-AFB6AC3A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C070-D976-454A-AE71-7EB5E904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A8C-3CA8-4D42-BCF0-6C004DF7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AE6B-0D67-4F86-AAC3-B2C56BB4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9BCE-4FC0-4A23-8BB3-83595FCF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C664-8FAB-4B5D-B1C4-DF39004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5FBF-CB31-4B03-A603-AE2DE429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C45-42A6-46D7-9642-750DC2CF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58FA-5838-4DF5-A91B-CB4DD40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564B-B53F-404C-8524-FCC4320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A3F6-08EF-427C-8617-8F1ED5C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460-7A1A-473E-B827-E5F52EE0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FC4D-52AD-43DC-B0E4-A91F7106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68A-D166-4B85-9451-AFBABA71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650-0C77-4377-BC8C-BAA75912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9C9-3003-4117-8284-FFAD1DD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C32-3614-4BEB-909F-918B3751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E4C-9236-470E-927A-191651E7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376-CAC1-4C3C-A9AE-1D06C4B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EA7-3EE9-4FCE-91FB-3E7CA42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1C44-8E51-4E2D-BB74-0035A7F0763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07DE-AB9C-4CC7-B1D7-DE4D05781D8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４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.5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　旅游活动与地理    环境的协调发展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534160" cy="3581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43000" y="17524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_x000b__x000c_"/>
              </a:rPr>
              <a:t>“</a:t>
            </a: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_x000b__x000c_"/>
              </a:rPr>
              <a:t>从明天起，做一个幸福的人，喂马，劈柴，周游世界”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246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-496800"/>
                <a:ext cx="2286000" cy="22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30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359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5546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张家界索道给天生丽质的自然遗产造成了视觉污染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253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255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0" y="-496800"/>
                <a:ext cx="228600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05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250920" y="126828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八达岭宽阔的柏油马路改变了古代军事工程—北门锁钥的真实性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旅游加速石刻、雕塑、壁画古迹的损坏</a:t>
            </a: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石刻、雕塑、壁画是我国重要的旅游资源，尽管在自然条件下也要经历风化作用使其衰竭，但其风化较为缓慢。旅游开发后，随着旅游活动的开展，大量游客不断涌入，加速了自然风化的速度，导致古迹的损坏。我国的三大石窟在自然风化与人为原因（游客涌入，改变石窟小气候）的双重作用下，受到的损坏已极为严重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游客踩踏带来的破坏</a:t>
            </a:r>
            <a:br>
              <a:rPr sz="4400"/>
            </a:b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旅游业逐渐发展，一些著名风景名胜区游客增多，游客的踩踏使地面因磨损而失去原有的特色。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故宫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许多大殿前和内部的路面、地面，因游客密度较大而严重磨损。要发展旅游业，这种破坏是很难避免的，补救措施只能通过定期的补修才能实现。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颐和园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蜿蜒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700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多米的长廊路面的砖，因踩踏每隔几年要更换一次。</a:t>
            </a:r>
            <a:br>
              <a:rPr sz="4000"/>
            </a:b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18288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桂林和杭州两大旅游城市在接待境外游客方面常常不相上下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,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有时桂林甚至超越杭州。但在接待国内游客方面，杭州每年约有２０００万人次，而桂林只有６００－－７００万人次，请分析其原因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0"/>
            <a:ext cx="2438640" cy="12193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分析：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-269640" y="304920"/>
            <a:ext cx="16426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Tahoma"/>
              </a:rPr>
              <a:t>旅游资源开发条件评价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533520"/>
            <a:ext cx="76320" cy="5638680"/>
          </a:xfrm>
          <a:custGeom>
            <a:avLst/>
            <a:gdLst>
              <a:gd name="textAreaLeft" fmla="*/ 48960 w 76320"/>
              <a:gd name="textAreaRight" fmla="*/ 76320 w 76320"/>
              <a:gd name="textAreaTop" fmla="*/ 146880 h 5638680"/>
              <a:gd name="textAreaBottom" fmla="*/ 5491800 h 563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游览价值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152388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市场距离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74320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交通位置及其通达性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457200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地区接待能力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7913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旅游的环境承载量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523880" y="914400"/>
            <a:ext cx="4572000" cy="3371760"/>
            <a:chOff x="1523880" y="914400"/>
            <a:chExt cx="4572000" cy="3371760"/>
          </a:xfrm>
        </p:grpSpPr>
        <p:sp>
          <p:nvSpPr>
            <p:cNvPr id="272" name=""/>
            <p:cNvSpPr/>
            <p:nvPr/>
          </p:nvSpPr>
          <p:spPr>
            <a:xfrm>
              <a:off x="1523880" y="91440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523880" y="914400"/>
              <a:ext cx="4572000" cy="2987280"/>
              <a:chOff x="1523880" y="914400"/>
              <a:chExt cx="4572000" cy="2987280"/>
            </a:xfrm>
          </p:grpSpPr>
          <p:sp>
            <p:nvSpPr>
              <p:cNvPr id="274" name=""/>
              <p:cNvSpPr/>
              <p:nvPr/>
            </p:nvSpPr>
            <p:spPr>
              <a:xfrm>
                <a:off x="1523880" y="914400"/>
                <a:ext cx="4572000" cy="29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523880" y="914400"/>
                <a:ext cx="4572000" cy="29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81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58128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庐山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黄山市地处安徽南端，与浙、赣相邻，是一座依山傍水、古朴典雅的旅游城市，北有黄山、九华山、太平湖，东邻杭州和千岛湖，西有齐云山、蓬莱仙洞、鱼龙洞。新安江横穿市区。市区内有保存完好的“宋街”及清代哲学家戴震纪念馆、明代大数学家程大位故居、明代建筑“程氏三宅”、老大桥、小龙山、狮子山、仙人洞、华山公园和江心洲游乐园等古迹名胜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黄山市的前身是徽州府，“安徽”的名字就由安庆和徽州二府的首字结合而成。徽州自秦置歙、黟二县，至今已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220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sө_x0002_"/>
              </a:rPr>
              <a:t>多年历史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    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3640" cy="5114520"/>
            <a:chOff x="0" y="0"/>
            <a:chExt cx="9143640" cy="5114520"/>
          </a:xfrm>
        </p:grpSpPr>
        <p:sp>
          <p:nvSpPr>
            <p:cNvPr id="280" name=""/>
            <p:cNvSpPr/>
            <p:nvPr/>
          </p:nvSpPr>
          <p:spPr>
            <a:xfrm>
              <a:off x="0" y="0"/>
              <a:ext cx="9143640" cy="51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0" y="0"/>
              <a:ext cx="9143280" cy="2142720"/>
              <a:chOff x="0" y="0"/>
              <a:chExt cx="9143280" cy="2142720"/>
            </a:xfrm>
          </p:grpSpPr>
          <p:sp>
            <p:nvSpPr>
              <p:cNvPr id="282" name=""/>
              <p:cNvSpPr/>
              <p:nvPr/>
            </p:nvSpPr>
            <p:spPr>
              <a:xfrm>
                <a:off x="0" y="0"/>
                <a:ext cx="9143280" cy="21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0"/>
                <a:ext cx="9143280" cy="2142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         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明代地理学家徐霞客两游黄山，留下“</a:t>
                </a:r>
                <a:r>
                  <a:rPr b="0" lang="zh-CN" sz="4000" spc="-1" strike="noStrike">
                    <a:solidFill>
                      <a:srgbClr val="cc0000"/>
                    </a:solidFill>
                    <a:latin typeface="Times New Roman"/>
                  </a:rPr>
                  <a:t>五岳归来不看山，黄山归来不看岳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”的赞誉。黄山以“奇松、怪石、云海、温泉”四绝著称于世。其二湖、三瀑、十六泉、二十四溪相映争辉。</a:t>
                </a:r>
                <a:r>
                  <a:rPr b="0" lang="zh-CN" sz="4000" spc="-1" strike="noStrike">
                    <a:solidFill>
                      <a:srgbClr val="cc3300"/>
                    </a:solidFill>
                    <a:latin typeface="Times New Roman"/>
                  </a:rPr>
                  <a:t>泰山之雄伟、华山之峻峭、衡山之烟云、匡庐之飞瀑、雁荡之巧石、峨嵋之 清凉，</a:t>
                </a: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黄山无不兼而有之。黄山四季景色各异，日出、晚霞、华彩、佛光和雾淞等时令景观各得其趣，真可谓人间仙境。</a:t>
                </a:r>
                <a:br>
                  <a:rPr sz="4000"/>
                </a:br>
                <a:r>
                  <a:rPr b="0" lang="zh-CN" sz="4000" spc="-1" strike="noStrike">
                    <a:solidFill>
                      <a:srgbClr val="40458c"/>
                    </a:solidFill>
                    <a:latin typeface="Times New Roman"/>
                  </a:rPr>
                  <a:t>    黄山还兼有“天然动物园和天下植物园”的称。 黄山还将以它雄奇的容貌迎接四海经宾客。 </a:t>
                </a:r>
                <a:br>
                  <a:rPr sz="4000"/>
                </a:br>
                <a:endParaRPr b="0" lang="en-US" sz="4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8600" y="1743120"/>
            <a:ext cx="8686800" cy="3371760"/>
            <a:chOff x="228600" y="1743120"/>
            <a:chExt cx="8686800" cy="3371760"/>
          </a:xfrm>
        </p:grpSpPr>
        <p:sp>
          <p:nvSpPr>
            <p:cNvPr id="285" name=""/>
            <p:cNvSpPr/>
            <p:nvPr/>
          </p:nvSpPr>
          <p:spPr>
            <a:xfrm>
              <a:off x="228600" y="174312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28600" y="1743120"/>
              <a:ext cx="8686800" cy="1234800"/>
              <a:chOff x="228600" y="1743120"/>
              <a:chExt cx="8686800" cy="1234800"/>
            </a:xfrm>
          </p:grpSpPr>
          <p:sp>
            <p:nvSpPr>
              <p:cNvPr id="287" name=""/>
              <p:cNvSpPr/>
              <p:nvPr/>
            </p:nvSpPr>
            <p:spPr>
              <a:xfrm>
                <a:off x="228600" y="1743120"/>
                <a:ext cx="8686800" cy="123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28600" y="1743120"/>
                <a:ext cx="8686800" cy="1234800"/>
                <a:chOff x="228600" y="1743120"/>
                <a:chExt cx="8686800" cy="12348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28600" y="1743120"/>
                  <a:ext cx="3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8600" y="1743120"/>
                  <a:ext cx="8686800" cy="1234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40458c"/>
                      </a:solidFill>
                      <a:latin typeface="Times New Roman"/>
                    </a:rPr>
                    <a:t>  </a:t>
                  </a:r>
                  <a:r>
                    <a:rPr b="0" lang="zh-CN" sz="7500" spc="-1" strike="noStrike">
                      <a:solidFill>
                        <a:srgbClr val="40458c"/>
                      </a:solidFill>
                      <a:latin typeface="Times New Roman"/>
                    </a:rPr>
                    <a:t> </a:t>
                  </a:r>
                  <a:r>
                    <a:rPr b="0" lang="zh-CN" sz="2400" spc="-1" strike="noStrike">
                      <a:solidFill>
                        <a:srgbClr val="40458c"/>
                      </a:solidFill>
                      <a:latin typeface="Times New Roman"/>
                    </a:rPr>
                    <a:t>                  </a:t>
                  </a: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3316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505320" y="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奇松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3657600" cy="2992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4191120" cy="29923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048200" y="39164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31240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温泉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35680" y="1905120"/>
            <a:ext cx="164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怪石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2408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云海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380880" y="2362320"/>
            <a:ext cx="8763120" cy="3580920"/>
            <a:chOff x="380880" y="2362320"/>
            <a:chExt cx="8763120" cy="3580920"/>
          </a:xfrm>
        </p:grpSpPr>
        <p:sp>
          <p:nvSpPr>
            <p:cNvPr id="211" name=""/>
            <p:cNvSpPr/>
            <p:nvPr/>
          </p:nvSpPr>
          <p:spPr>
            <a:xfrm>
              <a:off x="380880" y="2362320"/>
              <a:ext cx="7031880" cy="35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380880" y="2362320"/>
              <a:ext cx="8763120" cy="2554200"/>
              <a:chOff x="380880" y="2362320"/>
              <a:chExt cx="8763120" cy="2554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80880" y="2362320"/>
                <a:ext cx="8763120" cy="255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0880" y="2362320"/>
                <a:ext cx="8763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5400" spc="-1" strike="noStrike">
                    <a:solidFill>
                      <a:srgbClr val="cc3300"/>
                    </a:solidFill>
                    <a:latin typeface="Times New Roman"/>
                  </a:rPr>
                  <a:t>旅游业 真的是“无烟工业”吗</a:t>
                </a:r>
                <a:r>
                  <a:rPr b="0" lang="zh-CN" sz="5400" spc="-1" strike="noStrike">
                    <a:solidFill>
                      <a:srgbClr val="cc3300"/>
                    </a:solidFill>
                    <a:latin typeface="Times New Roman"/>
                  </a:rPr>
                  <a:t>?</a:t>
                </a:r>
                <a:endParaRPr b="0" lang="en-US" sz="54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6400800" y="304920"/>
            <a:ext cx="2133720" cy="1523880"/>
          </a:xfrm>
          <a:prstGeom prst="cloudCallout">
            <a:avLst>
              <a:gd name="adj1" fmla="val -102231"/>
              <a:gd name="adj2" fmla="val 8729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思考</a:t>
            </a: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01000" cy="56484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00400" y="5851440"/>
            <a:ext cx="55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ahoma"/>
              </a:rPr>
              <a:t>天柱山飞来峰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57480" y="2492280"/>
            <a:ext cx="6629400" cy="1874880"/>
            <a:chOff x="1257480" y="2492280"/>
            <a:chExt cx="6629400" cy="1874880"/>
          </a:xfrm>
        </p:grpSpPr>
        <p:sp>
          <p:nvSpPr>
            <p:cNvPr id="303" name=""/>
            <p:cNvSpPr/>
            <p:nvPr/>
          </p:nvSpPr>
          <p:spPr>
            <a:xfrm>
              <a:off x="1257480" y="249228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57480" y="2492280"/>
              <a:ext cx="662940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0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 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487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457200" y="5486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擎天一柱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57480" y="2217600"/>
            <a:ext cx="6629400" cy="2422440"/>
            <a:chOff x="1257480" y="2217600"/>
            <a:chExt cx="6629400" cy="2422440"/>
          </a:xfrm>
        </p:grpSpPr>
        <p:sp>
          <p:nvSpPr>
            <p:cNvPr id="308" name=""/>
            <p:cNvSpPr/>
            <p:nvPr/>
          </p:nvSpPr>
          <p:spPr>
            <a:xfrm>
              <a:off x="1257480" y="221760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57480" y="2217600"/>
              <a:ext cx="6629400" cy="24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zh-CN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876920" y="54864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天柱山佛光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-496800"/>
            <a:ext cx="9144000" cy="7851600"/>
            <a:chOff x="0" y="-496800"/>
            <a:chExt cx="9144000" cy="7851600"/>
          </a:xfrm>
        </p:grpSpPr>
        <p:sp>
          <p:nvSpPr>
            <p:cNvPr id="314" name=""/>
            <p:cNvSpPr/>
            <p:nvPr/>
          </p:nvSpPr>
          <p:spPr>
            <a:xfrm>
              <a:off x="0" y="-496800"/>
              <a:ext cx="7040520" cy="785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0" y="-496800"/>
              <a:ext cx="9144000" cy="5965560"/>
              <a:chOff x="0" y="-496800"/>
              <a:chExt cx="9144000" cy="596556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-496800"/>
                <a:ext cx="9144000" cy="59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-496800"/>
                <a:ext cx="2286000" cy="222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  </a:t>
                </a:r>
                <a:r>
                  <a:rPr b="0" lang="zh-CN" sz="13100" spc="-1" strike="noStrike">
                    <a:solidFill>
                      <a:srgbClr val="40458c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40458c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944640"/>
            <a:ext cx="9144000" cy="5913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23880" y="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黄山人满为患，土壤板结，对植被构成了威胁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321" name=""/>
            <p:cNvSpPr/>
            <p:nvPr/>
          </p:nvSpPr>
          <p:spPr>
            <a:xfrm>
              <a:off x="0" y="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0"/>
              <a:ext cx="914364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 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0458c"/>
                  </a:solidFill>
                  <a:latin typeface="Times New Roman"/>
                </a:rPr>
                <a:t>         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以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九寨沟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为例，在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992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年世界自然保护联盟高级督察员桑塞尔在参观完九寨沟之后，留下了一句忠告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: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“</a:t>
              </a:r>
              <a:r>
                <a:rPr b="0" lang="zh-CN" sz="3600" spc="-1" strike="noStrike">
                  <a:solidFill>
                    <a:srgbClr val="080808"/>
                  </a:solidFill>
                  <a:latin typeface="Times New Roman"/>
                </a:rPr>
                <a:t>旅游是对景区最严重的挑战，游客增加就会损害景观本身，带来很多不利的影响。所以旅游开发要相当谨慎。”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他还认为当年九寨沟接待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3.9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万名旅客，已经是极限。可到了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1998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年，这一数字是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38.5</a:t>
              </a:r>
              <a:r>
                <a:rPr b="0" lang="zh-CN" sz="3600" spc="-1" strike="noStrike">
                  <a:solidFill>
                    <a:srgbClr val="cc3300"/>
                  </a:solidFill>
                  <a:latin typeface="Times New Roman"/>
                </a:rPr>
                <a:t>万人！目前，景区内不少地方已经出现程度不一的水土流失，大部分水土流失的发生是由于游客过量的践踏造成的。</a:t>
              </a:r>
              <a:r>
                <a:rPr b="0" lang="zh-CN" sz="3600" spc="-1" strike="noStrike">
                  <a:solidFill>
                    <a:srgbClr val="40458c"/>
                  </a:solidFill>
                  <a:latin typeface="Times New Roman"/>
                </a:rPr>
                <a:t>　　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85800" y="0"/>
            <a:ext cx="3352680" cy="1143000"/>
          </a:xfrm>
          <a:prstGeom prst="cloudCallout">
            <a:avLst>
              <a:gd name="adj1" fmla="val -54402"/>
              <a:gd name="adj2" fmla="val 11972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案例分析</a:t>
            </a: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30492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试一试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7524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结合所学知识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试分析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黄山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和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庐山</a:t>
            </a: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两地旅游资源开发条件优劣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276720" y="3505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庐山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343400" cy="44197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495680" cy="424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57200" y="44197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ahoma"/>
              </a:rPr>
              <a:t>黄山简图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91320" y="76212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庐山简图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3623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7760" y="21034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5" name="" descr="牯岭山城.jpg (13184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419720" y="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Tahoma"/>
              </a:rPr>
              <a:t>庐山牿岭镇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459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8" name="" descr="map.gif (77089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8600" y="304920"/>
            <a:ext cx="8686800" cy="457200"/>
            <a:chOff x="228600" y="304920"/>
            <a:chExt cx="8686800" cy="457200"/>
          </a:xfrm>
        </p:grpSpPr>
        <p:sp>
          <p:nvSpPr>
            <p:cNvPr id="341" name=""/>
            <p:cNvSpPr/>
            <p:nvPr/>
          </p:nvSpPr>
          <p:spPr>
            <a:xfrm>
              <a:off x="228600" y="304920"/>
              <a:ext cx="8686800" cy="457200"/>
            </a:xfrm>
            <a:prstGeom prst="rect">
              <a:avLst/>
            </a:prstGeom>
            <a:solidFill>
              <a:srgbClr val="ff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28600" y="304920"/>
              <a:ext cx="8686800" cy="457200"/>
              <a:chOff x="228600" y="304920"/>
              <a:chExt cx="8686800" cy="457200"/>
            </a:xfrm>
          </p:grpSpPr>
          <p:sp>
            <p:nvSpPr>
              <p:cNvPr id="343" name=""/>
              <p:cNvSpPr/>
              <p:nvPr/>
            </p:nvSpPr>
            <p:spPr>
              <a:xfrm>
                <a:off x="228600" y="304920"/>
                <a:ext cx="8686800" cy="457200"/>
              </a:xfrm>
              <a:prstGeom prst="rect">
                <a:avLst/>
              </a:prstGeom>
              <a:solidFill>
                <a:srgbClr val="ff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ff0000"/>
                    </a:solidFill>
                    <a:latin typeface="Times New Roman"/>
                  </a:rPr>
                  <a:t>从苏沪杭旅游的火爆看旅游资源的开发</a:t>
                </a:r>
                <a:br>
                  <a:rPr sz="4800"/>
                </a:br>
                <a:r>
                  <a:rPr b="0" lang="zh-CN" sz="1000" spc="-1" strike="noStrike">
                    <a:solidFill>
                      <a:srgbClr val="ff0000"/>
                    </a:solidFill>
                    <a:latin typeface="Times New Roman"/>
                  </a:rPr>
                  <a:t>[ </a:t>
                </a:r>
                <a:endParaRPr b="0" lang="en-US" sz="10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04920"/>
                <a:ext cx="8686800" cy="4572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5" name=""/>
          <p:cNvSpPr/>
          <p:nvPr/>
        </p:nvSpPr>
        <p:spPr>
          <a:xfrm>
            <a:off x="914400" y="19810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得天独厚的地理条件，紧靠大城市，交通便利，苏杭之间有夕发朝至的轮船，很受欢迎，黄金周期间无法买到船票，另外公路交通也很方便；去浙江西塘从上海乘火车到嘉善下车后乘中巴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7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元既到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旅游资源的密集，华东五市不仅旅游景点多，而且密集，借助其它景点的知名度，提高自己的品牌。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、借势宣传，人们都知道“上有天堂、下有苏杭”，这是不需要任何广告费的最好宣传。</a:t>
            </a:r>
            <a:br>
              <a:rPr sz="2400"/>
            </a:b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172200" y="304920"/>
            <a:ext cx="2971800" cy="1523880"/>
          </a:xfrm>
          <a:prstGeom prst="cloudCallout">
            <a:avLst>
              <a:gd name="adj1" fmla="val -79805"/>
              <a:gd name="adj2" fmla="val 8729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想一想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23623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旅游活动中存在什么问题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?</a:t>
            </a:r>
            <a:r>
              <a:rPr b="0" lang="zh-CN" sz="5400" spc="-1" strike="noStrike">
                <a:solidFill>
                  <a:srgbClr val="cc3300"/>
                </a:solidFill>
                <a:latin typeface="Tahoma"/>
              </a:rPr>
              <a:t>哪些是游客造成的？这些问题有何危害？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88390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关于旅游经济价值的正确叙述是：　（　</a:t>
            </a:r>
            <a:r>
              <a:rPr b="1" lang="zh-CN" sz="6000" spc="-1" strike="noStrike">
                <a:solidFill>
                  <a:srgbClr val="cc3300"/>
                </a:solidFill>
                <a:latin typeface="Tahoma"/>
              </a:rPr>
              <a:t>　　</a:t>
            </a: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　）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任何游览区的旅游经济价值都与其游览价值　　成正比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旅游经济价值基本取决于旅游区域旅游消费　　市场的距离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经济距离越长，旅游者对旅游目的地的需求　　越大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D</a:t>
            </a: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、交通位置及其通达性也会影响旅游资源的经　　济价值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9144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Tahoma"/>
              </a:rPr>
              <a:t>D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-1219320" y="-533520"/>
            <a:ext cx="10896840" cy="76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633840" y="5114880"/>
            <a:ext cx="41608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3429000" y="1743120"/>
            <a:ext cx="4572000" cy="3371760"/>
            <a:chOff x="3429000" y="1743120"/>
            <a:chExt cx="4572000" cy="3371760"/>
          </a:xfrm>
        </p:grpSpPr>
        <p:sp>
          <p:nvSpPr>
            <p:cNvPr id="351" name=""/>
            <p:cNvSpPr/>
            <p:nvPr/>
          </p:nvSpPr>
          <p:spPr>
            <a:xfrm>
              <a:off x="3429000" y="1743120"/>
              <a:ext cx="4572000" cy="33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429000" y="1743120"/>
              <a:ext cx="4572000" cy="360"/>
              <a:chOff x="3429000" y="1743120"/>
              <a:chExt cx="4572000" cy="36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9000" y="1743120"/>
                <a:ext cx="4572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29000" y="1743120"/>
                <a:ext cx="4572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-30492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28600" y="228600"/>
            <a:ext cx="83818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桂林和杭州两大旅游城市在接待境外游客方面常常不相上下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由是桂林甚至超越杭州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但在接待国内游客方面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杭州每年约有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2000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万人次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而桂林只有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600—700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万人次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请分析其原因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解析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杭州西湖山水秀美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桂林漓江山水奇特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都有较高的审美价值和历史文化价值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都由较高的奇特性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故旅游价值相近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评价一地的旅游资源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需要从游览价值、市场距离、交通位置及其通达性、地区接待能力、旅游的环境承载五方面来思考。对某一地旅游评价当然不一定面面俱到，但可选择对当地产生较大影响的某几方面展开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答案：桂林和杭州的游览价值相近。境外游客比较富裕，以航空交通方式旅行，桂林、杭州对它们来说，市场距离差异小，故接待数量不相上下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首先，国内的游客还不够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-543960" y="304920"/>
            <a:ext cx="16426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80808"/>
                </a:solidFill>
                <a:latin typeface="Tahoma"/>
              </a:rPr>
              <a:t>旅游活动中的环境问题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685800"/>
            <a:ext cx="152640" cy="5562720"/>
          </a:xfrm>
          <a:custGeom>
            <a:avLst/>
            <a:gdLst>
              <a:gd name="textAreaLeft" fmla="*/ 97560 w 152640"/>
              <a:gd name="textAreaRight" fmla="*/ 153000 w 152640"/>
              <a:gd name="textAreaTop" fmla="*/ 145080 h 5562720"/>
              <a:gd name="textAreaBottom" fmla="*/ 541764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环境污染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18288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动植物资源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31240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背景环境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44956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破坏文物古迹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冲击正常社会秩序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6.gif (206859 bytes)"/>
          <p:cNvPicPr/>
          <p:nvPr/>
        </p:nvPicPr>
        <p:blipFill>
          <a:blip r:embed="rId1"/>
          <a:stretch/>
        </p:blipFill>
        <p:spPr>
          <a:xfrm>
            <a:off x="6553080" y="4724280"/>
            <a:ext cx="2183040" cy="1855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3.gif (20033 bytes)"/>
          <p:cNvPicPr/>
          <p:nvPr/>
        </p:nvPicPr>
        <p:blipFill>
          <a:blip r:embed="rId2"/>
          <a:stretch/>
        </p:blipFill>
        <p:spPr>
          <a:xfrm>
            <a:off x="6248520" y="609480"/>
            <a:ext cx="219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5029200" cy="3612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762120" y="39625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如图所示会产生什么污染</a:t>
            </a:r>
            <a:r>
              <a:rPr b="0" lang="zh-CN" sz="4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76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大气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8769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固体废弃物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6019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</a:rPr>
              <a:t>水污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91440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</a:rPr>
              <a:t>除了脚印什么也不留下，除了照片什么也不带走。人类应该诗意地栖居在大地之上！”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80808"/>
                </a:solidFill>
                <a:latin typeface="Times New Roman"/>
              </a:rPr>
              <a:t>　　　　——</a:t>
            </a:r>
            <a:r>
              <a:rPr b="0" lang="zh-CN" sz="4000" spc="-1" strike="noStrike">
                <a:solidFill>
                  <a:srgbClr val="080808"/>
                </a:solidFill>
                <a:latin typeface="Times New Roman"/>
              </a:rPr>
              <a:t>美国旅行者协会制定的生态旅游者十条道德准则之一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04920" y="0"/>
            <a:ext cx="8153280" cy="720720"/>
            <a:chOff x="304920" y="0"/>
            <a:chExt cx="8153280" cy="7207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304920" y="0"/>
              <a:ext cx="815328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304920" y="0"/>
              <a:ext cx="81532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6f89f7"/>
                </a:buClr>
                <a:buSzPct val="110000"/>
                <a:buFont typeface="Wingdings" charset="2"/>
                <a:buChar char="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76960" y="5029200"/>
            <a:ext cx="488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请别随便抛弃我，我要回家”</a:t>
            </a:r>
            <a:r>
              <a:rPr b="0" lang="zh-CN" sz="4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1523880"/>
            <a:ext cx="89154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在一些旅游景点，如云南路南石林，成批的农民到风景区采石，全然不顾自己对本地旅游资源的破坏 ，以致路面石林伤痕累累，不复往日风采。“水作青罗带，山如碧玉昝”的桂林漓江，也由于上游森林过度砍伐，蓄水功能下降，出现了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8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公里游览河段竟然仅能通航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</a:rPr>
              <a:t>公里的现象。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0"/>
            <a:ext cx="3124080" cy="1371600"/>
          </a:xfrm>
          <a:prstGeom prst="cloudCallout">
            <a:avLst>
              <a:gd name="adj1" fmla="val -44967"/>
              <a:gd name="adj2" fmla="val 70023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真有此事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0880" y="1628640"/>
            <a:ext cx="87631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山猪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头，油獾（俗称“猪仔狸”）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3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果子狸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3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夜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绿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白骨顶鸟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董鸡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9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水鸭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4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只，花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，广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6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，眼镜蛇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10</a:t>
            </a: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条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cc3300"/>
                </a:solidFill>
                <a:latin typeface="Tahoma"/>
                <a:ea typeface="_x000b__x000c_"/>
              </a:rPr>
              <a:t>     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380880"/>
            <a:ext cx="8381880" cy="54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紫禁城中该不该设咖啡店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张小圆桌，几把木椅，一个柜台，这是开设在故宫三大殿之一保和殿东南角一个不足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方米的袖珍咖啡座。这家名为“星巴克”的咖啡店从前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下旬开张来就引起众多议论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近来麦当劳也在南京的夫子庙落户，各类“洋品牌”店进驻著名文化景点的现象，再一次引起关注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br>
              <a:rPr sz="4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-380880"/>
            <a:ext cx="3048120" cy="1676160"/>
          </a:xfrm>
          <a:prstGeom prst="cloudCallout">
            <a:avLst>
              <a:gd name="adj1" fmla="val -45625"/>
              <a:gd name="adj2" fmla="val 81819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ahoma"/>
              </a:rPr>
              <a:t>案例分析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旅游活动 地理环境 协调发展</cp:keywords>
  <dc:language>en-US</dc:language>
  <cp:lastModifiedBy/>
  <cp:revision>0</cp:revision>
  <dc:subject/>
  <dc:title/>
</cp:coreProperties>
</file>