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5.png" ContentType="image/png"/>
  <Override PartName="/ppt/media/image27.jpeg" ContentType="image/jpeg"/>
  <Override PartName="/ppt/media/image13.wmf" ContentType="image/x-wmf"/>
  <Override PartName="/ppt/media/image30.wmf" ContentType="image/x-wmf"/>
  <Override PartName="/ppt/media/image6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31.png" ContentType="image/png"/>
  <Override PartName="/ppt/media/image29.wmf" ContentType="image/x-wmf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3C1-2642-4B04-9E51-4C3D75A6D69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穿坪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A8C-ABA4-4FA2-AB2C-EF6A68CD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3EA-120E-4163-BEBF-9C582BAE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607-0405-4200-AA71-0547F5F3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803-5870-47D5-8D06-2D0129A0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031-7279-4E0F-BAB3-6BB0DE95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1B8-8103-4854-9B23-ACFB5287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B8C-6A94-43E0-9C7A-A4E3CCC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BF4-ECC2-4F29-A2DB-4EB362D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E85-591C-42F9-A993-B358F33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22C-8793-4E1D-B694-468460C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C45-2E55-47B7-AAE6-0B1A170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FB6-5783-41DD-9183-0921FEB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787-2FC0-4134-AE47-94C045C9B78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Times New Roman"/>
              </a:rPr>
              <a:t>旅遊與旅遊業  旅遊與旅遊業  旅遊與旅遊業  旅遊與旅遊業  旅遊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solidFill>
            <a:srgbClr val="ff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2400" spc="-1" strike="noStrike">
                <a:solidFill>
                  <a:srgbClr val="cc0099"/>
                </a:solidFill>
                <a:latin typeface="Times New Roman"/>
              </a:rPr>
              <a:t>旅遊與旅遊業   旅遊與旅遊業   旅遊與旅遊業   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724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96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696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cc"/>
                </a:solidFill>
                <a:latin typeface="Times New Roman"/>
              </a:rPr>
              <a:t>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400" spc="-1" strike="noStrike">
                <a:solidFill>
                  <a:srgbClr val="3399ff"/>
                </a:solidFill>
                <a:latin typeface="Times New Roman"/>
              </a:rPr>
              <a:t>旅遊與旅遊業   旅遊與旅遊業   旅遊與旅遊業   旅遊與旅遊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457200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cc"/>
                </a:solidFill>
                <a:latin typeface="Wingdings"/>
                <a:ea typeface="Wingdings"/>
              </a:rPr>
              <a:t>旅遊與旅遊業旅遊與旅遊業旅遊與旅遊業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</a:t>
            </a:r>
            <a:r>
              <a:rPr b="0" lang="zh-TW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旅遊與旅遊業旅遊與旅遊業旅遊與旅遊業旅遊與旅遊業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99ff"/>
                </a:solidFill>
                <a:latin typeface="Wingdings"/>
                <a:ea typeface="Wingdings"/>
              </a:rPr>
              <a:t>旅遊與旅遊業旅遊與旅遊業旅遊與旅遊業旅遊與旅遊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zh-TW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旅遊與旅遊業旅遊與旅遊業旅遊與旅遊業旅遊與旅遊業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400" y="114300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專題習作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43400" y="2819520"/>
            <a:ext cx="9144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411480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旅遊行程設計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43800" y="5257800"/>
            <a:ext cx="762120" cy="48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6094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雀鳥花園有很多各式各樣的雀鳥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可讓外國來的遊客能大開眼介。這裏又富有中國特色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令人聽到周圍都是雀仔聲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,</a:t>
            </a:r>
            <a:r>
              <a:rPr b="0" lang="zh-TW" sz="2400" spc="-1" strike="noStrike">
                <a:solidFill>
                  <a:srgbClr val="ff9900"/>
                </a:solidFill>
                <a:latin typeface="Rockwell Condensed"/>
              </a:rPr>
              <a:t>身心都能感到舒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3962520"/>
            <a:ext cx="3505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正呀</a:t>
            </a: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!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657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657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金魚街</a:t>
            </a:r>
            <a:br>
              <a:rPr sz="2400"/>
            </a:br>
            <a:r>
              <a:rPr b="0" lang="zh-TW" sz="2400" spc="-1" strike="noStrike">
                <a:solidFill>
                  <a:srgbClr val="ff6600"/>
                </a:solidFill>
                <a:latin typeface="Times New Roman"/>
              </a:rPr>
              <a:t>位於通菜街近弼街一段，全段約三百公尺長，以售賣各式觀賞魚及有關用品為主。而且售賣方式獨特，多於店外掛上以透明袋包裝的各類觀賞魚，並標上價錢。客人購買時既清晰又方便。故此街甚受養魚同好歡迎。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特色</a:t>
            </a:r>
            <a:br>
              <a:rPr sz="2400"/>
            </a:br>
            <a:r>
              <a:rPr b="0" lang="zh-TW" sz="2400" spc="-1" strike="noStrike">
                <a:solidFill>
                  <a:srgbClr val="ff6600"/>
                </a:solidFill>
                <a:latin typeface="Times New Roman"/>
              </a:rPr>
              <a:t>由於港人好飼養各式魚類及動物，近年金魚街亦多其他寵物及動物出售。如龍貓、鼠類及兔類等。更有爬蟲類如蜥蝪、蛇、蛙及蝎子等，令人目不暇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7480" y="1192320"/>
            <a:ext cx="6629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Ranchu Tank-11.JPG (23868 bytes)"/>
          <p:cNvPicPr/>
          <p:nvPr/>
        </p:nvPicPr>
        <p:blipFill>
          <a:blip r:embed="rId3"/>
          <a:stretch/>
        </p:blipFill>
        <p:spPr>
          <a:xfrm>
            <a:off x="5029200" y="5334120"/>
            <a:ext cx="304812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381480" y="2209680"/>
            <a:ext cx="2381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600200" y="35812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學號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67080" y="365760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(23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2057400"/>
            <a:ext cx="2209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新細明體"/>
              </a:rPr>
              <a:t>創作人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新細明體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623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1932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752480" y="556272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錄音人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33920" y="5791320"/>
            <a:ext cx="276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新細明體"/>
              </a:rPr>
              <a:t>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我的旅遊對象是誰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3623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0"/>
            <a:ext cx="8305560" cy="1818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就是第一次來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的筆友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她最喜愛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中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國古董、動物、購物和吃東西。所以我就在這兩天裏滿足了她………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她是探奇型的遊客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這次來港主要是觀光式旅遊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所以我就和她去了石板街、金魚街、海洋公園……</a:t>
            </a:r>
            <a:r>
              <a:rPr b="0" lang="zh-TW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286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19320" y="1447920"/>
            <a:ext cx="68580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睇下</a:t>
            </a:r>
            <a:r>
              <a:rPr b="0" lang="en-US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D</a:t>
            </a:r>
            <a:r>
              <a:rPr b="0" lang="zh-CN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行程啦</a:t>
            </a:r>
            <a:r>
              <a:rPr b="0" lang="en-US" sz="2400" spc="1" strike="noStrike">
                <a:ln w="936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!</a:t>
            </a:r>
            <a:endParaRPr b="0" lang="en-US" sz="2400" spc="1" strike="noStrike">
              <a:ln w="936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5638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600200" y="228600"/>
            <a:ext cx="5334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00200" y="9907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到達香港機場</a:t>
            </a: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然後往尖沙咀美麗華酒店。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0" name=""/>
          <p:cNvSpPr txBox="1"/>
          <p:nvPr/>
        </p:nvSpPr>
        <p:spPr>
          <a:xfrm rot="16200">
            <a:off x="2133360" y="0"/>
            <a:ext cx="495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標楷體"/>
              </a:rPr>
              <a:t>兩日一夜之第一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9907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9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20574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0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20574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酒店大堂集合</a:t>
            </a:r>
            <a:r>
              <a:rPr b="0" lang="en-US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,</a:t>
            </a:r>
            <a:r>
              <a:rPr b="0" lang="zh-CN" sz="2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尖沙咀購物。</a:t>
            </a:r>
            <a:endParaRPr b="0" lang="en-US" sz="2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297180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2:0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7400" y="3124080"/>
            <a:ext cx="5410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食油渣麵和香港小食。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3962520"/>
            <a:ext cx="1067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2:45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4114800"/>
            <a:ext cx="678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中環的石板街觀賞和購買古董。</a:t>
            </a:r>
            <a:endParaRPr b="0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0292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1:30a.m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52480" y="5181480"/>
            <a:ext cx="693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旺角「女人街」、「花園街」</a:t>
            </a:r>
            <a:endParaRPr b="0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8800" y="586728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購物。</a:t>
            </a:r>
            <a:endParaRPr b="0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6019920"/>
            <a:ext cx="3686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仲有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o</a:t>
            </a: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架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,</a:t>
            </a: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下頁啦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^_^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077320" y="6019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→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9880" y="6019920"/>
            <a:ext cx="21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*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57400" y="380880"/>
            <a:ext cx="5410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仲有精彩節目接住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o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黎喎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952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3:0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7400" y="13716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金魚街和雀鳥花園。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205740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4:0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3720" y="2209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回酒店休息。</a:t>
            </a:r>
            <a:endParaRPr b="0" lang="en-US" sz="2400" spc="1" strike="noStrike">
              <a:ln w="0">
                <a:noFill/>
              </a:ln>
              <a:solidFill>
                <a:srgbClr val="ff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29718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5:3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30481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酒店食自助餐。</a:t>
            </a:r>
            <a:endParaRPr b="0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98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6:15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362320" y="3886200"/>
            <a:ext cx="2133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往廟街。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464832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7:45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48006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cc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在油麻地感受香港人的夜生活。</a:t>
            </a:r>
            <a:endParaRPr b="0" lang="en-US" sz="2400" spc="1" strike="noStrike">
              <a:ln w="0">
                <a:noFill/>
              </a:ln>
              <a:solidFill>
                <a:srgbClr val="cc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3720" y="54864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無力行喇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返酒店休息啦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5410080"/>
            <a:ext cx="1523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8:30p.m.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95480" y="61722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聽日再玩過</a:t>
            </a: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^_^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81080" y="6172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~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781680" y="61722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~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24480" y="2471760"/>
            <a:ext cx="1371600" cy="131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152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8580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8:00a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99072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食中式早餐。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9:15a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14600" y="2133720"/>
            <a:ext cx="40384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ff99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到達海洋公園。</a:t>
            </a:r>
            <a:endParaRPr b="0" lang="en-US" sz="2400" spc="1" strike="noStrike">
              <a:ln w="9360">
                <a:solidFill>
                  <a:srgbClr val="ff66ff"/>
                </a:solidFill>
                <a:miter/>
              </a:ln>
              <a:solidFill>
                <a:srgbClr val="ff99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4080"/>
            <a:ext cx="1542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3:00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812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到灣仔金紫荊廣場。</a:t>
            </a:r>
            <a:endParaRPr b="0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4267080"/>
            <a:ext cx="15433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5:30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4267080"/>
            <a:ext cx="41148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回酒店執拾行李。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5105520"/>
            <a:ext cx="160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7:15p.m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14600" y="52578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要去機場喇</a:t>
            </a: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標楷體"/>
              </a:rPr>
              <a:t>,886!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22" name=""/>
          <p:cNvSpPr txBox="1"/>
          <p:nvPr/>
        </p:nvSpPr>
        <p:spPr>
          <a:xfrm rot="342600">
            <a:off x="2057040" y="0"/>
            <a:ext cx="48769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兩曰一夜之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last da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477120" y="4811760"/>
            <a:ext cx="2666880" cy="1520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6629400" y="1066680"/>
            <a:ext cx="212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666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28800" y="1447920"/>
            <a:ext cx="5943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細明體"/>
              </a:rPr>
              <a:t>特別介紹</a:t>
            </a:r>
            <a:endParaRPr b="0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648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99"/>
                </a:solidFill>
                <a:latin typeface="Wingdings"/>
                <a:ea typeface="Wingdings"/>
              </a:rPr>
              <a:t>石板街有很多古董供人購買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cc0099"/>
                </a:solidFill>
                <a:latin typeface="Wingdings"/>
                <a:ea typeface="Wingdings"/>
              </a:rPr>
              <a:t>而且價錢十分合理。為什麼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這裏為名為石板街呢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?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因為這裏有條闊而長的石級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cc0099"/>
                </a:solidFill>
                <a:latin typeface="Times New Roman"/>
              </a:rPr>
              <a:t>是這裏的特色來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800600" y="2133720"/>
            <a:ext cx="4343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這裏就是位於園圃街的雀鳥花園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是從以前的「雀仔街」搬遷過來的。這裏有中國式的建築雅緻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Ravie"/>
              </a:rPr>
              <a:t>令遊客都感到輕鬆愉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行程</cp:keywords>
  <dc:language>en-US</dc:language>
  <cp:lastModifiedBy/>
  <cp:revision>0</cp:revision>
  <dc:subject/>
  <dc:title/>
</cp:coreProperties>
</file>