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1F9E-B2D9-4136-909C-70C47DCF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FFC-1B35-4F93-B68A-CA6AE88A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AB4A8-D981-4D16-A202-679465C5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87807-703D-4C97-829F-B6950F7F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0AC71-55D1-45E7-B41F-C7F1FFD4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4098D-1A70-4795-9A91-8A0168D0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AB8E0-81B3-42B1-8D2E-F12844EB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C163F-751D-4070-A8DD-27B8CAE7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D7FD0-AE8C-46EE-8BA5-2A074CFA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F0275-6566-4032-997E-28050225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63ED4-2387-48F4-8C5B-7035E94B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E7F2C-793C-4297-8285-9ED7B275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A64-7895-464D-BB62-CF95E485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50EB2-4C4D-4631-9E69-D7EB1BF3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A32BB-2CA9-4A91-98F8-11FA059B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78CF1-144C-4A6F-A25B-9BC3BFCF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FFB02-BE1A-46BC-AB92-0FCA2DD5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D5F49-089A-40C2-9E63-7D7281D6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5F24C-6506-4753-BAEC-19A2728C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E1709-0AD1-497D-BF55-163F860D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4705D-5926-48E5-9F4F-F2B3FA96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5439D-35A5-4B05-9541-72AE5C59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7E300-FCAE-4743-8A8F-66BFF8C4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CDA-F246-4B7E-A831-B1E0B2E2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5E8AB-77AF-403D-AD5F-A3A5F61C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1E228-AC08-4E87-A2E6-EEBD771E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5A6B5-5CB5-4136-90E5-2398740D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17CA9-94BF-4F19-A8F2-1ABA616E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62C57-80FD-4A8F-A250-1C70282D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407D0-819D-4A99-849B-AE7A0D6B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E58E2-2380-49F1-AB31-3B6C1D3F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88F8D-D8BB-4F18-B543-F7313EF3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EC257-F05D-4E68-B431-ADAFD02E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4DA39-9BBF-4423-BC7E-968D093B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EBA0-F8FD-4E4A-A457-BFC0E14B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48874-7013-4ECA-B6C0-492B9074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355EA-D9B1-47C4-84E7-89B2A584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76E78-C8E0-4597-9696-C420FD72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07AC2-6E56-48D0-BAC7-1AC3C9AE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E30BF-BA56-43BD-B14D-2F7E733B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F57B0-4C44-4E32-BBEF-94BB5439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ABD75-7783-4B0F-942E-009BE8C2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5F5F2-9A0E-40B9-91BE-443B2406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E324A-A699-4AA9-93C8-60171827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741BD-C852-472D-B063-CAE351CD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8794-C124-4FE2-8A28-BB1BFA69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24EF4-E7F4-45B6-8017-1956A1D1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AF955-C465-40DB-8136-7230027A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FA9CD-72DE-4970-9BBA-F2197061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71E42-6D7D-4F04-A3DE-1E2F69F2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6112F-3A50-4B13-8650-74F3A127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8FB7E9-FD59-4D0F-859D-FEF51745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C5D8F-513F-4D59-B015-4E4A4755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4F87F-2DA4-4158-9D15-08F56DC3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F0D8C-D0E4-4F92-9D46-F67B20A3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62EB3-C54A-49CA-B5F5-7DF687B9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154B-CF18-4A05-A256-509BF456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4D2E61-DBDE-45BE-B554-2A78A087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CC878-A0DA-470A-9777-08D51186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88C1D-86F3-4A6D-8F29-2E12CFB5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B2AC6B-893C-498B-A98A-9C40CF44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54A785-C7C5-49BE-B154-8414FD1B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8E8C05-7ABA-445E-BB12-00EB1C26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E39AA9-5776-4686-9D04-091B0EE0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5D6B-7EC2-418C-A7A8-BBD15E0D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9757-8EA8-4210-B726-433DCDA6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32B1-2C02-4C4A-B3F9-1A57B796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0F2F-2698-4B5A-BCA7-F7379463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077-F701-4320-99FC-2C9C7629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B71B-93A4-4E02-8B3A-64F883A7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50DC-425F-48E7-B156-909C9921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611A-E242-4099-83E7-8B52837E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14DF-0E34-4B99-B985-1F94A434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0705-DA7A-4869-BD64-D26C4E23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6D3B2-EB45-4AAE-BDB9-D2205718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BB165-690D-43D9-B443-039EE73B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5D44F-1AA4-40CF-A184-733F7A81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9112E-3FAC-4E57-9FF8-C4319CFB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6E224-C83D-49E2-BD88-1EC4F26D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6B22-A31F-41C6-B369-5CDB136F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BE3A0-A697-4DBD-9F2C-72346D3A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D3B6B-B7F0-4D84-9B57-F73E3961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A1C21-7E6C-439A-8BB2-3FFFE5A0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27905-2BB1-4D33-AB72-6F529E36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BD73C-4F21-432D-BC1C-AD3A934B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C6F16-40E8-4659-81A8-691ABC5B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EC849-2262-467E-B02E-6BFB8778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5B46B-6AE0-4C35-88EE-3EA70E4B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B3542-2CE8-4520-AE77-75D23CFC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FF8D8-E2F8-4C4D-B45D-5CAC9268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DC7F-36C2-4206-AA92-C7197530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CEED2-9DE2-4034-9DB4-C780CCFB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85883-2D57-4AD1-90EF-F2779C13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4CA05-8FB2-469E-8D3C-6D0911D9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38F9A-A6DD-4ECA-9109-CB4D06AB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60568-0806-48B8-A8AB-35477244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3EAE2-A3D2-45BB-9E2F-B2E13A94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AF7C4-DB78-43E2-98F5-4F0FAB33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98A1F-133A-4AB4-B4CC-3DED017F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B9628-D78B-494B-8EA9-E17B1D13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5B184-BD4E-4997-85DA-3FEBB95F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852-87AA-4A20-899B-262AFDA3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A006A-D132-4220-B57D-7866759C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A5D5E-35B5-4F3C-BCE8-5283F84C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6D295-1D39-49DE-9332-6DC97995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553EB-F51E-4C71-B1F2-767F6FEE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29853-2059-4D35-9437-3475BF6C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9ABB0-217C-43FA-86D5-E6ED156E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9FC80-C5DC-43DB-A65B-19A8BA2B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7E0DB-DAEA-4E22-A931-7DDF2314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9D7C7-F664-4F71-AFE9-52C74C18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80800-0284-4B44-81F6-E1BA2AC8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67E-1BDA-4DBB-8D4C-629646B7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401D5-AF7B-4D53-A8D1-E6E5E4AB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DCAA0-1578-4E07-B603-7CF9FDE6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57857-C718-4453-8C47-4D8640FE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6536A-549A-4B6C-8D54-E8B90FF6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F725C-7255-41C4-8742-B94CC2FF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78CA8-C3C1-43B7-B228-F1CCEFA9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E05BD-AEDC-4E48-BA38-33650D40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38A19-9FF2-4E79-B6E0-E45335E4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2017C-F985-4A58-A7F1-E26EBD00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D4B75-C604-48C4-9730-C3B823FB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7E43-AB85-4B5C-85A2-635BA462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F8375-AF37-4EF0-AD2B-40393ECD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77B8A-53E6-4ED7-B786-DD995B28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19F64-57A1-462D-A1B4-F6143E53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571BF-A895-4AF2-90A5-599152E8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9AAEA-E1FA-43D2-86A9-7918F1D2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B33DD-A67C-4144-A824-A0C8EE4D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00E0A-70CC-4E54-BAFB-FEDFB0A1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C678C-05D1-43D3-BB9E-B5809476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BEE59-EEF1-476A-85A2-C07A80EB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CF44C-22E5-4668-96A4-6A8BFFA0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301B-00D7-4A2C-AE88-A5C9752D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5367A-C17B-4414-888D-2EBB3C48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3C730-36D5-4968-813C-FA4F934E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5B217-C8BD-4C08-B1A9-A775367C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24FA2-29B7-4E21-8E24-04DFA047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D4052-1111-4A07-8C07-38A2C97C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FE0B3-83EC-4F9C-832A-7A3D4EB5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5C329-4DE6-4504-B63F-EF128124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8F6A4-C963-413E-98B1-01D40766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7A513-4DF2-4955-A2D4-4D97819C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F4321-8BBA-4490-BB91-AD4CBB7D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FC1-3559-4C53-B640-B27EC8FD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32702-B585-4231-93CC-8B3A874F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AC8FD-9850-4CE9-BF2B-754D7FD3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BBD05-233F-4751-8860-8D76ADBD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F7F64-1372-4CCE-AD9F-6D5E3F58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8F304-1EC6-4ECB-9AB2-63603F64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D9630-83D6-421A-828D-287046BC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6E4FE-71B4-458B-AA67-12AD60AF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2355E-20FB-45FC-BCA7-66208CD8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1F881-93FC-4C31-BA30-77308BFA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16851-184B-4B46-8039-A1097341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7E84-44DF-46A4-A119-0C1DB3342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648C-E6B4-4A3F-B9FA-85BB2C2740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D761-3EFE-413D-952F-93D297D3A3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C811-05BB-4F1F-9357-445A78B39E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9ED6-DB3D-433C-AF5C-8F12E46D58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1BDB-1736-477E-B045-53BD6D70E6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9993-E7DC-4139-BE87-DCA0E9E51A8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9563-73BD-4C9D-BB31-85CE31F38C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9B7F-0E21-496A-8637-988191A9ECE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16E4-4333-47B1-95FD-141C9506A4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FD04-7047-4D67-B51D-5603F6A415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37F0-EB21-48A8-8D7B-0C8D21E0ED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DF0A-4406-4843-9380-6F88E596CE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beijing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4"/>
          <p:cNvSpPr/>
          <p:nvPr/>
        </p:nvSpPr>
        <p:spPr>
          <a:xfrm>
            <a:off x="2958480" y="3259080"/>
            <a:ext cx="32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beijing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56" descr="@NLLJK5W@NMT`ACPLD4U(RX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30360" y="1353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汉仪行楷简"/>
                <a:ea typeface="汉仪行楷简"/>
              </a:rPr>
              <a:t>美丽蝴蝶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5"/>
          <p:cNvGrpSpPr/>
          <p:nvPr/>
        </p:nvGrpSpPr>
        <p:grpSpPr>
          <a:xfrm>
            <a:off x="7085160" y="5473440"/>
            <a:ext cx="1166040" cy="972000"/>
            <a:chOff x="7085160" y="5473440"/>
            <a:chExt cx="1166040" cy="972000"/>
          </a:xfrm>
        </p:grpSpPr>
        <p:grpSp>
          <p:nvGrpSpPr>
            <p:cNvPr id="537" name="Group 6"/>
            <p:cNvGrpSpPr/>
            <p:nvPr/>
          </p:nvGrpSpPr>
          <p:grpSpPr>
            <a:xfrm>
              <a:off x="7085160" y="5473440"/>
              <a:ext cx="1166040" cy="972000"/>
              <a:chOff x="7085160" y="5473440"/>
              <a:chExt cx="1166040" cy="972000"/>
            </a:xfrm>
          </p:grpSpPr>
          <p:sp>
            <p:nvSpPr>
              <p:cNvPr id="538" name="Freeform 7"/>
              <p:cNvSpPr/>
              <p:nvPr/>
            </p:nvSpPr>
            <p:spPr>
              <a:xfrm rot="20073000">
                <a:off x="7186680" y="5760360"/>
                <a:ext cx="544680" cy="5968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8"/>
              <p:cNvSpPr/>
              <p:nvPr/>
            </p:nvSpPr>
            <p:spPr>
              <a:xfrm flipH="1" rot="20073000">
                <a:off x="7669800" y="5546520"/>
                <a:ext cx="475560" cy="5968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9"/>
            <p:cNvGrpSpPr/>
            <p:nvPr/>
          </p:nvGrpSpPr>
          <p:grpSpPr>
            <a:xfrm>
              <a:off x="7184160" y="5571720"/>
              <a:ext cx="970920" cy="774360"/>
              <a:chOff x="7184160" y="5571720"/>
              <a:chExt cx="970920" cy="774360"/>
            </a:xfrm>
          </p:grpSpPr>
          <p:sp>
            <p:nvSpPr>
              <p:cNvPr id="541" name="Freeform 10"/>
              <p:cNvSpPr/>
              <p:nvPr/>
            </p:nvSpPr>
            <p:spPr>
              <a:xfrm rot="20073000">
                <a:off x="7257600" y="5820120"/>
                <a:ext cx="466560" cy="4474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1"/>
              <p:cNvSpPr/>
              <p:nvPr/>
            </p:nvSpPr>
            <p:spPr>
              <a:xfrm flipH="1" rot="20073000">
                <a:off x="7671240" y="5637240"/>
                <a:ext cx="407160" cy="4474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" name="Group 90"/>
          <p:cNvGrpSpPr/>
          <p:nvPr/>
        </p:nvGrpSpPr>
        <p:grpSpPr>
          <a:xfrm>
            <a:off x="-43200" y="5714280"/>
            <a:ext cx="1044720" cy="927000"/>
            <a:chOff x="-43200" y="5714280"/>
            <a:chExt cx="1044720" cy="927000"/>
          </a:xfrm>
        </p:grpSpPr>
        <p:grpSp>
          <p:nvGrpSpPr>
            <p:cNvPr id="544" name="Group 91"/>
            <p:cNvGrpSpPr/>
            <p:nvPr/>
          </p:nvGrpSpPr>
          <p:grpSpPr>
            <a:xfrm>
              <a:off x="-43200" y="5714280"/>
              <a:ext cx="1044720" cy="927000"/>
              <a:chOff x="-43200" y="5714280"/>
              <a:chExt cx="1044720" cy="927000"/>
            </a:xfrm>
          </p:grpSpPr>
          <p:sp>
            <p:nvSpPr>
              <p:cNvPr id="545" name="Freeform 92"/>
              <p:cNvSpPr/>
              <p:nvPr/>
            </p:nvSpPr>
            <p:spPr>
              <a:xfrm rot="2127600">
                <a:off x="40680" y="5822280"/>
                <a:ext cx="518040" cy="4554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93"/>
              <p:cNvSpPr/>
              <p:nvPr/>
            </p:nvSpPr>
            <p:spPr>
              <a:xfrm flipH="1" rot="2127000">
                <a:off x="458640" y="6096600"/>
                <a:ext cx="452520" cy="4554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94"/>
            <p:cNvGrpSpPr/>
            <p:nvPr/>
          </p:nvGrpSpPr>
          <p:grpSpPr>
            <a:xfrm>
              <a:off x="47160" y="5801400"/>
              <a:ext cx="866520" cy="754560"/>
              <a:chOff x="47160" y="5801400"/>
              <a:chExt cx="866520" cy="754560"/>
            </a:xfrm>
          </p:grpSpPr>
          <p:sp>
            <p:nvSpPr>
              <p:cNvPr id="548" name="Freeform 95"/>
              <p:cNvSpPr/>
              <p:nvPr/>
            </p:nvSpPr>
            <p:spPr>
              <a:xfrm rot="2127600">
                <a:off x="105120" y="5898240"/>
                <a:ext cx="443880" cy="3416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96"/>
              <p:cNvSpPr/>
              <p:nvPr/>
            </p:nvSpPr>
            <p:spPr>
              <a:xfrm flipH="1" rot="2127000">
                <a:off x="462600" y="6133320"/>
                <a:ext cx="387360" cy="3416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0" name="Group 97"/>
          <p:cNvGrpSpPr/>
          <p:nvPr/>
        </p:nvGrpSpPr>
        <p:grpSpPr>
          <a:xfrm>
            <a:off x="6484320" y="2532240"/>
            <a:ext cx="970560" cy="952200"/>
            <a:chOff x="6484320" y="2532240"/>
            <a:chExt cx="970560" cy="952200"/>
          </a:xfrm>
        </p:grpSpPr>
        <p:grpSp>
          <p:nvGrpSpPr>
            <p:cNvPr id="551" name="Group 98"/>
            <p:cNvGrpSpPr/>
            <p:nvPr/>
          </p:nvGrpSpPr>
          <p:grpSpPr>
            <a:xfrm>
              <a:off x="6484320" y="2532240"/>
              <a:ext cx="970560" cy="952200"/>
              <a:chOff x="6484320" y="2532240"/>
              <a:chExt cx="970560" cy="952200"/>
            </a:xfrm>
          </p:grpSpPr>
          <p:sp>
            <p:nvSpPr>
              <p:cNvPr id="552" name="Freeform 99"/>
              <p:cNvSpPr/>
              <p:nvPr/>
            </p:nvSpPr>
            <p:spPr>
              <a:xfrm rot="2428800">
                <a:off x="6629400" y="2594160"/>
                <a:ext cx="412560" cy="6001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00"/>
              <p:cNvSpPr/>
              <p:nvPr/>
            </p:nvSpPr>
            <p:spPr>
              <a:xfrm flipH="1" rot="2428200">
                <a:off x="6942600" y="2838960"/>
                <a:ext cx="360360" cy="6001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101"/>
            <p:cNvGrpSpPr/>
            <p:nvPr/>
          </p:nvGrpSpPr>
          <p:grpSpPr>
            <a:xfrm>
              <a:off x="6575760" y="2626200"/>
              <a:ext cx="789120" cy="766080"/>
              <a:chOff x="6575760" y="2626200"/>
              <a:chExt cx="789120" cy="766080"/>
            </a:xfrm>
          </p:grpSpPr>
          <p:sp>
            <p:nvSpPr>
              <p:cNvPr id="555" name="Freeform 102"/>
              <p:cNvSpPr/>
              <p:nvPr/>
            </p:nvSpPr>
            <p:spPr>
              <a:xfrm rot="2428800">
                <a:off x="6679080" y="2687040"/>
                <a:ext cx="353520" cy="450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103"/>
              <p:cNvSpPr/>
              <p:nvPr/>
            </p:nvSpPr>
            <p:spPr>
              <a:xfrm flipH="1" rot="2428200">
                <a:off x="6946920" y="2895840"/>
                <a:ext cx="308520" cy="450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7" name="Group 111"/>
          <p:cNvGrpSpPr/>
          <p:nvPr/>
        </p:nvGrpSpPr>
        <p:grpSpPr>
          <a:xfrm>
            <a:off x="4944960" y="1241640"/>
            <a:ext cx="325080" cy="403560"/>
            <a:chOff x="4944960" y="1241640"/>
            <a:chExt cx="325080" cy="403560"/>
          </a:xfrm>
        </p:grpSpPr>
        <p:grpSp>
          <p:nvGrpSpPr>
            <p:cNvPr id="558" name="Group 112"/>
            <p:cNvGrpSpPr/>
            <p:nvPr/>
          </p:nvGrpSpPr>
          <p:grpSpPr>
            <a:xfrm>
              <a:off x="4944960" y="1241640"/>
              <a:ext cx="325080" cy="403560"/>
              <a:chOff x="4944960" y="1241640"/>
              <a:chExt cx="325080" cy="403560"/>
            </a:xfrm>
          </p:grpSpPr>
          <p:sp>
            <p:nvSpPr>
              <p:cNvPr id="559" name="Freeform 113"/>
              <p:cNvSpPr/>
              <p:nvPr/>
            </p:nvSpPr>
            <p:spPr>
              <a:xfrm rot="14869800">
                <a:off x="5042880" y="1413720"/>
                <a:ext cx="189720" cy="2080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14"/>
              <p:cNvSpPr/>
              <p:nvPr/>
            </p:nvSpPr>
            <p:spPr>
              <a:xfrm flipH="1" rot="14869800">
                <a:off x="4989240" y="1253160"/>
                <a:ext cx="165600" cy="2080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115"/>
            <p:cNvGrpSpPr/>
            <p:nvPr/>
          </p:nvGrpSpPr>
          <p:grpSpPr>
            <a:xfrm>
              <a:off x="4978080" y="1274040"/>
              <a:ext cx="258480" cy="337320"/>
              <a:chOff x="4978080" y="1274040"/>
              <a:chExt cx="258480" cy="337320"/>
            </a:xfrm>
          </p:grpSpPr>
          <p:sp>
            <p:nvSpPr>
              <p:cNvPr id="562" name="Freeform 116"/>
              <p:cNvSpPr/>
              <p:nvPr/>
            </p:nvSpPr>
            <p:spPr>
              <a:xfrm rot="14869800">
                <a:off x="5052240" y="1428480"/>
                <a:ext cx="162360" cy="1562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17"/>
              <p:cNvSpPr/>
              <p:nvPr/>
            </p:nvSpPr>
            <p:spPr>
              <a:xfrm flipH="1" rot="14869800">
                <a:off x="5005800" y="1290960"/>
                <a:ext cx="141840" cy="1562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4" name="Group 135"/>
          <p:cNvGrpSpPr/>
          <p:nvPr/>
        </p:nvGrpSpPr>
        <p:grpSpPr>
          <a:xfrm>
            <a:off x="3099960" y="5558040"/>
            <a:ext cx="970560" cy="952200"/>
            <a:chOff x="3099960" y="5558040"/>
            <a:chExt cx="970560" cy="952200"/>
          </a:xfrm>
        </p:grpSpPr>
        <p:grpSp>
          <p:nvGrpSpPr>
            <p:cNvPr id="565" name="Group 136"/>
            <p:cNvGrpSpPr/>
            <p:nvPr/>
          </p:nvGrpSpPr>
          <p:grpSpPr>
            <a:xfrm>
              <a:off x="3099960" y="5558040"/>
              <a:ext cx="970560" cy="952200"/>
              <a:chOff x="3099960" y="5558040"/>
              <a:chExt cx="970560" cy="952200"/>
            </a:xfrm>
          </p:grpSpPr>
          <p:sp>
            <p:nvSpPr>
              <p:cNvPr id="566" name="Freeform 137"/>
              <p:cNvSpPr/>
              <p:nvPr/>
            </p:nvSpPr>
            <p:spPr>
              <a:xfrm rot="2428800">
                <a:off x="3245040" y="5619960"/>
                <a:ext cx="412560" cy="6001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138"/>
              <p:cNvSpPr/>
              <p:nvPr/>
            </p:nvSpPr>
            <p:spPr>
              <a:xfrm flipH="1" rot="2428200">
                <a:off x="3558240" y="5864760"/>
                <a:ext cx="360360" cy="6001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139"/>
            <p:cNvGrpSpPr/>
            <p:nvPr/>
          </p:nvGrpSpPr>
          <p:grpSpPr>
            <a:xfrm>
              <a:off x="3191400" y="5652000"/>
              <a:ext cx="789120" cy="766080"/>
              <a:chOff x="3191400" y="5652000"/>
              <a:chExt cx="789120" cy="766080"/>
            </a:xfrm>
          </p:grpSpPr>
          <p:sp>
            <p:nvSpPr>
              <p:cNvPr id="569" name="Freeform 140"/>
              <p:cNvSpPr/>
              <p:nvPr/>
            </p:nvSpPr>
            <p:spPr>
              <a:xfrm rot="2428800">
                <a:off x="3294720" y="5712840"/>
                <a:ext cx="353520" cy="450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141"/>
              <p:cNvSpPr/>
              <p:nvPr/>
            </p:nvSpPr>
            <p:spPr>
              <a:xfrm flipH="1" rot="2428200">
                <a:off x="3562560" y="5921640"/>
                <a:ext cx="308520" cy="450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1" name="Group 142"/>
          <p:cNvGrpSpPr/>
          <p:nvPr/>
        </p:nvGrpSpPr>
        <p:grpSpPr>
          <a:xfrm>
            <a:off x="2580120" y="570600"/>
            <a:ext cx="785160" cy="625680"/>
            <a:chOff x="2580120" y="570600"/>
            <a:chExt cx="785160" cy="625680"/>
          </a:xfrm>
        </p:grpSpPr>
        <p:grpSp>
          <p:nvGrpSpPr>
            <p:cNvPr id="572" name="Group 143"/>
            <p:cNvGrpSpPr/>
            <p:nvPr/>
          </p:nvGrpSpPr>
          <p:grpSpPr>
            <a:xfrm>
              <a:off x="2580120" y="570600"/>
              <a:ext cx="785160" cy="625680"/>
              <a:chOff x="2580120" y="570600"/>
              <a:chExt cx="785160" cy="625680"/>
            </a:xfrm>
          </p:grpSpPr>
          <p:sp>
            <p:nvSpPr>
              <p:cNvPr id="573" name="Freeform 144"/>
              <p:cNvSpPr/>
              <p:nvPr/>
            </p:nvSpPr>
            <p:spPr>
              <a:xfrm rot="9390000">
                <a:off x="2931120" y="628920"/>
                <a:ext cx="373320" cy="3823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145"/>
              <p:cNvSpPr/>
              <p:nvPr/>
            </p:nvSpPr>
            <p:spPr>
              <a:xfrm flipH="1" rot="9390000">
                <a:off x="2642400" y="764640"/>
                <a:ext cx="325800" cy="3823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146"/>
            <p:cNvGrpSpPr/>
            <p:nvPr/>
          </p:nvGrpSpPr>
          <p:grpSpPr>
            <a:xfrm>
              <a:off x="2643120" y="634320"/>
              <a:ext cx="656640" cy="498960"/>
              <a:chOff x="2643120" y="634320"/>
              <a:chExt cx="656640" cy="498960"/>
            </a:xfrm>
          </p:grpSpPr>
          <p:sp>
            <p:nvSpPr>
              <p:cNvPr id="576" name="Freeform 147"/>
              <p:cNvSpPr/>
              <p:nvPr/>
            </p:nvSpPr>
            <p:spPr>
              <a:xfrm rot="9390000">
                <a:off x="2935800" y="686160"/>
                <a:ext cx="31968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48"/>
              <p:cNvSpPr/>
              <p:nvPr/>
            </p:nvSpPr>
            <p:spPr>
              <a:xfrm flipH="1" rot="9390000">
                <a:off x="2688480" y="802440"/>
                <a:ext cx="27900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2f2f2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2f2f2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" dur="1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" dur="1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3.7037E-007 L 0.23629 -0.45162 E">
                                      <p:cBhvr>
                                        <p:cTn id="20" dur="19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24607E-006 L -0.7283 -0.68223 E">
                                      <p:cBhvr>
                                        <p:cTn id="31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1.66667E-006 -4.44444E-006 L 0.27952 -0.25185 E">
                                      <p:cBhvr>
                                        <p:cTn id="38" dur="26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9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32" repeatCount="indefinite">
                                  <p:stCondLst>
                                    <p:cond delay="1100"/>
                                  </p:stCondLst>
                                  <p:childTnLst>
                                    <p:animClr clrSpc="rgb">
                                      <p:cBhvr>
                                        <p:cTn id="45" dur="1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" dur="1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59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226 -0.00185 L 0.27934 -0.24861 E">
                                      <p:cBhvr>
                                        <p:cTn id="68" dur="26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4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4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4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32" repeatCount="indefinite">
                                  <p:stCondLst>
                                    <p:cond delay="1100"/>
                                  </p:stCondLst>
                                  <p:childTnLst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6" dur="1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" dur="1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7:02:08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39:39Z</dcterms:modified>
  <cp:revision>10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