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0.gif" ContentType="image/gi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EE9-A74F-4D2C-857E-FFAC1FD0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85A-7563-46DA-B814-F8448673E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9897-2E7C-4370-817B-0D7297DA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A437-B679-486D-84B2-C80C9D15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9981-0C77-4EB3-B1ED-677B451F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A0729-0CDA-4EC7-A061-2960FBD5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943F-318A-4FD5-90FE-7F17C801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E8EB-B9FA-42FC-A1F5-441AA63E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D7390-5E87-4447-97D5-A685C090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10CC-D4B0-452D-BF6C-1F0FD4D6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DE1C-E3A5-42AC-A394-E2A4B566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E53C-1777-4842-9A46-AEDD0944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E3A3-0730-462F-B56D-F2BF2D1C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00AD1-C2B4-4C2D-B20B-8A1BA1F0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CB5F-8183-4CB8-8AA5-84675D6C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480E-121F-43BF-81A5-A26CB153D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8154D-4B45-42A9-9668-0C9B9944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19AC-A7EE-4318-A1E7-25ECB983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881F-9BE0-4B20-99B2-43FD2E54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6D93-0E5A-47D9-BE70-458A66E5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7914-D871-4556-80DE-A52163A3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4D39-E5B9-440B-902B-1269BA13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A1C-86AE-48B2-A063-11E29B27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A20-2561-43CA-A5F7-CCBFECD5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9820-2D34-4DC5-8475-BC411709E96A}" type="slidenum"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CD7C-E282-4892-819A-BC0373E8D3C2}" type="slidenum">
              <a:rPr b="0" lang="zh-CN" sz="1400" spc="-1" strike="noStrike">
                <a:solidFill>
                  <a:srgbClr val="eaeaea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81080" y="533160"/>
            <a:ext cx="69343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纳米技术与应用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05120" y="1905120"/>
            <a:ext cx="6400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1.8 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纳米技术前景展望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钱学森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1991)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“我认为，纳米左右和纳米以下的结构是下一阶段科技发展的重点，会是一次技术革命，从而将在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世纪又是一次产业革命。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纳米技术将改变生产方式，导致生活方式变革，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带领我们进入崭新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世纪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1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国外纳米技术进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1990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年，</a:t>
            </a: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IBM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公司用原子排出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“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IBM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1991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年，</a:t>
            </a: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NEC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实验室观察到碳纳米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合成了其它纳米管材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523880" y="3505320"/>
            <a:ext cx="29718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1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国外纳米技术进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实心的纳米棒、纳米线、量子线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43000" y="3200400"/>
            <a:ext cx="3809880" cy="1692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029200" y="3200400"/>
            <a:ext cx="411480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1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国外纳米技术进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朗讯公司和牛津大学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: 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纳米镊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碳纳米管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秤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”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，称量一个病毒的重量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称量单个原子重量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纳米秤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47920" y="3684600"/>
            <a:ext cx="3504960" cy="2874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410080" y="3679920"/>
            <a:ext cx="33530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1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国外纳米技术进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宋体"/>
              </a:rPr>
              <a:t>DNA</a:t>
            </a: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开关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647712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2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技术在美国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2010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年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: 80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万纳米科技人才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,</a:t>
            </a: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GDP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万亿美元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, 200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万个就业机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能源部的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8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项优先研究中，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6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项有关纳米材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本世纪前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10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年几个关键领域之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制定了“国家纳米技术倡议”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  <a:ea typeface="Arial Unicode MS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宋体"/>
                <a:ea typeface="Arial Unicode MS"/>
              </a:rPr>
              <a:t>NNI)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纳米材料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纳米电子学、光电子学和磁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纳米医学和生物学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  <a:ea typeface="Arial Unicode MS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2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技术在美国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军工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: 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隐形飞机表面涂料、舰船表面纳米涂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美国总统布什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003.12.3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日签署了《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世纪纳米技术研究开发法案》，批准联邦政府在从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005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财政年度开始的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年中共投入约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37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亿美元，用于促进纳米技术的研究开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3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技术在日本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962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年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久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ubo):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久保理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国会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: 21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世纪前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年的立国之本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著名大企业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纳米实用化技术的计划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三菱化工建立了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富勒烯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纳米碳管生产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自洁净玻璃、光催化净化水或空气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4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技术在其它国家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韩国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全国纳米技术研究院、纳米显示技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印度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像抓软件产业那样抓纳米科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德国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把发展纳米技术定位在新能源、新环境，全面带动纳米技术在各个领域的发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法国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：国家纳米科技中心、纳米产业基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世界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都在迎接纳米时代的到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5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技术在中国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1993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年，</a:t>
            </a: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中科院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操纵原子写字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573360" y="2438280"/>
            <a:ext cx="2930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内容提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宋体"/>
              </a:rPr>
              <a:t>纳米技术简介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宋体"/>
              </a:rPr>
              <a:t>纳米技术在世界各国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纳米</a:t>
            </a:r>
            <a:r>
              <a:rPr b="0" lang="zh-CN" sz="3600" spc="-1" strike="noStrike">
                <a:solidFill>
                  <a:srgbClr val="eaeaea"/>
                </a:solidFill>
                <a:latin typeface="宋体"/>
              </a:rPr>
              <a:t>技术与经济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宋体"/>
              </a:rPr>
              <a:t>纳米技术与当代中国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宋体"/>
              </a:rPr>
              <a:t>本研究小组的工作与展望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5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中国纳米技术进展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中科院物理所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制备出大面积碳纳米管阵列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;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合成了当时最长的纤维级碳纳米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中国科技大学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: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氮化镓粉体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清华大学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: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氮化镓纳米棒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中国科技大学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: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从四氯化碳制备出金刚石纳米粉，被誉为“稻草变黄金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5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中国纳米技术应用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中科院化冶所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七五攻关”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纳米碳化硅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八五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863”:   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纳米阻燃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宋体"/>
              </a:rPr>
              <a:t>中科院化学所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纳米领带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超双疏性界面材料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防水、防油、防污、防褪色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纳米聚丙烯管材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高强度、抑菌功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2.5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技术应用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全国范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三百多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家纳米企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以“纳米”注册的企业近百家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数十条纳米材料生产线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资金约百亿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3.1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技术与经济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宋体"/>
              </a:rPr>
              <a:t>材料人类文明的四大技术支柱之一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宋体"/>
              </a:rPr>
              <a:t>材料是人类物质文明的基础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宋体"/>
              </a:rPr>
              <a:t>材料支撑着其它新技术的前进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纳米材料是纳米技术的基础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纳米材料</a:t>
            </a:r>
            <a:r>
              <a:rPr b="0" lang="zh-CN" sz="3600" spc="-1" strike="noStrike">
                <a:solidFill>
                  <a:srgbClr val="eaeaea"/>
                </a:solidFill>
                <a:latin typeface="宋体"/>
              </a:rPr>
              <a:t>是材料家族中的重要新成员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3.2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技术与经济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科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发现新材料、提出新方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知识创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将“钱”转化为“知识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技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工业化制备纳米材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清洁生产工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商品化技术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将“知识”转化为“钱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3.3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材料制备综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对纳米材料的要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尺寸可控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(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小于 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100 </a:t>
            </a: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nm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成分可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形貌可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晶型可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表面物理和化学特性可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表面改性和表面包覆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3.4 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材料制备综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化学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物理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3.4.1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化学方法制备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材料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宋体"/>
              </a:rPr>
              <a:t>气相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气溶胶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激光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等离子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裂解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氧化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水解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燃烧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3.4.1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化学方法制备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材料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宋体"/>
              </a:rPr>
              <a:t>液相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化学沉淀法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均匀沉淀法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共沉淀法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水解法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醇盐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卤化物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溶胶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  <a:ea typeface="Arial Unicode MS"/>
              </a:rPr>
              <a:t>-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凝胶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水热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3.4.2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物理方法制备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纳米材料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宋体"/>
              </a:rPr>
              <a:t>气相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惰性气体冷凝法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宋体"/>
              </a:rPr>
              <a:t>固相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高能球磨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搅拌磨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宋体"/>
              </a:rPr>
              <a:t>震动磨法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1.1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空间尺度的划分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宇观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Cosmoscopic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遥观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Remote sensoscopic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宏观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Macroscopic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显微观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Optico-microscopic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介观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Mesoscopic)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或纳米观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Nanoscopic): 1~100nm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3.5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某纳米颗粒的制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79246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3.6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纳米粉体表面改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纳米材料实用化的关键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表面物理控制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化学特性控制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粉体松散、不团聚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宋体"/>
              </a:rPr>
              <a:t>表面改性和表面包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化学法为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3.6.1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表面包覆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743200" y="1752480"/>
            <a:ext cx="41324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3.6.2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表面改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74678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3.6.3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表面改性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746748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4 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纳米科技与当代中国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宋体"/>
              </a:rPr>
              <a:t>近代</a:t>
            </a:r>
            <a:r>
              <a:rPr b="0" lang="en-US" sz="3600" spc="-1" strike="noStrike">
                <a:solidFill>
                  <a:srgbClr val="ffcc66"/>
                </a:solidFill>
                <a:latin typeface="宋体"/>
              </a:rPr>
              <a:t>XX</a:t>
            </a:r>
            <a:r>
              <a:rPr b="0" lang="zh-CN" sz="3600" spc="-1" strike="noStrike">
                <a:solidFill>
                  <a:srgbClr val="ffcc66"/>
                </a:solidFill>
                <a:latin typeface="宋体"/>
              </a:rPr>
              <a:t>国的机遇与挑战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二百年回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蒸汽机技术、电气化技术、微电子技术的高潮都错过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IT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产业、网络通讯与西方差距不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纳米技术使大家都面临着重新变革，相当于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千米赛跑，都才跑出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500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米，我们落后得不是很多，有的还不落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4.1 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纳米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技术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对竞争力的提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能源领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石油、煤等不可再生资源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环保领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解决水污染的问题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解决空气污染的问题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微电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纳米电子器件、纳米线、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纳米传感器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信息领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光纤、发光器件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4.2 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纳米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技术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对竞争力的提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功能性涂料</a:t>
            </a: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、薄膜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24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eaeaea"/>
                </a:solidFill>
                <a:latin typeface="Times New Roman"/>
              </a:rPr>
              <a:t>防静电涂料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24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eaeaea"/>
                </a:solidFill>
                <a:latin typeface="Times New Roman"/>
              </a:rPr>
              <a:t>特殊视觉涂料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24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eaeaea"/>
                </a:solidFill>
                <a:latin typeface="Times New Roman"/>
              </a:rPr>
              <a:t>紫外线吸收涂层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24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eaeaea"/>
                </a:solidFill>
                <a:latin typeface="Times New Roman"/>
              </a:rPr>
              <a:t>耐磨</a:t>
            </a:r>
            <a:r>
              <a:rPr b="0" lang="zh-CN" sz="2500" spc="-1" strike="noStrike">
                <a:solidFill>
                  <a:srgbClr val="eaeaea"/>
                </a:solidFill>
                <a:latin typeface="宋体"/>
              </a:rPr>
              <a:t>、防腐、耐高温、耐冲刷涂层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机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24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eaeaea"/>
                </a:solidFill>
                <a:latin typeface="宋体"/>
              </a:rPr>
              <a:t>纳米结构单元和纳米机械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结构陶瓷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24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eaeaea"/>
                </a:solidFill>
                <a:latin typeface="宋体"/>
              </a:rPr>
              <a:t>增强、增韧、助烧结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4.3 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纳米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技术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对竞争力的提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化学化工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催化剂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、助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催化剂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、阻燃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aeaea"/>
                </a:solidFill>
                <a:latin typeface="宋体"/>
              </a:rPr>
              <a:t>镍催化氧化丙醛，当镍的粒径在</a:t>
            </a:r>
            <a:r>
              <a:rPr b="0" lang="zh-CN" sz="20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5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nm</a:t>
            </a:r>
            <a:r>
              <a:rPr b="0" lang="zh-CN" sz="2000" spc="-1" strike="noStrike">
                <a:solidFill>
                  <a:srgbClr val="eaeaea"/>
                </a:solidFill>
                <a:latin typeface="宋体"/>
              </a:rPr>
              <a:t>以下，反应选择性发生急剧变化，生成酒精的转化率迅速增大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塑料和橡胶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制品成型剂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、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补强剂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、抗老化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OA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领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复印机和激光打印机的墨粉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喷墨打印机墨水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、高级</a:t>
            </a: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墨水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4.4 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纳米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技术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对竞争力的提升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纳米药物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磁性纳米粒子药物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卫生保健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防晒霜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  <a:ea typeface="Arial Unicode MS"/>
              </a:rPr>
              <a:t>纺织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反射红外线型化纤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杀菌灭菌除臭型化纤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1.2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空间尺度的划分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微观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Microscopic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皮米观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Picosopic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飞米观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ntoscopi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亚飞米观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bfentoscopic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4.5 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提升</a:t>
            </a:r>
            <a:r>
              <a:rPr b="1" lang="zh-CN" sz="4400" spc="-1" strike="noStrike">
                <a:solidFill>
                  <a:srgbClr val="ff33cc"/>
                </a:solidFill>
                <a:latin typeface="宋体"/>
              </a:rPr>
              <a:t>国防科技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纳米探测系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纳米材料提高武器打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纳米材料提高防护能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纳米机械系统制造的小型机器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雷达隐身技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XX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国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:“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超黑粉”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对雷达波的吸收率达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  <a:ea typeface="Arial Unicode MS"/>
              </a:rPr>
              <a:t>99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％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宋体"/>
              </a:rPr>
              <a:t>XX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国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:</a:t>
            </a:r>
            <a:r>
              <a:rPr b="0" lang="en-US" sz="2800" spc="-1" strike="noStrike">
                <a:solidFill>
                  <a:srgbClr val="eaeaea"/>
                </a:solidFill>
                <a:latin typeface="宋体"/>
                <a:ea typeface="Arial Unicode MS"/>
              </a:rPr>
              <a:t>Co-Ni</a:t>
            </a:r>
            <a:r>
              <a:rPr b="0" lang="zh-CN" sz="2800" spc="-1" strike="noStrike">
                <a:solidFill>
                  <a:srgbClr val="eaeaea"/>
                </a:solidFill>
                <a:latin typeface="宋体"/>
              </a:rPr>
              <a:t>纳米颗粒包覆绝缘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5.1 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本研究小组的工作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研究方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化学化工中与纳米相关的课题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研究目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创新：论文发表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应用：经济效益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研究手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实验研究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计算机模拟仿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5.2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纳米材料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eb00b"/>
                </a:solidFill>
                <a:latin typeface="Times New Roman"/>
              </a:rPr>
              <a:t>纳米材料合成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纳米白碳黑、纳米钛白、纳米锌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耐磨有机玻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应用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解决工业中的问题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aeaea"/>
                </a:solidFill>
                <a:latin typeface="Times New Roman"/>
              </a:rPr>
              <a:t>创造社会效益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1.3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纳米？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纳米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nm): 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毫米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(</a:t>
            </a: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mm)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的百万分之一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头发的直径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1.4 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纳米技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在纳米尺度上对物质和材料进行研究和处理的技术被称为纳米技术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1.5 </a:t>
            </a:r>
            <a:r>
              <a:rPr b="0" lang="zh-CN" sz="4400" spc="-1" strike="noStrike">
                <a:solidFill>
                  <a:srgbClr val="ff33cc"/>
                </a:solidFill>
                <a:latin typeface="宋体"/>
              </a:rPr>
              <a:t>纳米材料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宋体"/>
              </a:rPr>
              <a:t>纳米材料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: 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在纳米量级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(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1~10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m)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内调控物质结构制成的具有特异性能的新材料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四大特点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尺寸小、比表面积大、表面能高、表面原子比例大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四大效应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小尺寸效应、量子尺寸效应、宏观量子隧道效应、表面效应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纳米材料特性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取决于</a:t>
            </a:r>
            <a:r>
              <a:rPr b="0" lang="zh-CN" sz="3200" spc="-1" strike="noStrike">
                <a:solidFill>
                  <a:srgbClr val="ffcc66"/>
                </a:solidFill>
                <a:latin typeface="Times New Roman"/>
              </a:rPr>
              <a:t>制备方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1.6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进一步认识纳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蛋白质、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DNA</a:t>
            </a: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、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RNA</a:t>
            </a: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、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病毒，都在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1~100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nm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的范围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光合作用在</a:t>
            </a:r>
            <a:r>
              <a:rPr b="0" lang="en-US" sz="3200" spc="-1" strike="noStrike">
                <a:solidFill>
                  <a:srgbClr val="eaeaea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纳米车间”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进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细胞中的一些结构单元都是执行某种功能的“纳米机械”，细胞象一个“纳米工厂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莲花荷叶出污泥而不染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:“</a:t>
            </a: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荷叶效应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宋体"/>
              </a:rPr>
              <a:t>纳米结构是生命现象中基本的东西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1.7 </a:t>
            </a:r>
            <a:r>
              <a:rPr b="0" lang="zh-CN" sz="4400" spc="-1" strike="noStrike">
                <a:solidFill>
                  <a:srgbClr val="ff33cc"/>
                </a:solidFill>
                <a:latin typeface="Times New Roman"/>
              </a:rPr>
              <a:t>媒体中的纳米怪象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纳米冰箱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纳米洗衣机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纳米技术 应用</cp:keywords>
  <dc:language>en-US</dc:language>
  <cp:lastModifiedBy/>
  <cp:revision>0</cp:revision>
  <dc:subject/>
  <dc:title/>
</cp:coreProperties>
</file>