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71C-9BE5-4634-A723-295D200D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D7A-5E98-4B84-BB57-337B610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B98-0B6F-47F6-9ED0-E78A725B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02C-9324-4D18-A37E-DDC82B42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59057-04B9-4349-AFB0-65C134BA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9A347-A166-413C-88F7-A5FEB2C7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3B7EA-DCC0-4887-A3CF-058AC695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EB959-EC4C-4743-9BBD-DC6BA53E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809D4-77A6-4DFC-BA3F-1B15C89F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9EAE3-7EB7-4A59-A61C-F1651BCD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9C8CD-B668-4649-9D73-D9FDC1EB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22C-0408-475C-8CA3-3A52C39F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124CB-832D-45C8-AF9C-4F921A79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539A0-0326-4C71-8421-E57BCCD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B77A-E6DD-4E32-9727-B9CF2729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EC771-40EE-4106-816D-6868A8A5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46279-32D9-40B3-BD10-D87820F5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EAF-7D7D-4658-BA5E-973E7298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3AC-E0A9-46BD-AF8C-FB7E7659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99B-E1AB-464A-959F-28F534B4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965-BE83-45A8-A439-B7122EB4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661-15AC-41EB-87B9-6A12EA3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871-E637-415F-9582-9CCB888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FC2-EC2E-4913-94D7-0A54B1F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1388-10B6-4368-8ED1-A05C621A87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16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48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9996-6202-4319-B3B2-7EF26F2139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普及纳米知识推动科技进步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PPT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216000" y="1301760"/>
            <a:ext cx="9144000" cy="5772240"/>
            <a:chOff x="216000" y="1301760"/>
            <a:chExt cx="9144000" cy="57722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16000" y="1301760"/>
              <a:ext cx="9144000" cy="577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264120" y="28065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中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359000" y="21600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黑体"/>
              </a:rPr>
              <a:t>纳米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科技成果一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00240"/>
            <a:ext cx="9144000" cy="131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54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1993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年，中国科学院北京真空物理实验室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操纵原子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成功写出“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XX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二字，标志着我国开始在国际纳米科技领域占有一席之地，并居于国际科技前沿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718080"/>
            <a:ext cx="9144000" cy="131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54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1998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，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大学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小组成功地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制造出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直径为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－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50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、长度达微米量级的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氮化镓半导体一维纳米棒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，使我国在国际上首次把氮化镓制备成一维纳米晶体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200160"/>
            <a:ext cx="9144000" cy="131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1998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《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》杂志上刊登了我国科学家的论文。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我国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科学家用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非水热合成法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制备出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金刚石纳米粉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被国际刊物誉为“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稻草变黄金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———从四氯化碳制成金刚石。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465360"/>
            <a:ext cx="9144000" cy="1922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近年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科学院物理研究所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解思深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研究员率领的科研小组，不仅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合成了世界上最长的“超级纤维”碳纳米管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创造了一项“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毫米的世界之最”，而且合成出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世界上最细的碳纳米管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1999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年上半年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XXX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大学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电子学系教授</a:t>
            </a:r>
            <a:r>
              <a:rPr b="1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XXX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领导的研究组在世界上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首次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将单壁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碳纳米管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组装竖立在金属表面，并组装出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世界上最细且性能良好的扫描隧道显微镜用探针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500280"/>
            <a:ext cx="9144000" cy="1434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1999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年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，中科院金属研究所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成会明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博士合成出高质量的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碳纳米材料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，使我国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新型储氢材料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研究一举跃上世界先进水平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228600"/>
            <a:ext cx="9144000" cy="1922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不久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中科院金属研究所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卢柯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博士率领的小组，在世界上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首次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直接发现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金属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“奇异”性能—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超塑延展性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铜在室温下竟可延伸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50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多倍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而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“不折不挠”，被誉为“本领域的一次突破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429000"/>
            <a:ext cx="9144000" cy="1922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先是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管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接着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纳米线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现在留美的三位中国科学家又为纳米世界迎来一位新客人——“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带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”。这是世界上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首次发现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并合成出半导体氧化物的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级带状结构材料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研究人员现在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已经成功开发出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氧化锌、氧化锡、氧化铟、氧化镉和氧化镓的“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纳米带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”。并预测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整个半导体金属氧化物都可能制造出“纳米带”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这项成果刊登在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2001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日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出版的美国《科学》杂志上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886120"/>
            <a:ext cx="9144000" cy="2288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利用金属氧化物制造出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至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纳米厚、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至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300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纳米宽的新材料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这种材料有可能制造出价格便宜的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超微感应器和元件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 “这是纳米技术中非常重要的一个研究领域。如果我们能够成功地开发出其应用方法，将可能引发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级感应器和功能设备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巨大进步，制造出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能耗低敏感度高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产品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纳米技术在医学领域内的发展前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纳米器件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有可能成为未来保卫人类健康的一支忠实可靠的“卫队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9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纳米生物传感器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用于监测、收集、播送体内细胞的健康状态和病变信息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纳米药物存储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药泵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用于存储、运输指定存储的药物，并按指定的部位存放，即定点给药，其体积可达数个微米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876920"/>
            <a:ext cx="9144000" cy="1252080"/>
          </a:xfrm>
          <a:prstGeom prst="rect">
            <a:avLst/>
          </a:prstGeom>
          <a:gradFill rotWithShape="0">
            <a:gsLst>
              <a:gs pos="0">
                <a:srgbClr val="0000ff">
                  <a:alpha val="59215"/>
                </a:srgbClr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⑶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纳米生物导弹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直接用于治疗各种细胞水平的疾病，对病变组织有亲和力，对病变细胞有杀伤力，可特异性地杀灭肿瘤细胞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细胞修复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用于修复细胞内的各种病变，如线粒体、细胞核的病变；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细胞监督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用于监视免疫细胞、白细胞等细胞正常功能的发挥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细胞清扫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帮助清除体内的代谢废物以及外界进入体内的有害物质；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470400"/>
            <a:ext cx="9144000" cy="1191240"/>
          </a:xfrm>
          <a:prstGeom prst="rect">
            <a:avLst/>
          </a:prstGeom>
          <a:gradFill rotWithShape="0">
            <a:gsLst>
              <a:gs pos="0">
                <a:srgbClr val="0000ff">
                  <a:alpha val="62352"/>
                </a:srgbClr>
              </a:gs>
              <a:gs pos="100000">
                <a:srgbClr val="000075">
                  <a:alpha val="6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细胞检疫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巴西和美国科学家最近发明了世界上最小的“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秤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”，能够称量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0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克的物体，即相当于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一个病毒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重量。利用纳米“秤”可称出不同病毒的重量，可以发现新的病毒。可定点于口腔、咽喉、食道、气管等外界开放的部位，以充当“检疫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5672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42920"/>
            <a:ext cx="9144000" cy="1191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目前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纳米技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已广泛应用于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光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医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半导体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信息通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一年的营业额已经达到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５００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美元。有预测说，到２０１０年，纳米技术的市场容量将达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１４４００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美元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41720"/>
            <a:ext cx="9144000" cy="3778200"/>
          </a:xfrm>
          <a:prstGeom prst="rect">
            <a:avLst/>
          </a:prstGeom>
          <a:gradFill rotWithShape="0">
            <a:gsLst>
              <a:gs pos="0">
                <a:srgbClr val="00ffff">
                  <a:alpha val="92156"/>
                </a:srgbClr>
              </a:gs>
              <a:gs pos="100000">
                <a:srgbClr val="ffff00">
                  <a:alpha val="7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纳米电子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将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量子元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代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微电子器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巨型计算机就能装入口袋里；通过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纳米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易碎的陶瓷可以变成韧性的，成为一种重要材料；世界上还将出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１微米以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机器甚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机器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纳米技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还能给药物的传输提供新的方式和途径，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基因进行定点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X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纳米科技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中心理事会理事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X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院士说，目前，我国纳米科技的研究工作主要集中在纳米材料的合成和制备、扫描探针显微学、纳米电子学以及少量纳米技术的应用等方面。 在纳米科技中心的实验室里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防水防油的领带、吸水性强的化纤织物、具有自洁功能的空调和冰箱、性能超常的纳米粉体材料等研究成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已引起了各界人士极大兴趣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所以说：“如果仅仅将纳米技术等同于纳米材料，那就太狭隘了”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00200"/>
            <a:ext cx="9144000" cy="703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如果仅仅将纳米看成一种时尚、潮流，那就太短浅了”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033720"/>
            <a:ext cx="9144000" cy="2287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它是一场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认知的革命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会产生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雷霆万钧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的力量，彻底改变人类的整个生存状态、生产方式，它是一把双刃剑，只是更为锋利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-----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纳米热全球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 只是时间问题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在工业革命以前，大部分人类生产、科研不需要用到毫米，“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毛估估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”的做法说明了我们对这个世界认知的粗浅。</a:t>
            </a:r>
            <a:r>
              <a:rPr b="1" lang="en-US" sz="5400" spc="-1" strike="noStrike">
                <a:solidFill>
                  <a:srgbClr val="33cccc"/>
                </a:solidFill>
                <a:latin typeface="Times New Roman"/>
                <a:ea typeface="黑体"/>
              </a:rPr>
              <a:t>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299120"/>
            <a:ext cx="9144000" cy="1739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　以蒸汽机等机械发明为主要标志的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第一次工业革命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，将人类认知推向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毫米层次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。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纳米科技的终极目标，是按人的意愿，操纵单个原子、分子，构建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的具有一定功能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的器件或产品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。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819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 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现在人们的生产模式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是从大到小，从上到下的，比如造一个橱，要从粗木到木材到成品，造电脑，从半导体硅片，经过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切、割、刻、蚀、渗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等许多步骤，变成电子元器件，这个过程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原材料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浪费大、能耗大。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60480"/>
            <a:ext cx="9144000" cy="3141360"/>
          </a:xfrm>
          <a:prstGeom prst="rect">
            <a:avLst/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cc"/>
                </a:solidFill>
                <a:latin typeface="Times New Roman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而纳米技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，就是要做到，从小到大，从下到上。要什么东西，将分子、原子搭起来，就是什么东西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原材料浪费为零，能耗降到极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，彻底从技术上解决了环保问题。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33cccc"/>
                </a:solidFill>
                <a:latin typeface="Times New Roman"/>
                <a:ea typeface="黑体"/>
              </a:rPr>
              <a:t>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纳米技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将极大地提高人类储存、处理信息的能力。相对于同等体积、重量的微电子芯片，按纳米结构做成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纳电子芯片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可储存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１００万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１０００万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的信息量。</a:t>
            </a:r>
            <a:r>
              <a:rPr b="1" lang="en-US" sz="4000" spc="-1" strike="noStrike">
                <a:solidFill>
                  <a:srgbClr val="33cccc"/>
                </a:solidFill>
                <a:latin typeface="Times New Roman"/>
                <a:ea typeface="黑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3324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如果我们将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因特网技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技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结合起来，将来我们从因特网上不仅能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下载软件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而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能下载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具有特定功能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硬件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——例如纳米传感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。比如我需要一个手机，通过因特网告诉企业我的需求，对方根据我的需求设计出相应软件，通过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因特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挥一个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纳米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比如类似于打印机大小的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个性化工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如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纳米操纵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工作，我们所要做的，就是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将需要的原子、分子“原料”放进去，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就可能进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因特网生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。那么，企业的生产成本就大大降低，仅仅是脑力劳动成本，同时产品又可大量复制！到时候，从事直接物质生产的工人大大减少，人类就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主要从事科学研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以及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艺术活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这是我们人类的梦  想！”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404640"/>
            <a:ext cx="9144000" cy="2288520"/>
          </a:xfrm>
          <a:prstGeom prst="rect">
            <a:avLst/>
          </a:prstGeom>
          <a:solidFill>
            <a:srgbClr val="00ff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世界范围内已经兴起了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纳米技术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热潮，美国、日本、德国都把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纳米技术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视作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世纪的主导技术之一，并作为国家的战略发展项目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国在这一领域有领先的优势，如何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技术优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转化为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产业优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各级政府部门都有义不容辞的责任。迄今为止，由于认识上的差距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目前仅有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多条纳米材料和技术的生产线，以纳米材料和纳米技术注册的公司近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，但都是刚起步且规模小。我们能否以非凡的魄力来发展纳米产业，为经济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可持续发展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下扎实的基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从古文明到工业革命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；从蒸汽机到微电子技术的普遍应用；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从蔡伦造纸到今天的无纸化办公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-----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我们人类经历了一场又一场思想的革命，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生产和生活方式的巨大变革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而今纳米时代正向我们走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5105520"/>
            <a:ext cx="891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我们人类将开始梦一般的生活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--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5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6033960"/>
            <a:ext cx="954072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纳米技术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将是</a:t>
            </a:r>
            <a:r>
              <a:rPr b="1" lang="en-US" sz="4800" spc="-1" strike="noStrike">
                <a:solidFill>
                  <a:srgbClr val="00ffff"/>
                </a:solidFill>
                <a:latin typeface="黑体"/>
                <a:ea typeface="黑体"/>
              </a:rPr>
              <a:t>21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世纪的主导技术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600" y="0"/>
            <a:ext cx="8915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 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远景——— 美得像天方夜谭 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9" name=""/>
          <p:cNvSpPr/>
          <p:nvPr/>
        </p:nvSpPr>
        <p:spPr>
          <a:xfrm>
            <a:off x="142920" y="251460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努力吧，为了我们的梦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999040"/>
            <a:ext cx="9144000" cy="459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欢迎订购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思想前卫，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全套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《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倪洪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高中地理多媒体教学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1.0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》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适合教师上好每一堂公开课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适合学生学好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全部的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新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高一地理课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85760"/>
            <a:ext cx="9144000" cy="204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XXX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国一家公司预测纳米技术发展将经历５个阶段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一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要准确地控制原子数量在１００个以下的纳米结构物质；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二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生产纳米结构物质；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三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大量制造复杂的纳米结构物质将成为可能；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四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纳米计算机的出现；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五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研制出能够制造动力源与程序自动化的元件和装置。这家公司预计在未来１０年内，纳米技术可能发展到 “第三阶段”，超越“量子效应障碍”的技术，从而达到实用化水平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8290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诺贝尔奖获得者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XXXX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说，“未来将属于那些明智接受纳米，并且首先学习和使用它的国家。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　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　第二次工业革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，发明了电，从机械时代进入微电子时代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毫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不够用了，毫米的千分之一—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微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诞生了。随着科学技术的发展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微米层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的局限越来越明显，例如，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电脑芯片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虽然已越做越小，但即将达到材料的物理极限，只有进入另一个层次———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层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，才会有更大的突破，比如将现在的笔记本电脑变得像手表一样小，或更小，可以把它固定在纺织品面料上。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正如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牛顿力学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只适用于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低速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的宏观物体</a:t>
            </a:r>
            <a:r>
              <a:rPr b="1" lang="zh-CN" sz="4800" spc="-1" strike="noStrike">
                <a:solidFill>
                  <a:srgbClr val="33cccc"/>
                </a:solidFill>
                <a:latin typeface="Times New Roman"/>
                <a:ea typeface="黑体"/>
              </a:rPr>
              <a:t>，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高速运动</a:t>
            </a:r>
            <a:r>
              <a:rPr b="1" lang="zh-CN" sz="4800" spc="-1" strike="noStrike">
                <a:solidFill>
                  <a:srgbClr val="33cccc"/>
                </a:solidFill>
                <a:latin typeface="Times New Roman"/>
                <a:ea typeface="黑体"/>
              </a:rPr>
              <a:t>，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只能用相对论来解释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;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黑体"/>
              </a:rPr>
              <a:t>在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纳米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黑体"/>
              </a:rPr>
              <a:t>层次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许多原来在宏观尺度上使用的规律、定理、方式、方法，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都将不再适用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，世界将从此是另一个模样</a:t>
            </a:r>
            <a:r>
              <a:rPr b="1" lang="zh-CN" sz="4800" spc="-1" strike="noStrike">
                <a:solidFill>
                  <a:srgbClr val="33cccc"/>
                </a:solidFill>
                <a:latin typeface="Times New Roman"/>
                <a:ea typeface="黑体"/>
              </a:rPr>
              <a:t>。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我们现在所熟悉的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原材料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将是小至纳米级的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原子、分子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。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49360"/>
            <a:ext cx="97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那么什么是纳米呢？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90840" y="0"/>
            <a:ext cx="52052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" y="198108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纳米</a:t>
            </a:r>
            <a:r>
              <a:rPr b="1" lang="en-US" sz="6000" spc="-1" strike="noStrike">
                <a:solidFill>
                  <a:srgbClr val="00ffff"/>
                </a:solidFill>
                <a:latin typeface="黑体"/>
                <a:ea typeface="黑体"/>
              </a:rPr>
              <a:t>=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十亿分之一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１９５９年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诺贝尔奖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获得者、被认为继爱因斯坦之后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最为睿智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的理论物理学家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—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理查得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·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费因曼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教授在加州理工大学发表了题为《在底部还有很大空间》的演讲。在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费因曼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看来，人类社会目前的生产方式，总是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从上而下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的，他提出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为什么我们不可以从单个分子、甚至原子开始出发，进行组装，达到我们的要求？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物理学的规律不排除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原子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一个原子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制造物品的可能。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”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156360"/>
            <a:ext cx="9468000" cy="703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国际上公认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0.1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～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100nm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为纳米尺度空间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铅表面的原子世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937040"/>
            <a:ext cx="9144000" cy="1312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１９８１年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，德国科学家发明了纳米显微镜，即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扫描隧道显微镜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ＳＴＭ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）人类从此可以直观地观察到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单个原子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了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看得见原子只是第一步！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二步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就是要能够操纵它。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１９９０年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美国加州ＩＢＭ实验室，将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３５个氙原子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排布成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ＩＢＭ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”３个字母，总面积只有几个平方纳米，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人类第一次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实现了操纵单个原子，纳米科技的序幕拉开了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724280" y="5257800"/>
              <a:ext cx="4191120" cy="611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ffcc"/>
                  </a:solidFill>
                  <a:latin typeface="Times New Roman"/>
                  <a:ea typeface="黑体"/>
                </a:rPr>
                <a:t>江苏省张家港高级中学倪洪祥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4570560"/>
            <a:ext cx="9144000" cy="155628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在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扫描隧道显微镜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下，科学家将</a:t>
            </a:r>
            <a:r>
              <a:rPr b="1" lang="en-US" sz="4800" spc="-1" strike="noStrike">
                <a:solidFill>
                  <a:srgbClr val="ff00ff"/>
                </a:solidFill>
                <a:latin typeface="黑体"/>
                <a:ea typeface="黑体"/>
              </a:rPr>
              <a:t>48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个铁原子排列在铜表面上，形成一个圆形围栏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34840" y="260280"/>
            <a:ext cx="2009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量子围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7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2700360" cy="3174480"/>
            <a:chOff x="0" y="0"/>
            <a:chExt cx="2700360" cy="31744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66674" t="4630" r="11724" b="74793"/>
            <a:stretch/>
          </p:blipFill>
          <p:spPr>
            <a:xfrm>
              <a:off x="0" y="0"/>
              <a:ext cx="2700360" cy="23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98960" y="2349360"/>
              <a:ext cx="1643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纳米齿轮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0" y="3284640"/>
            <a:ext cx="2916360" cy="2769480"/>
            <a:chOff x="0" y="3284640"/>
            <a:chExt cx="2916360" cy="27694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0" y="3284640"/>
              <a:ext cx="2916360" cy="20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49880" y="5229000"/>
              <a:ext cx="1643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纳米铜具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409080" y="830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纳米陶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76720" y="0"/>
            <a:ext cx="5867280" cy="6125760"/>
            <a:chOff x="3276720" y="0"/>
            <a:chExt cx="5867280" cy="6125760"/>
          </a:xfrm>
        </p:grpSpPr>
        <p:grpSp>
          <p:nvGrpSpPr>
            <p:cNvPr id="150" name=""/>
            <p:cNvGrpSpPr/>
            <p:nvPr/>
          </p:nvGrpSpPr>
          <p:grpSpPr>
            <a:xfrm>
              <a:off x="3276720" y="0"/>
              <a:ext cx="5867280" cy="6125760"/>
              <a:chOff x="3276720" y="0"/>
              <a:chExt cx="5867280" cy="6125760"/>
            </a:xfrm>
          </p:grpSpPr>
          <p:pic>
            <p:nvPicPr>
              <p:cNvPr id="151" name="" descr=""/>
              <p:cNvPicPr/>
              <p:nvPr/>
            </p:nvPicPr>
            <p:blipFill>
              <a:blip r:embed="rId3"/>
              <a:srcRect l="6358" t="13476" r="4563" b="12397"/>
              <a:stretch/>
            </p:blipFill>
            <p:spPr>
              <a:xfrm>
                <a:off x="5148360" y="0"/>
                <a:ext cx="3995640" cy="23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439320" y="2421000"/>
                <a:ext cx="1643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00"/>
                    </a:solidFill>
                    <a:latin typeface="Times New Roman"/>
                    <a:ea typeface="黑体"/>
                  </a:rPr>
                  <a:t>量子围栏</a:t>
                </a: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276720" y="3284640"/>
                <a:ext cx="2664000" cy="2841120"/>
                <a:chOff x="3276720" y="3284640"/>
                <a:chExt cx="2664000" cy="2841120"/>
              </a:xfrm>
            </p:grpSpPr>
            <p:pic>
              <p:nvPicPr>
                <p:cNvPr id="15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76720" y="3284640"/>
                  <a:ext cx="2664000" cy="204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>
                  <a:off x="3775680" y="5300640"/>
                  <a:ext cx="16437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ffff00"/>
                      </a:solidFill>
                      <a:latin typeface="Times New Roman"/>
                      <a:ea typeface="黑体"/>
                    </a:rPr>
                    <a:t>纳米陶瓷</a:t>
                  </a: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6303960" y="3284640"/>
              <a:ext cx="28400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357960" y="5300640"/>
              <a:ext cx="264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碳纳米管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700360" y="0"/>
            <a:ext cx="2448000" cy="3174480"/>
            <a:chOff x="2700360" y="0"/>
            <a:chExt cx="2448000" cy="3174480"/>
          </a:xfrm>
        </p:grpSpPr>
        <p:sp>
          <p:nvSpPr>
            <p:cNvPr id="159" name=""/>
            <p:cNvSpPr/>
            <p:nvPr/>
          </p:nvSpPr>
          <p:spPr>
            <a:xfrm>
              <a:off x="3126240" y="2349360"/>
              <a:ext cx="1643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纳米轴承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2700360" y="0"/>
              <a:ext cx="2448000" cy="2349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3213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世界上最小的键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3809880"/>
            <a:ext cx="2390760" cy="304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2381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300720" y="4648320"/>
            <a:ext cx="28432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31840" y="0"/>
            <a:ext cx="5779800" cy="1379520"/>
            <a:chOff x="231840" y="0"/>
            <a:chExt cx="5779800" cy="1379520"/>
          </a:xfrm>
        </p:grpSpPr>
        <p:grpSp>
          <p:nvGrpSpPr>
            <p:cNvPr id="167" name=""/>
            <p:cNvGrpSpPr/>
            <p:nvPr/>
          </p:nvGrpSpPr>
          <p:grpSpPr>
            <a:xfrm>
              <a:off x="231840" y="0"/>
              <a:ext cx="3983040" cy="1378080"/>
              <a:chOff x="231840" y="0"/>
              <a:chExt cx="3983040" cy="1378080"/>
            </a:xfrm>
          </p:grpSpPr>
          <p:pic>
            <p:nvPicPr>
              <p:cNvPr id="1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31840" y="6480"/>
                <a:ext cx="137592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550160" y="0"/>
                <a:ext cx="136332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851560" y="0"/>
                <a:ext cx="136332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>
              <a:off x="4441320" y="0"/>
              <a:ext cx="1570320" cy="137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216000" y="1413000"/>
            <a:ext cx="5905440" cy="2409840"/>
            <a:chOff x="216000" y="1413000"/>
            <a:chExt cx="5905440" cy="2409840"/>
          </a:xfrm>
        </p:grpSpPr>
        <p:pic>
          <p:nvPicPr>
            <p:cNvPr id="173" name="" descr=""/>
            <p:cNvPicPr/>
            <p:nvPr/>
          </p:nvPicPr>
          <p:blipFill>
            <a:blip r:embed="rId9"/>
            <a:stretch/>
          </p:blipFill>
          <p:spPr>
            <a:xfrm>
              <a:off x="250920" y="1424160"/>
              <a:ext cx="12906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0"/>
            <a:stretch/>
          </p:blipFill>
          <p:spPr>
            <a:xfrm>
              <a:off x="1835280" y="1413000"/>
              <a:ext cx="2376360" cy="16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1"/>
            <a:stretch/>
          </p:blipFill>
          <p:spPr>
            <a:xfrm>
              <a:off x="4427640" y="1432080"/>
              <a:ext cx="1655640" cy="16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6000" y="2997360"/>
              <a:ext cx="5905440" cy="825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993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年后，我国科学家先后操纵原子写出“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XX”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、“原子”、绘出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XX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国轮廓图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2"/>
          <a:srcRect l="4343" t="11319" r="43486" b="15108"/>
          <a:stretch/>
        </p:blipFill>
        <p:spPr>
          <a:xfrm>
            <a:off x="2700360" y="3860640"/>
            <a:ext cx="3384360" cy="2303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323520" y="60339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存储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4:22Z</dcterms:created>
  <dc:creator/>
  <dc:description/>
  <cp:keywords>纳米知识  推动 科技 进步</cp:keywords>
  <dc:language>en-US</dc:language>
  <cp:lastModifiedBy/>
  <dcterms:modified xsi:type="dcterms:W3CDTF">2015-07-09T13:25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