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68B-83FA-4115-94F6-73A8D005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58A-DAC8-4B51-9377-074ECBE0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F20-0408-42DA-BD8D-30068542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94E-C4A9-4D43-9C37-9886F0B8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246-F4B6-4CE0-A645-F7CAB78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388-3A39-4185-B9E3-2F64C516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BFC-9540-4051-BDA2-02796609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6FF-32FD-4403-ABCF-2AA858D7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81B-9A97-4928-9754-B2E41AAC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D23-3DD1-4FC6-9EC9-4C289CD1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9B5-BC32-4326-B3A1-6EA61ECC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D2B-7DED-4381-B288-82035486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8BAF-C602-49C3-9501-F0AB23B3866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9D39-7021-4882-BC23-4BBAD4FB0DD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5"/>
          <p:cNvGrpSpPr/>
          <p:nvPr/>
        </p:nvGrpSpPr>
        <p:grpSpPr>
          <a:xfrm>
            <a:off x="900000" y="2349360"/>
            <a:ext cx="7618680" cy="2705400"/>
            <a:chOff x="900000" y="2349360"/>
            <a:chExt cx="7618680" cy="2705400"/>
          </a:xfrm>
        </p:grpSpPr>
        <p:sp>
          <p:nvSpPr>
            <p:cNvPr id="43" name="AutoShape 2"/>
            <p:cNvSpPr/>
            <p:nvPr/>
          </p:nvSpPr>
          <p:spPr>
            <a:xfrm>
              <a:off x="6883560" y="2349360"/>
              <a:ext cx="1635120" cy="9446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4"/>
            <p:cNvSpPr/>
            <p:nvPr/>
          </p:nvSpPr>
          <p:spPr>
            <a:xfrm>
              <a:off x="5685120" y="2349360"/>
              <a:ext cx="1635120" cy="9446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5"/>
            <p:cNvSpPr/>
            <p:nvPr/>
          </p:nvSpPr>
          <p:spPr>
            <a:xfrm>
              <a:off x="4490640" y="2349360"/>
              <a:ext cx="1635120" cy="9446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6"/>
            <p:cNvSpPr/>
            <p:nvPr/>
          </p:nvSpPr>
          <p:spPr>
            <a:xfrm>
              <a:off x="3296520" y="2349360"/>
              <a:ext cx="1635120" cy="9446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7"/>
            <p:cNvSpPr/>
            <p:nvPr/>
          </p:nvSpPr>
          <p:spPr>
            <a:xfrm>
              <a:off x="2102040" y="2349360"/>
              <a:ext cx="1635120" cy="9446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8"/>
            <p:cNvSpPr/>
            <p:nvPr/>
          </p:nvSpPr>
          <p:spPr>
            <a:xfrm>
              <a:off x="907920" y="2349360"/>
              <a:ext cx="1635120" cy="9446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26"/>
            <p:cNvSpPr/>
            <p:nvPr/>
          </p:nvSpPr>
          <p:spPr>
            <a:xfrm>
              <a:off x="1293480" y="241596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27"/>
            <p:cNvSpPr/>
            <p:nvPr/>
          </p:nvSpPr>
          <p:spPr>
            <a:xfrm>
              <a:off x="2552760" y="2415960"/>
              <a:ext cx="32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28"/>
            <p:cNvSpPr/>
            <p:nvPr/>
          </p:nvSpPr>
          <p:spPr>
            <a:xfrm>
              <a:off x="3751560" y="241596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9"/>
            <p:cNvSpPr/>
            <p:nvPr/>
          </p:nvSpPr>
          <p:spPr>
            <a:xfrm>
              <a:off x="4950000" y="241596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30"/>
            <p:cNvSpPr/>
            <p:nvPr/>
          </p:nvSpPr>
          <p:spPr>
            <a:xfrm>
              <a:off x="6210720" y="241596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31"/>
            <p:cNvSpPr/>
            <p:nvPr/>
          </p:nvSpPr>
          <p:spPr>
            <a:xfrm>
              <a:off x="7407720" y="2415960"/>
              <a:ext cx="32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18"/>
            <p:cNvSpPr/>
            <p:nvPr/>
          </p:nvSpPr>
          <p:spPr>
            <a:xfrm>
              <a:off x="7009200" y="3356640"/>
              <a:ext cx="1198800" cy="16981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9"/>
            <p:cNvSpPr/>
            <p:nvPr/>
          </p:nvSpPr>
          <p:spPr>
            <a:xfrm>
              <a:off x="900000" y="3356640"/>
              <a:ext cx="1198800" cy="1698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0"/>
            <p:cNvSpPr/>
            <p:nvPr/>
          </p:nvSpPr>
          <p:spPr>
            <a:xfrm>
              <a:off x="2121840" y="3356640"/>
              <a:ext cx="1198800" cy="16981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21"/>
            <p:cNvSpPr/>
            <p:nvPr/>
          </p:nvSpPr>
          <p:spPr>
            <a:xfrm>
              <a:off x="3343680" y="3356640"/>
              <a:ext cx="1198800" cy="1698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2"/>
            <p:cNvSpPr/>
            <p:nvPr/>
          </p:nvSpPr>
          <p:spPr>
            <a:xfrm>
              <a:off x="4565520" y="3356640"/>
              <a:ext cx="1198800" cy="16981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3"/>
            <p:cNvSpPr/>
            <p:nvPr/>
          </p:nvSpPr>
          <p:spPr>
            <a:xfrm>
              <a:off x="5787360" y="3356640"/>
              <a:ext cx="1198800" cy="1698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24"/>
            <p:cNvSpPr/>
            <p:nvPr/>
          </p:nvSpPr>
          <p:spPr>
            <a:xfrm>
              <a:off x="5099040" y="3412440"/>
              <a:ext cx="55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25"/>
            <p:cNvSpPr/>
            <p:nvPr/>
          </p:nvSpPr>
          <p:spPr>
            <a:xfrm>
              <a:off x="7610040" y="3412440"/>
              <a:ext cx="55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6"/>
            <p:cNvSpPr/>
            <p:nvPr/>
          </p:nvSpPr>
          <p:spPr>
            <a:xfrm>
              <a:off x="6340680" y="3412440"/>
              <a:ext cx="55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27"/>
            <p:cNvSpPr/>
            <p:nvPr/>
          </p:nvSpPr>
          <p:spPr>
            <a:xfrm>
              <a:off x="1413360" y="3412440"/>
              <a:ext cx="55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8"/>
            <p:cNvSpPr/>
            <p:nvPr/>
          </p:nvSpPr>
          <p:spPr>
            <a:xfrm>
              <a:off x="2647440" y="3412440"/>
              <a:ext cx="55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29"/>
            <p:cNvSpPr/>
            <p:nvPr/>
          </p:nvSpPr>
          <p:spPr>
            <a:xfrm>
              <a:off x="3936600" y="3412440"/>
              <a:ext cx="55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9672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61000" y="1341360"/>
            <a:ext cx="43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目录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A14-EE68-4C87-83C0-180CB142DC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42:58Z</dcterms:modified>
  <cp:revision>10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