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2022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3D91-6D0E-4298-A50A-B8333508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07080"/>
            <a:ext cx="82296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E12-3390-4702-A5FC-764A6423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070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070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425C-2FAF-4BC5-A093-5686E219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26496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14280"/>
            <a:ext cx="26496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14280"/>
            <a:ext cx="26496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07080"/>
            <a:ext cx="26496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07080"/>
            <a:ext cx="26496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07080"/>
            <a:ext cx="26496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BDBB-3EA8-4940-9F09-9E40A557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4280"/>
            <a:ext cx="8229600" cy="34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E0F8-38B6-49A1-A1B9-1681ADCD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009-A9B2-436B-93B3-A357982E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567F-E210-4619-8268-B0270B89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83FB-2AF5-4E81-9C40-AD3E7E0B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3F59-A9B3-4E0E-B066-6016004F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070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4FAB-1D8D-4E86-A434-DA0B407F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070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7F62-83C9-4C58-A426-1CCC085C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07080"/>
            <a:ext cx="82296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501B-946E-4BC0-B476-F3D849EB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4280"/>
            <a:ext cx="822960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36880"/>
            <a:ext cx="21337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36880"/>
            <a:ext cx="289584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36880"/>
            <a:ext cx="21337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C82C-5AD4-4E8B-A1F3-F92FE287D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60" y="476244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01600" y="225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藤蔓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963720"/>
            <a:ext cx="8928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252360"/>
            <a:ext cx="1388880" cy="265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3A78-5D6E-4D15-9D0A-607CC71CD5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06:43:0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6:32:30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