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A45-1CB0-4BBF-B8FC-233D9A3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44C-808A-40B6-A057-66BF34AA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427-8916-45C3-A08B-6AB1D5C0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D43-8389-4FB4-9B50-1C0E6111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910-1B9A-4D13-9BB5-0692F67E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200-C848-4DF3-8634-7F91ECF0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6D8-518D-40AA-92F2-E20A2720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4EA-FB92-486B-929E-36DEFEDD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585-A3A4-4D9D-8E40-BB2EDD27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186-AF72-4C66-92FD-693D2275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49A-CB49-4B31-866E-E1E3E6C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B0E-3EE1-4254-8D14-7A2E727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FE1-26A9-418B-B2C5-DF24141CCCE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CA9E-6E11-4164-A677-451E0E64CA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interrogacon 4"/>
          <p:cNvPicPr/>
          <p:nvPr/>
        </p:nvPicPr>
        <p:blipFill>
          <a:blip r:embed="rId1"/>
          <a:srcRect l="4592" t="11938" r="38042" b="26478"/>
          <a:stretch/>
        </p:blipFill>
        <p:spPr>
          <a:xfrm>
            <a:off x="5219640" y="657360"/>
            <a:ext cx="3781440" cy="604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9200" y="333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问号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8D3-0ED2-4C7F-8DBF-A2EF44BEBB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35:35Z</dcterms:modified>
  <cp:revision>89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