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64F-206D-4A56-916C-19956D70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63F-6928-4366-B74B-71191A08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F02-3F87-46A3-B095-F7CF6B02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2A74-260E-4F6F-A9E3-5F8814BE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EB1-30F8-44E4-BD2C-DF663888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DFBE-B78B-4988-8C9D-1F3539F4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F14-1565-41C7-AFDC-3CE2541A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F07C-272A-4972-BE9B-E39792C0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7DB-F56C-4829-9ABA-03EA2DB2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0F1-C3C0-493F-93E4-3120B2F1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E82-83AE-4D42-8ADA-C8F4BCFF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3F1F-045B-4EA7-A508-BD6ED4EE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C9A9-1710-4CBD-95DA-D9142BF00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637480" cy="3849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7" descr=""/>
          <p:cNvPicPr/>
          <p:nvPr/>
        </p:nvPicPr>
        <p:blipFill>
          <a:blip r:embed="rId3"/>
          <a:stretch/>
        </p:blipFill>
        <p:spPr>
          <a:xfrm>
            <a:off x="1071720" y="620640"/>
            <a:ext cx="7100640" cy="425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"/>
          <p:cNvPicPr/>
          <p:nvPr/>
        </p:nvPicPr>
        <p:blipFill>
          <a:blip r:embed="rId4"/>
          <a:stretch/>
        </p:blipFill>
        <p:spPr>
          <a:xfrm>
            <a:off x="0" y="4457880"/>
            <a:ext cx="9144000" cy="2400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12520" y="189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589200" cy="1652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0" y="1125360"/>
            <a:ext cx="9144000" cy="4070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tretch/>
        </p:blipFill>
        <p:spPr>
          <a:xfrm>
            <a:off x="6948360" y="2708280"/>
            <a:ext cx="1791000" cy="3862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2360" y="6310440"/>
            <a:ext cx="496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79AB-2B64-4AC0-9627-D2F023B9B0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6:40:53Z</dcterms:modified>
  <cp:revision>8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