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74167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4000" y="3814200"/>
            <a:ext cx="74167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420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124520" y="381420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31760" y="69228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9160" y="69228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4000" y="381420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31760" y="381420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39160" y="381420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24000" y="692280"/>
            <a:ext cx="741672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7416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74167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4000" y="381420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24000" y="692280"/>
            <a:ext cx="741672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24520" y="381420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4000" y="3814200"/>
            <a:ext cx="74167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74167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4000" y="3814200"/>
            <a:ext cx="74167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1420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124520" y="381420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31760" y="69228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9160" y="69228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24000" y="381420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831760" y="381420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339160" y="3814200"/>
            <a:ext cx="23878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7416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74167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24000" y="381420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24520" y="381420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4824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24520" y="692280"/>
            <a:ext cx="361908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3814200"/>
            <a:ext cx="74167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416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692280"/>
            <a:ext cx="7416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5905800" cy="11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b69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5905800" cy="11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b69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0360" y="26028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植物类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7416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797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e66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128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8800" y="1052280"/>
            <a:ext cx="71168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e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30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54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