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103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5" descr="1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82640" y="404640"/>
            <a:ext cx="29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植物类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60360" y="5661000"/>
            <a:ext cx="496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11:31:5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7:06:17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8603000000000001024140</vt:lpwstr>
  </property>
</Properties>
</file>