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3C29-081D-4B89-AD9E-D81CA7A5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E3D-E083-4E5D-B0FA-C7C5A3B9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89E-41AC-4142-A685-C27AA3CC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669-D82B-43F4-A1A5-DC2B0C51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070-F6C9-45B6-BE59-0B5518C5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FC3-B484-48A9-9B45-0D862E47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3CD-BE1E-45F3-B4A5-3CD7876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13B7-1333-4EEA-B624-A719B508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394-EC04-4624-825B-7034EE74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66AE-E320-47E2-95FE-F8F83841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F66-946C-4DF0-80E2-3A5F84AA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A877-951A-45E9-89F9-58CD0B5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9F0C-3FBD-461B-BC64-160274557F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153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General Ecolog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12536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隶书"/>
                <a:ea typeface="隶书"/>
              </a:rPr>
              <a:t>普通生态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现在大气成分及含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42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种主要气体：氮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70.08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氧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0.95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氩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0.93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，共占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99.96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水汽：随时空及温度变化，占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0-3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液固态微粒：水滴、尘埃、花粉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地球表面的温度和化学组成是受地球表面的生命总体（生物圈）主动调节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地球大气受干扰而发生变化，生物通过改变其生长和代谢，如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光合作用和呼吸作用等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缓和地球表面的这些变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Gaia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假说认为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Gaia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假说的现实生态学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目前，环境问题威胁着人类的可持续发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大量化石燃料燃烧，森林面积的急剧减小，大气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CO</a:t>
            </a:r>
            <a:r>
              <a:rPr b="0" lang="zh-CN" sz="4000" spc="-1" strike="noStrike" baseline="-30000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浓度的升高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三、生物多样性（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Biodiversity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目前地球上的生物至少有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00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万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组成了地球上最大的功能单元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-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物圈（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Biosphere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四、生物圈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Biosphere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物圈：是地球上所有动物、植物和微生物等生物有机体及其活动空间的总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物圈的核心部分，即地表面以上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0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米至水面下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0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米之间，集中了绝大部分生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生物圈产生的“泵”的作用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以生物过程推动能量、水、物质、动量的输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一般包括：生产者、消费者、分解者和无机环境四部分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生物圈的两个重要部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植被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是生物圈中最重要的组成部分，同各圈存在紧密联系。进行物质和能量的交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植被的分布影响地气系统的辐射平衡和动量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26920" y="836280"/>
            <a:ext cx="685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物理气候系统中的植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、海洋浮游生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特别是海洋浮游植物，是生物圈的一个重要部分。是碳循环的重要组成部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55468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人类能否生活在其它星球上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课程的主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1-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：绪论及生物与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3-5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：种群生态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6-7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、生物群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9-12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：生态系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第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15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章：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环境保护与可持续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人们居住的地球被称为“生物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号”； “生物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号”和“生物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号”将建在南北极，“生物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号”准备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2020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年发射到月球上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1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雨林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2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疏林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海洋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/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沼澤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3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沙漠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4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密集的農耕地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5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人類棲地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6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和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7) 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人造肺部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8)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能源中心、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(9)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冷却</a:t>
            </a:r>
            <a:r>
              <a:rPr b="0" lang="zh-TW" sz="3200" spc="-1" strike="noStrike">
                <a:solidFill>
                  <a:srgbClr val="ffff00"/>
                </a:solidFill>
                <a:latin typeface="隶书"/>
                <a:ea typeface="隶书"/>
              </a:rPr>
              <a:t>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第二节  生态学的形成及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一、生态学的定义及研究对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二、生态学的形成与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三、生态学的方法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态学是研究生物及环境间相互关系的科学。即：生物及其群体与环境相互作用的过程及其相互规律的科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目的是指导人与生物圈的协调发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近代生态学定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二）生态学的研究对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态学属宏观生物学范畴，但现代生态学向微观和宏观两个方向发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1.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根据研究对象的组织水平划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分子生态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Molecular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进化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Evolutionary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个体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ut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Physiological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种群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Population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群落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ommunity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，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Syn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生态系统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Ecosystem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景观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Landscape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全球生态学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Global Ecolog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按现代生物学组织层次划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2.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研究对象的分类学类群划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197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植物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Plant 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动物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Animal 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微生物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Microbial 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昆虫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Insect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人类生态学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Human Ecology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3. 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研究对象的生境类别划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淡水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Fresh-water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海洋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Marine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河口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Estuary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湿地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Wetland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热带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Trop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陆地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Terrestri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陆地生态学又可分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森林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Forest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草地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Grassland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荒漠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Desert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冻原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Tundra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。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4.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按交叉学科划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数学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mathemat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化学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chem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物理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phys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地理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geographic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生理生态学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physiologic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进化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evolutionary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行为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behavioral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遗传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genetic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经济生态学（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economic ecology</a:t>
            </a:r>
            <a:r>
              <a:rPr b="0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第一节  地球上的生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5.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按应用领域划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农业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Agro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城市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Urban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污染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Pollution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渔业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Fishery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放射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Radio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资源生态学（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Resource Ecology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二、生态学的形成与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（一）生态学萌芽时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在公元前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000-100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年间，朦胧的生态学思想已见诸于希腊和中国的古歌谣和著作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Aristotle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按栖息地划分了动物类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001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植物群落生态学方面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,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先后提出了诸如顶极群落、演替动态、生物群落类型（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biom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）、植被连续性和排序等重要的概念，对生态学理论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的发展起了重要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形成了几个中心或学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）北欧学派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他们重视群落分析、森林群落与土壤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pH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值关系，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1935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年以后，与法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瑞学派合流，合称西欧学派，或叫大陆学派。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）法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-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瑞学派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这学派的特点是重视群落研究的方法，用特征种和区别种划分群落的类型，建立了严密的植被等级分类系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）英美学派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特点是重视群落的动态，从植物群落演替观点提出演替系列、演替阶段、群落分类方法，并提出了演替顶极的概念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(Climax)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4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）前苏联学派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注重建群种与优势种，建立了一个植被等级分类系统，并重视植被生态与植被地理工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四）现代生态学的时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生态学研究对象的多层次性更明显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研究手段的更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生态学在理论、应用方面获得了全面的发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生态学研究的国际性是其发展的趋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三、生态学的方法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（一）树立生态学的基本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层次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整体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系统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协同进化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二）掌握基本的研究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原地观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受控实验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生态学的综合方法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一、什么是生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命是具有自我复制和具负载遗传信息功能的核酸等生物大分子，高度组织化的物质结构；通过生物膜实现内外的分隔，形成细胞，构成组织与生物体，并实现内外物质交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（三）学会理论联系实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首先要掌握生态学的基本原理。认真阅读教材，深入理解，归纳总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脚踏实地开展实践活动，增强独立科研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二、生命的起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维生环境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的形成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与组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化学进化阶段：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地球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上约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3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亿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年前有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简单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生物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。缺少氧气、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紫外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线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、毒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、溫度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变化极大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环境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生物学进化：约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在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2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亿年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前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蓝绿藻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Cyanophyta</a:t>
            </a:r>
            <a:r>
              <a:rPr b="0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出現，光合作用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而产生氧气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，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逐渐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改变大气环境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010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生物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对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地球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大气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形成的影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600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空气中的氧含量在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0%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左右；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若高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于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25%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湿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的木材也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会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燃火；若是低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于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15%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，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则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燃火就很困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难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最早的光合作用可能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S + CO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→ CH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 + S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3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从运用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0" lang="en-US" sz="44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S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转变</a:t>
            </a: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到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运</a:t>
            </a:r>
            <a:r>
              <a:rPr b="0" lang="zh-TW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用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0" lang="en-US" sz="44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01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逐渐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演化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为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 + CO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  → CH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O + O</a:t>
            </a:r>
            <a:r>
              <a:rPr b="0" lang="en-US" sz="40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约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有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亿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年，光合作用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产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生的氧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都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转变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成氧化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铁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沉</a:t>
            </a:r>
            <a:r>
              <a:rPr b="0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积</a:t>
            </a:r>
            <a:r>
              <a:rPr b="0" lang="zh-TW" sz="4000" spc="-1" strike="noStrike">
                <a:solidFill>
                  <a:srgbClr val="ffff00"/>
                </a:solidFill>
                <a:latin typeface="隶书"/>
                <a:ea typeface="隶书"/>
              </a:rPr>
              <a:t>海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光合作用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产</a:t>
            </a:r>
            <a:r>
              <a:rPr b="0" lang="zh-TW" sz="4400" spc="-1" strike="noStrike">
                <a:solidFill>
                  <a:srgbClr val="ffff00"/>
                </a:solidFill>
                <a:latin typeface="隶书"/>
                <a:ea typeface="隶书"/>
              </a:rPr>
              <a:t>生的氧</a:t>
            </a:r>
            <a:r>
              <a:rPr b="0" lang="zh-CN" sz="44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94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15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亿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年至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20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亿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年前，光合作用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产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生的氧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才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开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始在大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中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累计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真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核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eukaryotic)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生物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约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在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13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亿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年前出現。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当时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大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的氧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量只有現在的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1%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现在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地球有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58%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的氧形成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Fe</a:t>
            </a:r>
            <a:r>
              <a:rPr b="0" lang="en-US" sz="36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O</a:t>
            </a:r>
            <a:r>
              <a:rPr b="0" lang="en-US" sz="36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，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38%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与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岩石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SO</a:t>
            </a:r>
            <a:r>
              <a:rPr b="0" lang="en-US" sz="3600" spc="-1" strike="noStrike" baseline="-20000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  <a:ea typeface="隶书"/>
              </a:rPr>
              <a:t>2-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)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结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合成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大陆红床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(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red beds)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，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只有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4%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进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入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大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气</a:t>
            </a:r>
            <a:r>
              <a:rPr b="0" lang="zh-TW" sz="3600" spc="-1" strike="noStrike">
                <a:solidFill>
                  <a:srgbClr val="ffff00"/>
                </a:solidFill>
                <a:latin typeface="隶书"/>
                <a:ea typeface="隶书"/>
              </a:rPr>
              <a:t>。</a:t>
            </a:r>
            <a:r>
              <a:rPr b="0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形成的臭氧层吸收紫外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普通 生态学</cp:keywords>
  <dc:language>en-US</dc:language>
  <cp:lastModifiedBy/>
  <cp:revision>0</cp:revision>
  <dc:subject/>
  <dc:title/>
</cp:coreProperties>
</file>