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30C-BDDC-484C-8E83-6491074E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8FD-F927-45DA-A190-6E12C27B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151B-EDC2-4E18-9F96-068CEE18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1EF-4A18-4FE1-A796-7EC6A17B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4389-8606-4ACF-8FE7-1331147F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BB5A-084C-422A-8E4F-BA9DF289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7213-AFEF-4142-8E70-F2FE6E76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9BFC-0682-44DD-A580-7D0802D8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16D0-5367-430A-880D-9888E5D8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43CA-6567-4522-8484-D9C6B699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29AC-D729-417C-9F42-130FA556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6529-9EF5-4CEA-9678-78919586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C444-0C75-4BFB-BDAD-B7F1A5D8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2BD6-37C3-4C7B-AB62-2EFD5B42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B22E-9692-4B59-9AEE-7DB3F338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0722-8509-44BD-8284-2E336580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232F-34D1-4058-AC9E-122E4B31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811-4010-463A-82F4-058A1615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B15-6E72-4AF4-8157-EE87B7E5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758-A2F9-4D97-A77E-84CA747F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A98-F176-43A2-A162-7FEEDFE9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3AC-884E-49A4-B41C-04ED43E4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1B8-DED4-4514-ABCD-C214FEF7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4E6-C4F8-4921-9D20-2CBCC045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7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9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416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36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3A70-081E-41D8-AD6D-DB03AC42A43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5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876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596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17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89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48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8309-D9D3-4DE2-9210-5042A65C807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青年与老年</a:t>
            </a:r>
            <a:endParaRPr b="0" lang="en-US" sz="8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哲理小故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4495320"/>
            <a:ext cx="86104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一天，青年在园林中遇到一位老人，两人边走边谈。青年看到一丛鲜花，就说：“青春，就象这花一样鲜艳。”他又看了一下落叶说：“衰老，就象落叶一样可悲。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4774680"/>
            <a:ext cx="91440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老人听罢，说：“你的比喻既对又不对。见到过核桃吗？”青年不以为然说：“当然见过。”老人微笑着说：“如果你是鲜花，我就是那干枯的核桃。但是，鲜花的价值没有核桃的价值大。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896000" y="4149360"/>
            <a:ext cx="42480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轻人不服气，“要是没有鲜花，哪来果实呢？”老人幽幽地说：“是啊！所有的果实都曾经是鲜花，然而不是所有的鲜花都会成为果实。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青年哑口无言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宋体"/>
              </a:rPr>
              <a:t>老年人如夕照</a:t>
            </a:r>
            <a:endParaRPr b="0" lang="en-US" sz="6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宋体"/>
              </a:rPr>
              <a:t>少年人如朝阳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少年人如初虎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74280" y="189000"/>
            <a:ext cx="11257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老年人如字典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7" name="1" descr=""/>
          <p:cNvPicPr/>
          <p:nvPr/>
        </p:nvPicPr>
        <p:blipFill>
          <a:blip r:embed="rId1"/>
          <a:stretch/>
        </p:blipFill>
        <p:spPr>
          <a:xfrm>
            <a:off x="828720" y="4721400"/>
            <a:ext cx="2663640" cy="2020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300720" y="189000"/>
            <a:ext cx="137340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宋体"/>
              </a:rPr>
              <a:t>少年人如戏文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47242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虽说“自古英雄出少年”，却也有“满目青山夕照明”。青年有搏击长空的活力；老年自有笃厚醇香的魅力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青年 老年</cp:keywords>
  <dc:language>en-US</dc:language>
  <cp:lastModifiedBy/>
  <cp:revision>0</cp:revision>
  <dc:subject/>
  <dc:title/>
</cp:coreProperties>
</file>