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4.gif" ContentType="image/gi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530-DFCF-4994-818B-71116426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3D2-C958-4800-9050-82D19821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FFF-3AB7-4711-8B76-BDF6A3AF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DF0-1B28-4301-8268-96AFB631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1B5-ABF0-4AC0-A15F-45FA158E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0185-0A09-4D8C-8A64-4DC423B9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603-27BD-47F1-870C-CB7E240F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F89-871D-4543-9104-B8B130E3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37E-0F87-4B14-88E6-EDD46C5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FAE1-A90B-4D30-9322-1BEB9E5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BF3-1911-450D-A846-1C643D1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F78-8E68-49CC-968D-1A41AC45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2235-2752-4AC3-BAC6-0FF4847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CBF0-4B2E-47EE-B96B-7993B43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0E43-C6B1-44FE-BA83-97D6F98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01A2-9036-4A98-9E4B-E7D0FF53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8284-9C8A-44E2-B8E6-CF24301C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2B9-5ECA-4994-B041-C5026C67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FF1-816F-427D-97E4-D9F15F5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F97-AEDB-42AA-883A-D7F9345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6E8-F317-474C-A4C5-94D9F014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F5F-34F8-41C7-BA45-4B9BAFA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D39-EAC6-4715-B74C-9D2EEEE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BF0-99EF-48D3-89D3-B94A115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B731-24B5-4198-B8BA-57DEC1FA8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A15-FA1D-417B-8F19-0529DC89E9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5050"/>
                </a:solidFill>
                <a:latin typeface="Times New Roman"/>
                <a:ea typeface="华文彩云"/>
              </a:rPr>
              <a:t>轻轻松松上初中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72392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好玩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再看一个更悬的，标题是：这怎么可能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2795760"/>
          <a:ext cx="761976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95760"/>
                    <a:ext cx="761976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有趣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们听说过阿凡提分马的故事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古时一位老人有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匹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要分给他的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个儿子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.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他对儿子说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: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我死后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这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匹马就是你们的财产了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你们要爱护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真主保佑你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!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这些马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大得二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二得四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老三得五分之一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  ……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还没说完就咽气了</a:t>
            </a:r>
            <a:r>
              <a:rPr b="0" lang="zh-CN" sz="32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ec042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238880" y="4419720"/>
          <a:ext cx="104796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419720"/>
                    <a:ext cx="10479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美丽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0120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隶书"/>
                <a:ea typeface="隶书"/>
              </a:rPr>
              <a:t>现有各种形状的公园若干个（如下图），正多边形公园的各个顶点处均设置有亭子，现要在公园内设计道路，使从每一个亭子出来可以走到任意另一个亭子（不经过其它亭子），并且道路要尽可能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952880"/>
            <a:ext cx="1143000" cy="838440"/>
          </a:xfrm>
          <a:prstGeom prst="triangle">
            <a:avLst>
              <a:gd name="adj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952880"/>
            <a:ext cx="838080" cy="762120"/>
          </a:xfrm>
          <a:prstGeom prst="rect">
            <a:avLst/>
          </a:prstGeom>
          <a:solidFill>
            <a:srgbClr val="e99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5029200"/>
            <a:ext cx="990720" cy="83808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876920"/>
            <a:ext cx="1066680" cy="990360"/>
          </a:xfrm>
          <a:prstGeom prst="pentagon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20eba"/>
                </a:solidFill>
                <a:latin typeface="Times New Roman"/>
                <a:ea typeface="华文新魏"/>
              </a:rPr>
              <a:t>怎样让学习更有效率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心理学博士：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作为一个学习者，有不同的学习通道。其中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29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的人是视觉学习者；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34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是听觉学习者；还有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37%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是动觉学习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前家长的教育方式有两个易犯的错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4d19f5"/>
                </a:solidFill>
                <a:latin typeface="隶书"/>
                <a:ea typeface="隶书"/>
              </a:rPr>
              <a:t>◆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用外在条件刺激孩子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4d19f5"/>
                </a:solidFill>
                <a:latin typeface="隶书"/>
                <a:ea typeface="隶书"/>
              </a:rPr>
              <a:t>◆  </a:t>
            </a:r>
            <a:r>
              <a:rPr b="0" lang="zh-CN" sz="3200" spc="-1" strike="noStrike">
                <a:solidFill>
                  <a:srgbClr val="4d19f5"/>
                </a:solidFill>
                <a:latin typeface="隶书"/>
                <a:ea typeface="隶书"/>
              </a:rPr>
              <a:t>用时间长度衡量孩子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2924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072f"/>
                </a:solidFill>
                <a:latin typeface="Times New Roman"/>
                <a:ea typeface="华文新魏"/>
              </a:rPr>
              <a:t>学习知识和提高能力的关系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基础知识是提高能力的基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最有价值的知识是方法的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·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能力是赢得竞争的关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19f5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·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初中阶段是培养能力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             </a:t>
            </a:r>
            <a:r>
              <a:rPr b="0" lang="zh-CN" sz="3200" spc="-1" strike="noStrike">
                <a:solidFill>
                  <a:srgbClr val="4d19f5"/>
                </a:solidFill>
                <a:latin typeface="华文隶书"/>
                <a:ea typeface="华文隶书"/>
              </a:rPr>
              <a:t>大好时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262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d19f5"/>
                </a:solidFill>
                <a:latin typeface="Times New Roman"/>
                <a:ea typeface="华文新魏"/>
              </a:rPr>
              <a:t>全面发展和个性特长的关系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社会需要全面发展的综合性人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科学进步也要高尖端的专业骨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青少年的个性特长要鼓励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20e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0eba"/>
                </a:solidFill>
                <a:latin typeface="Times New Roman"/>
                <a:ea typeface="华文隶书"/>
              </a:rPr>
              <a:t>适合自己的才是最好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00d02"/>
                </a:solidFill>
                <a:latin typeface="Times New Roman"/>
                <a:ea typeface="华文彩云"/>
              </a:rPr>
              <a:t> </a:t>
            </a:r>
            <a:r>
              <a:rPr b="0" lang="zh-CN" sz="4400" spc="-1" strike="noStrike">
                <a:solidFill>
                  <a:srgbClr val="a00d02"/>
                </a:solidFill>
                <a:latin typeface="Times New Roman"/>
                <a:ea typeface="华文彩云"/>
              </a:rPr>
              <a:t>信息时代背景下新的学习理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基础与能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过程与结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人脑与电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e0977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0e0977"/>
                </a:solidFill>
                <a:latin typeface="隶书"/>
                <a:ea typeface="隶书"/>
              </a:rPr>
              <a:t>方法与思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590560" cy="158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2590920" cy="1581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590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在初中学习中的几个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重要环节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剖析结构  建立知识网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精选范例  挖掘教学功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变式训练  优化数学思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分析错误  夯实必备基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94bc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94bc3"/>
                </a:solidFill>
                <a:latin typeface="隶书"/>
                <a:ea typeface="隶书"/>
              </a:rPr>
              <a:t>揭示本质  深化思想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172200" y="358128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以能力立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b133f"/>
                </a:solidFill>
                <a:latin typeface="Times New Roman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fb133f"/>
                </a:solidFill>
                <a:latin typeface="Times New Roman"/>
                <a:ea typeface="华文新魏"/>
              </a:rPr>
              <a:t>自主性学习”的课堂学习模式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总结知识系统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概念间建立联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分析典型例题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给思维推理搭“脚手架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剖析错误原因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维持对记忆的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主选择课后作业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留有适当的探索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5191200"/>
            <a:ext cx="129528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16765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不同的学生不同的学习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优秀学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超前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良好学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4000" spc="-1" strike="noStrike">
                <a:solidFill>
                  <a:srgbClr val="b01206"/>
                </a:solidFill>
                <a:latin typeface="方正舒体"/>
                <a:ea typeface="方正舒体"/>
              </a:rPr>
              <a:t>自学为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一般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课堂重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▲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有困难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  </a:t>
            </a:r>
            <a:r>
              <a:rPr b="0" lang="zh-CN" sz="3600" spc="-1" strike="noStrike">
                <a:solidFill>
                  <a:srgbClr val="b01206"/>
                </a:solidFill>
                <a:latin typeface="方正舒体"/>
                <a:ea typeface="方正舒体"/>
              </a:rPr>
              <a:t>补在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2919240"/>
            <a:ext cx="1465560" cy="1401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35560" y="3048120"/>
            <a:ext cx="1114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1430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媒体戏称我们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90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年代的孩子</a:t>
            </a:r>
            <a:r>
              <a:rPr b="0" lang="zh-CN" sz="4400" spc="-1" strike="noStrike">
                <a:solidFill>
                  <a:srgbClr val="3333ff"/>
                </a:solidFill>
                <a:latin typeface="方正舒体"/>
                <a:ea typeface="方正舒体"/>
              </a:rPr>
              <a:t>---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出生就用上了尿不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开口就吃上了肯得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交流就联上了因特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一成长就感觉了竞争压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120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……</a:t>
            </a:r>
            <a:r>
              <a:rPr b="0" lang="zh-CN" sz="4000" spc="-1" strike="noStrike">
                <a:solidFill>
                  <a:srgbClr val="b01206"/>
                </a:solidFill>
                <a:latin typeface="华文新魏"/>
                <a:ea typeface="华文新魏"/>
              </a:rPr>
              <a:t>　　……　　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4724280"/>
            <a:ext cx="38098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2408ae"/>
                </a:solidFill>
                <a:latin typeface="Times New Roman"/>
                <a:ea typeface="黑体"/>
              </a:rPr>
              <a:t>我国基础教育的优势和不足</a:t>
            </a:r>
            <a:endParaRPr b="0" lang="en-US" sz="41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基础知识扎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基本技能熟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解题技巧较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幼圆"/>
              </a:rPr>
              <a:t>勤奋刻苦精神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400" y="3504960"/>
            <a:ext cx="4191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知识面窄内容陈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脱离学生认知水平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脱节现代科学技术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幼圆"/>
              </a:rPr>
              <a:t>学生情感体验较差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3124080" cy="155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92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f072f"/>
                </a:solidFill>
                <a:latin typeface="Times New Roman"/>
                <a:ea typeface="华文新魏"/>
              </a:rPr>
              <a:t>对教育的反思之幽默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在一所国际学校里，教师给各国学生出了一道题：“有谁思考过世界上其他国家粮食紧缺的问题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学生们都说“不知道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      </a:t>
            </a:r>
            <a:r>
              <a:rPr b="0" lang="zh-CN" sz="3600" spc="-1" strike="noStrike">
                <a:solidFill>
                  <a:srgbClr val="009999"/>
                </a:solidFill>
                <a:latin typeface="方正舒体"/>
                <a:ea typeface="方正舒体"/>
              </a:rPr>
              <a:t>非洲学生不知道什么叫“粮食”；欧洲学生不知道什么叫“紧缺”；美国学生不知道什么叫“其他国家”；而中国学生不知道什么叫“思考”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从小学到初中的变化…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从儿童成为了少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学习内容、学习环境和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方式的不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老师的教学方式，促成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的自主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调节心理因素，保持良好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华文隶书"/>
              </a:rPr>
              <a:t>态，面对竞争压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54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新课标的重要理念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突出体现基础性、普及性和发展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人人学有价值的数学；人人都能获得必需的数学；不同的人在数学上得到不同的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动手实践、自主探索与合作交流是学生学习数学的重要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01206"/>
                </a:solidFill>
                <a:latin typeface="Times New Roman"/>
                <a:ea typeface="隶书"/>
              </a:rPr>
              <a:t>学生是数学学习的主人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89548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新课标下四大学习领域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数与代数”  “空间与图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94bc3"/>
                </a:solidFill>
                <a:latin typeface="楷体_GB2312"/>
                <a:ea typeface="楷体_GB2312"/>
              </a:rPr>
              <a:t>统计与概率”“实践与综合应用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数学活动，发展学生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bd8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培养</a:t>
            </a:r>
            <a:r>
              <a:rPr b="1" lang="zh-CN" sz="3200" spc="-1" strike="noStrike">
                <a:solidFill>
                  <a:srgbClr val="221304"/>
                </a:solidFill>
                <a:latin typeface="楷体_GB2312"/>
                <a:ea typeface="楷体_GB2312"/>
              </a:rPr>
              <a:t>数感、符号感、空间观念、统计观念，以及应用意识与推理能力</a:t>
            </a:r>
            <a:r>
              <a:rPr b="0" lang="zh-CN" sz="3200" spc="-1" strike="noStrike">
                <a:solidFill>
                  <a:srgbClr val="221304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5121360"/>
            <a:ext cx="2849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崭新的面貌</a:t>
            </a: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--</a:t>
            </a:r>
            <a:r>
              <a:rPr b="0" lang="zh-CN" sz="5400" spc="-1" strike="noStrike">
                <a:solidFill>
                  <a:srgbClr val="990033"/>
                </a:solidFill>
                <a:latin typeface="方正舒体"/>
                <a:ea typeface="方正舒体"/>
              </a:rPr>
              <a:t>课本扉页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亲爱的同学：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并不神秘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每个人都可以学好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学好数学重要的是要有充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信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足够的毅力和良好的方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们殷切地希望你认真地阅读课文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思考其中的问题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;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认真地听老师分析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与同伴交流和讨论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有困难时多动脑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动手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想办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读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做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弄懂每一个概念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定理和方法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数学一定会成为你的好朋友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14475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数学是好玩的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012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先看一个简单的拼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游戏：把一个正方形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成</a:t>
            </a: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块，拼成一个矩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1206"/>
                </a:solidFill>
                <a:latin typeface="Times New Roman"/>
              </a:rPr>
              <a:t>这样的拼图正确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86400" y="1676520"/>
          <a:ext cx="3416400" cy="43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76520"/>
                    <a:ext cx="34164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轻轻松松 初中</cp:keywords>
  <dc:language>en-US</dc:language>
  <cp:lastModifiedBy/>
  <cp:revision>0</cp:revision>
  <dc:subject/>
  <dc:title/>
</cp:coreProperties>
</file>