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LASER.WAV" ContentType="audio/x-wav"/>
  <Override PartName="/ppt/media/image5.png" ContentType="image/png"/>
  <Override PartName="/ppt/media/image2.png" ContentType="image/png"/>
  <Override PartName="/ppt/media/CHIMES.WAV" ContentType="audio/x-wav"/>
  <Override PartName="/ppt/media/image3.jpeg" ContentType="image/jpeg"/>
  <Override PartName="/ppt/media/image4.png" ContentType="image/png"/>
  <Override PartName="/ppt/media/PROJCTOR.WAV" ContentType="audio/x-wav"/>
  <Override PartName="/ppt/media/image6.png" ContentType="image/png"/>
  <Override PartName="/ppt/media/image7.jpeg" ContentType="image/jpeg"/>
  <Override PartName="/ppt/media/TYPE.WAV" ContentType="audio/x-wav"/>
  <Override PartName="/ppt/media/cashreg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9A99-7ACB-4ACF-A94F-97855E3C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EB1-BC84-4CCD-A920-FF0B7E73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206F-EB98-48E7-8FDA-5F07A277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1C6E-447D-4FC2-A211-7A666CDE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3F45-4D49-44ED-8F44-19C63FA0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964C-6E14-4E82-B371-D59624E1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B008-236D-45E4-832C-AE589860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FDDE-A1B8-4FDB-ABA3-4C605AFE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FBC8-ABFD-49C1-AE2D-3248CB9F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99E-DBB1-4660-8F31-83E0F392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AB7C-5879-40EE-946C-E86EBA37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D818-9F9A-4216-8AFF-BDAEE794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6233-297C-47BA-B894-1EE40A3752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80880" y="0"/>
            <a:ext cx="9524880" cy="7086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2814480"/>
            <a:ext cx="8534160" cy="122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隶书"/>
              </a:rPr>
              <a:t>秦始皇统一六国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隶书"/>
              <a:ea typeface="华文隶书"/>
            </a:endParaRPr>
          </a:p>
        </p:txBody>
      </p:sp>
    </p:spTree>
  </p:cSld>
  <p:transition advTm="1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1447920" y="0"/>
            <a:ext cx="1059192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914400" y="914400"/>
            <a:ext cx="7254720" cy="4925520"/>
            <a:chOff x="914400" y="914400"/>
            <a:chExt cx="7254720" cy="4925520"/>
          </a:xfrm>
        </p:grpSpPr>
        <p:grpSp>
          <p:nvGrpSpPr>
            <p:cNvPr id="111" name=""/>
            <p:cNvGrpSpPr/>
            <p:nvPr/>
          </p:nvGrpSpPr>
          <p:grpSpPr>
            <a:xfrm>
              <a:off x="914400" y="914400"/>
              <a:ext cx="7254720" cy="3352680"/>
              <a:chOff x="914400" y="914400"/>
              <a:chExt cx="7254720" cy="3352680"/>
            </a:xfrm>
          </p:grpSpPr>
          <p:sp>
            <p:nvSpPr>
              <p:cNvPr id="112" name=""/>
              <p:cNvSpPr/>
              <p:nvPr/>
            </p:nvSpPr>
            <p:spPr>
              <a:xfrm>
                <a:off x="990720" y="914400"/>
                <a:ext cx="2971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ff"/>
                    </a:solidFill>
                    <a:latin typeface="Times New Roman"/>
                  </a:rPr>
                  <a:t>一、灭六国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14400" y="2133720"/>
                <a:ext cx="7254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ff"/>
                    </a:solidFill>
                    <a:latin typeface="Times New Roman"/>
                  </a:rPr>
                  <a:t>二、巩固统一后的措施—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ff"/>
                    </a:solidFill>
                    <a:latin typeface="Times New Roman"/>
                  </a:rPr>
                  <a:t>                         </a:t>
                </a:r>
                <a:r>
                  <a:rPr b="0" lang="zh-CN" sz="3600" spc="-1" strike="noStrike">
                    <a:solidFill>
                      <a:srgbClr val="3333ff"/>
                    </a:solidFill>
                    <a:latin typeface="Times New Roman"/>
                  </a:rPr>
                  <a:t>政治 经济 文化 军事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14400" y="3809880"/>
                <a:ext cx="4299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2183400" y="5197320"/>
              <a:ext cx="38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33cc"/>
                  </a:solidFill>
                  <a:latin typeface="Times New Roman"/>
                </a:rPr>
                <a:t>三、秦的疆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981080" y="3276720"/>
            <a:ext cx="5943600" cy="533160"/>
            <a:chOff x="1981080" y="3276720"/>
            <a:chExt cx="5943600" cy="533160"/>
          </a:xfrm>
        </p:grpSpPr>
        <p:sp>
          <p:nvSpPr>
            <p:cNvPr id="117" name=""/>
            <p:cNvSpPr/>
            <p:nvPr/>
          </p:nvSpPr>
          <p:spPr>
            <a:xfrm>
              <a:off x="1981080" y="3276720"/>
              <a:ext cx="419112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880" y="3809880"/>
              <a:ext cx="41148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1000"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-457200" y="0"/>
            <a:ext cx="9906120" cy="6858000"/>
            <a:chOff x="-457200" y="0"/>
            <a:chExt cx="9906120" cy="6858000"/>
          </a:xfrm>
        </p:grpSpPr>
        <p:grpSp>
          <p:nvGrpSpPr>
            <p:cNvPr id="120" name=""/>
            <p:cNvGrpSpPr/>
            <p:nvPr/>
          </p:nvGrpSpPr>
          <p:grpSpPr>
            <a:xfrm>
              <a:off x="-457200" y="0"/>
              <a:ext cx="9906120" cy="6858000"/>
              <a:chOff x="-457200" y="0"/>
              <a:chExt cx="9906120" cy="6858000"/>
            </a:xfrm>
          </p:grpSpPr>
          <p:sp>
            <p:nvSpPr>
              <p:cNvPr id="121" name=""/>
              <p:cNvSpPr/>
              <p:nvPr/>
            </p:nvSpPr>
            <p:spPr>
              <a:xfrm>
                <a:off x="-457200" y="0"/>
                <a:ext cx="9906120" cy="68580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842760" y="509760"/>
                <a:ext cx="5466240" cy="5956560"/>
                <a:chOff x="842760" y="509760"/>
                <a:chExt cx="5466240" cy="59565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842760" y="3007080"/>
                  <a:ext cx="72900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600" spc="-1" strike="noStrike">
                      <a:solidFill>
                        <a:srgbClr val="ff0066"/>
                      </a:solidFill>
                      <a:latin typeface="Times New Roman"/>
                    </a:rPr>
                    <a:t>秦统一后的措施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653200" y="688680"/>
                  <a:ext cx="667800" cy="12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0066"/>
                      </a:solidFill>
                      <a:latin typeface="Times New Roman"/>
                    </a:rPr>
                    <a:t>政治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653200" y="2136600"/>
                  <a:ext cx="667800" cy="12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0066"/>
                      </a:solidFill>
                      <a:latin typeface="Times New Roman"/>
                    </a:rPr>
                    <a:t>经济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53200" y="3660480"/>
                  <a:ext cx="667800" cy="12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0066"/>
                      </a:solidFill>
                      <a:latin typeface="Times New Roman"/>
                    </a:rPr>
                    <a:t>文化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653200" y="5183280"/>
                  <a:ext cx="667800" cy="128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0066"/>
                      </a:solidFill>
                      <a:latin typeface="Times New Roman"/>
                    </a:rPr>
                    <a:t>军事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429000" y="762120"/>
                  <a:ext cx="533520" cy="990360"/>
                </a:xfrm>
                <a:custGeom>
                  <a:avLst/>
                  <a:gdLst>
                    <a:gd name="textAreaLeft" fmla="*/ 340920 w 533520"/>
                    <a:gd name="textAreaRight" fmla="*/ 533880 w 533520"/>
                    <a:gd name="textAreaTop" fmla="*/ 25560 h 990360"/>
                    <a:gd name="textAreaBottom" fmla="*/ 964800 h 990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7632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429000" y="5257800"/>
                  <a:ext cx="533520" cy="990720"/>
                </a:xfrm>
                <a:custGeom>
                  <a:avLst/>
                  <a:gdLst>
                    <a:gd name="textAreaLeft" fmla="*/ 340920 w 533520"/>
                    <a:gd name="textAreaRight" fmla="*/ 533880 w 533520"/>
                    <a:gd name="textAreaTop" fmla="*/ 25560 h 990720"/>
                    <a:gd name="textAreaBottom" fmla="*/ 965160 h 990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7632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429000" y="3809880"/>
                  <a:ext cx="533520" cy="990720"/>
                </a:xfrm>
                <a:custGeom>
                  <a:avLst/>
                  <a:gdLst>
                    <a:gd name="textAreaLeft" fmla="*/ 340920 w 533520"/>
                    <a:gd name="textAreaRight" fmla="*/ 533880 w 533520"/>
                    <a:gd name="textAreaTop" fmla="*/ 25560 h 990720"/>
                    <a:gd name="textAreaBottom" fmla="*/ 965160 h 990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7632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29000" y="2209680"/>
                  <a:ext cx="533520" cy="990720"/>
                </a:xfrm>
                <a:custGeom>
                  <a:avLst/>
                  <a:gdLst>
                    <a:gd name="textAreaLeft" fmla="*/ 340920 w 533520"/>
                    <a:gd name="textAreaRight" fmla="*/ 533880 w 533520"/>
                    <a:gd name="textAreaTop" fmla="*/ 25560 h 990720"/>
                    <a:gd name="textAreaBottom" fmla="*/ 965160 h 990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7632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124600" y="2133720"/>
                  <a:ext cx="62856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 u="sng">
                      <a:solidFill>
                        <a:srgbClr val="0033cc"/>
                      </a:solidFill>
                      <a:uFillTx/>
                      <a:latin typeface="Times New Roman"/>
                    </a:rPr>
                    <a:t>统一度量衡</a:t>
                  </a:r>
                  <a:r>
                    <a:rPr b="0" lang="zh-CN" sz="2800" spc="-1" strike="noStrike" u="sng">
                      <a:solidFill>
                        <a:srgbClr val="0033cc"/>
                      </a:solidFill>
                      <a:uFillTx/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955040" y="2743200"/>
                  <a:ext cx="53568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 u="sng">
                      <a:solidFill>
                        <a:srgbClr val="0033cc"/>
                      </a:solidFill>
                      <a:uFillTx/>
                      <a:latin typeface="Times New Roman"/>
                    </a:rPr>
                    <a:t>统一货币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955040" y="3657600"/>
                  <a:ext cx="53568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 u="sng">
                      <a:solidFill>
                        <a:srgbClr val="0033cc"/>
                      </a:solidFill>
                      <a:uFillTx/>
                      <a:latin typeface="Times New Roman"/>
                    </a:rPr>
                    <a:t>统一文字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705560" y="4343400"/>
                  <a:ext cx="1034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33cc"/>
                      </a:solidFill>
                      <a:latin typeface="Times New Roman"/>
                    </a:rPr>
                    <a:t>焚书坑儒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05560" y="5105520"/>
                  <a:ext cx="103428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 u="sng">
                      <a:solidFill>
                        <a:srgbClr val="0033cc"/>
                      </a:solidFill>
                      <a:uFillTx/>
                      <a:latin typeface="Times New Roman"/>
                    </a:rPr>
                    <a:t>抗击匈奴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848120" y="5867280"/>
                  <a:ext cx="146088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 u="sng">
                      <a:solidFill>
                        <a:srgbClr val="0033cc"/>
                      </a:solidFill>
                      <a:uFillTx/>
                      <a:latin typeface="Times New Roman"/>
                    </a:rPr>
                    <a:t>修建万里长城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rot="10807800">
                  <a:off x="3962160" y="761760"/>
                  <a:ext cx="533160" cy="990360"/>
                </a:xfrm>
                <a:custGeom>
                  <a:avLst/>
                  <a:gdLst>
                    <a:gd name="textAreaLeft" fmla="*/ 340560 w 533160"/>
                    <a:gd name="textAreaRight" fmla="*/ 533520 w 533160"/>
                    <a:gd name="textAreaTop" fmla="*/ 25560 h 990360"/>
                    <a:gd name="textAreaBottom" fmla="*/ 964800 h 990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7632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61920" y="785880"/>
                  <a:ext cx="606960" cy="106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ff0066"/>
                      </a:solidFill>
                      <a:latin typeface="Times New Roman"/>
                    </a:rPr>
                    <a:t>皇帝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419720" y="150012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419720" y="990720"/>
                  <a:ext cx="14475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419720" y="50976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019920" y="762120"/>
              <a:ext cx="1914480" cy="990360"/>
              <a:chOff x="6019920" y="762120"/>
              <a:chExt cx="1914480" cy="990360"/>
            </a:xfrm>
          </p:grpSpPr>
          <p:sp>
            <p:nvSpPr>
              <p:cNvPr id="144" name=""/>
              <p:cNvSpPr/>
              <p:nvPr/>
            </p:nvSpPr>
            <p:spPr>
              <a:xfrm>
                <a:off x="6019920" y="762120"/>
                <a:ext cx="380880" cy="990360"/>
              </a:xfrm>
              <a:custGeom>
                <a:avLst/>
                <a:gdLst>
                  <a:gd name="textAreaLeft" fmla="*/ 0 w 380880"/>
                  <a:gd name="textAreaRight" fmla="*/ 137520 w 380880"/>
                  <a:gd name="textAreaTop" fmla="*/ 25560 h 990360"/>
                  <a:gd name="textAreaBottom" fmla="*/ 964800 h 99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7632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49840" y="9907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33cc"/>
                    </a:solidFill>
                    <a:latin typeface="Times New Roman"/>
                  </a:rPr>
                  <a:t>郡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540200" y="9907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33cc"/>
                    </a:solidFill>
                    <a:latin typeface="Times New Roman"/>
                  </a:rPr>
                  <a:t>县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34320" y="1219320"/>
                <a:ext cx="609480" cy="152280"/>
              </a:xfrm>
              <a:prstGeom prst="rightArrow">
                <a:avLst>
                  <a:gd name="adj1" fmla="val 50000"/>
                  <a:gd name="adj2" fmla="val 100059"/>
                </a:avLst>
              </a:prstGeom>
              <a:solidFill>
                <a:srgbClr val="339933"/>
              </a:solidFill>
              <a:ln w="936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advTm="1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280000" y="2840040"/>
            <a:ext cx="546480" cy="459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辽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50800" y="5354640"/>
            <a:ext cx="546480" cy="459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临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952880" y="3625920"/>
            <a:ext cx="2286000" cy="565200"/>
            <a:chOff x="4952880" y="3625920"/>
            <a:chExt cx="2286000" cy="565200"/>
          </a:xfrm>
        </p:grpSpPr>
        <p:sp>
          <p:nvSpPr>
            <p:cNvPr id="152" name=""/>
            <p:cNvSpPr/>
            <p:nvPr/>
          </p:nvSpPr>
          <p:spPr>
            <a:xfrm>
              <a:off x="5853600" y="36259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全长一万多华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52880" y="4191120"/>
              <a:ext cx="2286000" cy="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3000"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914400" y="990720"/>
            <a:ext cx="7254720" cy="4620960"/>
            <a:chOff x="914400" y="990720"/>
            <a:chExt cx="7254720" cy="4620960"/>
          </a:xfrm>
        </p:grpSpPr>
        <p:grpSp>
          <p:nvGrpSpPr>
            <p:cNvPr id="155" name=""/>
            <p:cNvGrpSpPr/>
            <p:nvPr/>
          </p:nvGrpSpPr>
          <p:grpSpPr>
            <a:xfrm>
              <a:off x="914400" y="990720"/>
              <a:ext cx="7254720" cy="3352680"/>
              <a:chOff x="914400" y="990720"/>
              <a:chExt cx="7254720" cy="3352680"/>
            </a:xfrm>
          </p:grpSpPr>
          <p:sp>
            <p:nvSpPr>
              <p:cNvPr id="156" name=""/>
              <p:cNvSpPr/>
              <p:nvPr/>
            </p:nvSpPr>
            <p:spPr>
              <a:xfrm>
                <a:off x="990720" y="990720"/>
                <a:ext cx="2971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ff"/>
                    </a:solidFill>
                    <a:latin typeface="Times New Roman"/>
                  </a:rPr>
                  <a:t>一、秦灭六国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14400" y="2210040"/>
                <a:ext cx="7254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ff"/>
                    </a:solidFill>
                    <a:latin typeface="Times New Roman"/>
                  </a:rPr>
                  <a:t>二、秦统一后的措施——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ff"/>
                    </a:solidFill>
                    <a:latin typeface="Times New Roman"/>
                  </a:rPr>
                  <a:t>                        </a:t>
                </a:r>
                <a:r>
                  <a:rPr b="0" lang="zh-CN" sz="3600" spc="-1" strike="noStrike">
                    <a:solidFill>
                      <a:srgbClr val="3333ff"/>
                    </a:solidFill>
                    <a:latin typeface="Times New Roman"/>
                  </a:rPr>
                  <a:t>专制集权统治的建立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4400" y="3886200"/>
                <a:ext cx="4299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914400" y="4969080"/>
              <a:ext cx="306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33cc"/>
                  </a:solidFill>
                  <a:latin typeface="Times New Roman"/>
                </a:rPr>
                <a:t>三、秦的疆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28800" y="5638680"/>
            <a:ext cx="2133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0" t="0" r="0" b="10226"/>
          <a:stretch/>
        </p:blipFill>
        <p:spPr>
          <a:xfrm>
            <a:off x="91440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623720" y="3226680"/>
            <a:ext cx="667800" cy="231336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东到东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22880" y="533520"/>
            <a:ext cx="1155960" cy="5814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北至长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22880" y="6240600"/>
            <a:ext cx="1155960" cy="5814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南到南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70560" y="1931040"/>
            <a:ext cx="667800" cy="231336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西到陇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886200" y="3429000"/>
            <a:ext cx="2862360" cy="1191240"/>
            <a:chOff x="3886200" y="3429000"/>
            <a:chExt cx="2862360" cy="1191240"/>
          </a:xfrm>
        </p:grpSpPr>
        <p:sp>
          <p:nvSpPr>
            <p:cNvPr id="167" name=""/>
            <p:cNvSpPr/>
            <p:nvPr/>
          </p:nvSpPr>
          <p:spPr>
            <a:xfrm>
              <a:off x="3992040" y="3429000"/>
              <a:ext cx="241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33cc"/>
                  </a:solidFill>
                  <a:latin typeface="Times New Roman"/>
                </a:rPr>
                <a:t>人口达</a:t>
              </a:r>
              <a:r>
                <a:rPr b="0" lang="zh-CN" sz="3600" spc="-1" strike="noStrike">
                  <a:solidFill>
                    <a:srgbClr val="0033cc"/>
                  </a:solidFill>
                  <a:latin typeface="Times New Roman"/>
                </a:rPr>
                <a:t>2000</a:t>
              </a:r>
              <a:r>
                <a:rPr b="0" lang="zh-CN" sz="3600" spc="-1" strike="noStrike">
                  <a:solidFill>
                    <a:srgbClr val="0033cc"/>
                  </a:solidFill>
                  <a:latin typeface="Times New Roman"/>
                </a:rPr>
                <a:t>万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86200" y="4038480"/>
              <a:ext cx="2862360" cy="144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28600" y="2362320"/>
            <a:ext cx="8686800" cy="4495680"/>
            <a:chOff x="228600" y="2362320"/>
            <a:chExt cx="8686800" cy="4495680"/>
          </a:xfrm>
        </p:grpSpPr>
        <p:sp>
          <p:nvSpPr>
            <p:cNvPr id="170" name=""/>
            <p:cNvSpPr/>
            <p:nvPr/>
          </p:nvSpPr>
          <p:spPr>
            <a:xfrm>
              <a:off x="228600" y="2362320"/>
              <a:ext cx="8686800" cy="4495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23560" y="2763720"/>
              <a:ext cx="487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9933"/>
                  </a:solidFill>
                  <a:latin typeface="Times New Roman"/>
                  <a:ea typeface="方正粗圆简体"/>
                </a:rPr>
                <a:t>秦始皇的政策措施中，有哪些对后来有深远影响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69960" y="3505320"/>
            <a:ext cx="77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秦灭六国，建立起我国历史上第一个统一的中央集权的封建国家。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2040" y="4387680"/>
            <a:ext cx="1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高统治者称皇帝，国家大小政事都有皇帝一人裁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32120" y="490680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全国推行郡县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9960" y="5424480"/>
            <a:ext cx="41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统一文字、货币、度量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3680" y="594360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修筑长城，抵御入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1000"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447920" y="0"/>
            <a:ext cx="1059192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14400" y="914400"/>
            <a:ext cx="7254720" cy="4773240"/>
            <a:chOff x="914400" y="914400"/>
            <a:chExt cx="7254720" cy="4773240"/>
          </a:xfrm>
        </p:grpSpPr>
        <p:sp>
          <p:nvSpPr>
            <p:cNvPr id="45" name=""/>
            <p:cNvSpPr/>
            <p:nvPr/>
          </p:nvSpPr>
          <p:spPr>
            <a:xfrm>
              <a:off x="914400" y="914400"/>
              <a:ext cx="297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ff"/>
                  </a:solidFill>
                  <a:latin typeface="Times New Roman"/>
                </a:rPr>
                <a:t>一、灭六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14400" y="2133720"/>
              <a:ext cx="7254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ff"/>
                  </a:solidFill>
                  <a:latin typeface="Times New Roman"/>
                </a:rPr>
                <a:t>二、巩固统一后的措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ff"/>
                  </a:solidFill>
                  <a:latin typeface="Times New Roman"/>
                </a:rPr>
                <a:t>                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14400" y="3809880"/>
              <a:ext cx="4299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183400" y="5045040"/>
              <a:ext cx="38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33cc"/>
                  </a:solidFill>
                  <a:latin typeface="Times New Roman"/>
                </a:rPr>
                <a:t>三、秦的疆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828800" y="1676520"/>
            <a:ext cx="16002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156080" y="2201760"/>
            <a:ext cx="42444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32200" y="4792680"/>
            <a:ext cx="424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2560" y="1058760"/>
            <a:ext cx="424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13080" y="3954600"/>
            <a:ext cx="424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89400" y="2354400"/>
            <a:ext cx="424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55880" y="3116160"/>
            <a:ext cx="424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89200" y="3268800"/>
            <a:ext cx="424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392000" y="3886200"/>
            <a:ext cx="1551600" cy="846360"/>
            <a:chOff x="4392000" y="3886200"/>
            <a:chExt cx="1551600" cy="846360"/>
          </a:xfrm>
        </p:grpSpPr>
        <p:sp>
          <p:nvSpPr>
            <p:cNvPr id="59" name=""/>
            <p:cNvSpPr/>
            <p:nvPr/>
          </p:nvSpPr>
          <p:spPr>
            <a:xfrm>
              <a:off x="4648320" y="3886200"/>
              <a:ext cx="1295280" cy="469800"/>
            </a:xfrm>
            <a:custGeom>
              <a:avLst/>
              <a:gdLst/>
              <a:ahLst/>
              <a:rect l="l" t="t" r="r" b="b"/>
              <a:pathLst>
                <a:path w="816" h="296">
                  <a:moveTo>
                    <a:pt x="0" y="0"/>
                  </a:moveTo>
                  <a:cubicBezTo>
                    <a:pt x="24" y="52"/>
                    <a:pt x="48" y="104"/>
                    <a:pt x="96" y="144"/>
                  </a:cubicBezTo>
                  <a:cubicBezTo>
                    <a:pt x="144" y="184"/>
                    <a:pt x="216" y="216"/>
                    <a:pt x="288" y="240"/>
                  </a:cubicBezTo>
                  <a:cubicBezTo>
                    <a:pt x="360" y="264"/>
                    <a:pt x="440" y="280"/>
                    <a:pt x="528" y="288"/>
                  </a:cubicBezTo>
                  <a:cubicBezTo>
                    <a:pt x="616" y="296"/>
                    <a:pt x="768" y="288"/>
                    <a:pt x="816" y="288"/>
                  </a:cubicBezTo>
                </a:path>
              </a:pathLst>
            </a:custGeom>
            <a:noFill/>
            <a:ln w="88920">
              <a:solidFill>
                <a:srgbClr val="9933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267800">
              <a:off x="4442040" y="4113000"/>
              <a:ext cx="9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前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23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6000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156080" y="2201760"/>
            <a:ext cx="42444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6160" y="4792680"/>
            <a:ext cx="424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6520" y="1058760"/>
            <a:ext cx="424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3360" y="2354400"/>
            <a:ext cx="424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59840" y="3116160"/>
            <a:ext cx="424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3160" y="3268800"/>
            <a:ext cx="424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634280" y="2369520"/>
            <a:ext cx="1309320" cy="856440"/>
            <a:chOff x="4634280" y="2369520"/>
            <a:chExt cx="1309320" cy="856440"/>
          </a:xfrm>
        </p:grpSpPr>
        <p:sp>
          <p:nvSpPr>
            <p:cNvPr id="69" name=""/>
            <p:cNvSpPr/>
            <p:nvPr/>
          </p:nvSpPr>
          <p:spPr>
            <a:xfrm>
              <a:off x="4724280" y="2819520"/>
              <a:ext cx="1219320" cy="406440"/>
            </a:xfrm>
            <a:custGeom>
              <a:avLst/>
              <a:gdLst/>
              <a:ahLst/>
              <a:rect l="l" t="t" r="r" b="b"/>
              <a:pathLst>
                <a:path w="768" h="256">
                  <a:moveTo>
                    <a:pt x="0" y="256"/>
                  </a:moveTo>
                  <a:cubicBezTo>
                    <a:pt x="32" y="204"/>
                    <a:pt x="64" y="152"/>
                    <a:pt x="144" y="112"/>
                  </a:cubicBezTo>
                  <a:cubicBezTo>
                    <a:pt x="224" y="72"/>
                    <a:pt x="376" y="32"/>
                    <a:pt x="480" y="16"/>
                  </a:cubicBezTo>
                  <a:cubicBezTo>
                    <a:pt x="584" y="0"/>
                    <a:pt x="720" y="16"/>
                    <a:pt x="768" y="16"/>
                  </a:cubicBezTo>
                </a:path>
              </a:pathLst>
            </a:custGeom>
            <a:noFill/>
            <a:ln w="88920">
              <a:solidFill>
                <a:srgbClr val="9933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0822400">
              <a:off x="4674240" y="246384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前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2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1000"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156080" y="2201760"/>
            <a:ext cx="42444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6160" y="4792680"/>
            <a:ext cx="424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6520" y="1058760"/>
            <a:ext cx="424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59840" y="3116160"/>
            <a:ext cx="424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3160" y="3268800"/>
            <a:ext cx="424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482000" y="3657600"/>
            <a:ext cx="1080720" cy="706320"/>
            <a:chOff x="4482000" y="3657600"/>
            <a:chExt cx="1080720" cy="706320"/>
          </a:xfrm>
        </p:grpSpPr>
        <p:sp>
          <p:nvSpPr>
            <p:cNvPr id="78" name=""/>
            <p:cNvSpPr/>
            <p:nvPr/>
          </p:nvSpPr>
          <p:spPr>
            <a:xfrm>
              <a:off x="4724280" y="3657600"/>
              <a:ext cx="838440" cy="228600"/>
            </a:xfrm>
            <a:custGeom>
              <a:avLst/>
              <a:gdLst/>
              <a:ahLst/>
              <a:rect l="l" t="t" r="r" b="b"/>
              <a:pathLst>
                <a:path w="528" h="144">
                  <a:moveTo>
                    <a:pt x="0" y="144"/>
                  </a:moveTo>
                  <a:cubicBezTo>
                    <a:pt x="220" y="88"/>
                    <a:pt x="440" y="32"/>
                    <a:pt x="528" y="0"/>
                  </a:cubicBezTo>
                </a:path>
              </a:pathLst>
            </a:custGeom>
            <a:noFill/>
            <a:ln w="88920">
              <a:solidFill>
                <a:srgbClr val="9933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20822400">
              <a:off x="4521960" y="38098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前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2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1000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156080" y="2201760"/>
            <a:ext cx="42444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6160" y="4792680"/>
            <a:ext cx="424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6520" y="1058760"/>
            <a:ext cx="424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3160" y="3268800"/>
            <a:ext cx="424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362480" y="3886200"/>
            <a:ext cx="1200240" cy="1049760"/>
            <a:chOff x="4362480" y="3886200"/>
            <a:chExt cx="1200240" cy="1049760"/>
          </a:xfrm>
        </p:grpSpPr>
        <p:sp>
          <p:nvSpPr>
            <p:cNvPr id="86" name=""/>
            <p:cNvSpPr/>
            <p:nvPr/>
          </p:nvSpPr>
          <p:spPr>
            <a:xfrm>
              <a:off x="4724280" y="3886200"/>
              <a:ext cx="838440" cy="990720"/>
            </a:xfrm>
            <a:custGeom>
              <a:avLst/>
              <a:gdLst/>
              <a:ahLst/>
              <a:rect l="l" t="t" r="r" b="b"/>
              <a:pathLst>
                <a:path w="528" h="624">
                  <a:moveTo>
                    <a:pt x="0" y="0"/>
                  </a:moveTo>
                  <a:cubicBezTo>
                    <a:pt x="52" y="116"/>
                    <a:pt x="104" y="232"/>
                    <a:pt x="192" y="336"/>
                  </a:cubicBezTo>
                  <a:cubicBezTo>
                    <a:pt x="280" y="440"/>
                    <a:pt x="472" y="584"/>
                    <a:pt x="528" y="624"/>
                  </a:cubicBezTo>
                </a:path>
              </a:pathLst>
            </a:custGeom>
            <a:noFill/>
            <a:ln w="88920">
              <a:solidFill>
                <a:srgbClr val="9933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3410400">
              <a:off x="4352400" y="420624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前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2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1000"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156080" y="2201760"/>
            <a:ext cx="42444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6520" y="1058760"/>
            <a:ext cx="424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3160" y="3268800"/>
            <a:ext cx="424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960080" y="1447920"/>
            <a:ext cx="1593000" cy="1752480"/>
            <a:chOff x="4960080" y="1447920"/>
            <a:chExt cx="1593000" cy="1752480"/>
          </a:xfrm>
        </p:grpSpPr>
        <p:sp>
          <p:nvSpPr>
            <p:cNvPr id="93" name=""/>
            <p:cNvSpPr/>
            <p:nvPr/>
          </p:nvSpPr>
          <p:spPr>
            <a:xfrm>
              <a:off x="5029200" y="1447920"/>
              <a:ext cx="1523880" cy="1752480"/>
            </a:xfrm>
            <a:custGeom>
              <a:avLst/>
              <a:gdLst/>
              <a:ahLst/>
              <a:rect l="l" t="t" r="r" b="b"/>
              <a:pathLst>
                <a:path w="960" h="1104">
                  <a:moveTo>
                    <a:pt x="0" y="1104"/>
                  </a:moveTo>
                  <a:cubicBezTo>
                    <a:pt x="136" y="860"/>
                    <a:pt x="272" y="616"/>
                    <a:pt x="432" y="432"/>
                  </a:cubicBezTo>
                  <a:cubicBezTo>
                    <a:pt x="592" y="248"/>
                    <a:pt x="872" y="80"/>
                    <a:pt x="960" y="0"/>
                  </a:cubicBezTo>
                </a:path>
              </a:pathLst>
            </a:custGeom>
            <a:noFill/>
            <a:ln w="88920">
              <a:solidFill>
                <a:srgbClr val="9933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395400">
              <a:off x="4964040" y="19206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前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2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1000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156080" y="2201760"/>
            <a:ext cx="42444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3160" y="3268800"/>
            <a:ext cx="424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111000" y="1905120"/>
            <a:ext cx="1051920" cy="1125000"/>
            <a:chOff x="6111000" y="1905120"/>
            <a:chExt cx="1051920" cy="1125000"/>
          </a:xfrm>
        </p:grpSpPr>
        <p:sp>
          <p:nvSpPr>
            <p:cNvPr id="99" name=""/>
            <p:cNvSpPr/>
            <p:nvPr/>
          </p:nvSpPr>
          <p:spPr>
            <a:xfrm>
              <a:off x="6477120" y="1905120"/>
              <a:ext cx="685800" cy="99036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0"/>
                  </a:moveTo>
                  <a:cubicBezTo>
                    <a:pt x="36" y="116"/>
                    <a:pt x="72" y="232"/>
                    <a:pt x="144" y="336"/>
                  </a:cubicBezTo>
                  <a:cubicBezTo>
                    <a:pt x="216" y="440"/>
                    <a:pt x="384" y="584"/>
                    <a:pt x="432" y="624"/>
                  </a:cubicBezTo>
                </a:path>
              </a:pathLst>
            </a:custGeom>
            <a:noFill/>
            <a:ln w="88920">
              <a:solidFill>
                <a:srgbClr val="9933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3355200">
              <a:off x="6104880" y="23011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前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2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1000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14400" y="3505320"/>
            <a:ext cx="2730960" cy="1556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秦统一中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221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年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0" t="0" r="0" b="10226"/>
          <a:stretch/>
        </p:blipFill>
        <p:spPr>
          <a:xfrm>
            <a:off x="1523880" y="0"/>
            <a:ext cx="7620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0" y="3276720"/>
            <a:ext cx="4724280" cy="3580920"/>
            <a:chOff x="0" y="3276720"/>
            <a:chExt cx="4724280" cy="3580920"/>
          </a:xfrm>
        </p:grpSpPr>
        <p:sp>
          <p:nvSpPr>
            <p:cNvPr id="105" name=""/>
            <p:cNvSpPr/>
            <p:nvPr/>
          </p:nvSpPr>
          <p:spPr>
            <a:xfrm>
              <a:off x="0" y="3276720"/>
              <a:ext cx="4724280" cy="3580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3609720"/>
              <a:ext cx="401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66"/>
                  </a:solidFill>
                  <a:latin typeface="Times New Roman"/>
                </a:rPr>
                <a:t>历史意义：秦建立起我国历史上第一个统一的中央集权的封建国家，结束了诸侯长期割据混战的局面，符合了广大人民的愿望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419720" y="3048120"/>
            <a:ext cx="3808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2438280"/>
            <a:ext cx="16765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秦始皇 统一 六国</cp:keywords>
  <dc:language>en-US</dc:language>
  <cp:lastModifiedBy/>
  <cp:revision>0</cp:revision>
  <dc:subject/>
  <dc:title/>
</cp:coreProperties>
</file>