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whoosh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715-70CA-4C4C-86F2-114AEDC2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8BA-BC37-4FBA-BB22-BC26147A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0519-1324-432E-9133-019C559C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31FE-FC8B-485C-B377-9CB4B018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E4F5-6248-436E-9A80-553BCDC9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8165-B53C-4011-9BD6-9794C07D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3679-4CC5-4B7A-8D5C-673FCA67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0575-1D31-46F7-AC9F-C6B0E35A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6579-CCBA-4D86-B9D1-711F084B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F86C-865B-4B90-9DC9-944E78BA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9A5D-29C4-432D-B00B-EF361C52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8F0-265E-40BE-B5A3-BC4CD431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9CBE-3197-4198-8937-35F1358E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0F11-7218-4D3B-959B-7E591DC6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E4E3-32AD-4A61-AD89-0ACAC7A0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3776-D986-4C01-9365-2100DB0B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61A0-C38D-4995-BC49-421028B2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22FF-908D-4CAC-9DF0-F81F69F4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083A-0147-494C-A5CA-FC971A26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38DF-08BB-4AAA-AEC1-6BDE294C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BA74-A9D1-4F7A-A6E2-7BDBAEAD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4246-9AC1-431D-8255-30387C72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38E-49E8-48DB-A70C-FF69147C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23CE-433A-49E3-9D6D-7756D345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7678-5359-4DDF-8637-93BA71F532F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97EF-28A4-42C0-BB02-3E2EAA297EF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趋势曲线模型预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      36        204     -1    83.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=  S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(-1)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U =        36     204      1296           410.7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4   1296     8772         2458.3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.9464       -0.9013       0.0893        83.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     -0.9107       0.5100       -0.0536      410.7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.0893        -0.0536       0.006        2458.3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.16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       0.444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.04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故 预测模型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 = 7.1602 + 0.4447x + 0.0480 x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45720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495680"/>
            <a:ext cx="76320" cy="990720"/>
          </a:xfrm>
          <a:custGeom>
            <a:avLst/>
            <a:gdLst>
              <a:gd name="textAreaLeft" fmla="*/ 0 w 76320"/>
              <a:gd name="textAreaRight" fmla="*/ 5364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33526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335268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352680"/>
            <a:ext cx="75960" cy="914400"/>
          </a:xfrm>
          <a:custGeom>
            <a:avLst/>
            <a:gdLst>
              <a:gd name="textAreaLeft" fmla="*/ 22320 w 75960"/>
              <a:gd name="textAreaRight" fmla="*/ 7632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3526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2057400"/>
            <a:ext cx="42840" cy="946080"/>
          </a:xfrm>
          <a:custGeom>
            <a:avLst/>
            <a:gdLst>
              <a:gd name="textAreaLeft" fmla="*/ 12600 w 42840"/>
              <a:gd name="textAreaRight" fmla="*/ 43200 w 42840"/>
              <a:gd name="textAreaTop" fmla="*/ 39240 h 946080"/>
              <a:gd name="textAreaBottom" fmla="*/ 906840 h 94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2133720"/>
            <a:ext cx="76320" cy="91116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1160"/>
              <a:gd name="textAreaBottom" fmla="*/ 873360 h 91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20968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2133720"/>
            <a:ext cx="75960" cy="914400"/>
          </a:xfrm>
          <a:custGeom>
            <a:avLst/>
            <a:gdLst>
              <a:gd name="textAreaLeft" fmla="*/ 0 w 75960"/>
              <a:gd name="textAreaRight" fmla="*/ 5328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980:x = 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9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 7.1602 + 0.4447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×9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+ 0.048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×9</a:t>
            </a:r>
            <a:r>
              <a:rPr b="0" lang="zh-CN" sz="28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 15.05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981:x = 10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 7.1602 + 0.4447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×1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+ 0.048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×10</a:t>
            </a:r>
            <a:r>
              <a:rPr b="0" lang="zh-CN" sz="28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 16.4072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绝对误差    相对误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与实际值比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:198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年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4.77   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809      –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98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年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5.64    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672      -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三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拟合多项式的次数确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作图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利用实际数据，选择合适坐标，采用图上打点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观察打点曲线，并选择一条比较合用的多项式趋势线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若趋势线出现拐点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由拐点定义，若出现一个拐点，至少应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次多项式拟合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若出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个拐点，至少应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+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次多项式拟合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差分判断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差分定义：当自变量呈等距分布时，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 =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-1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△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则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=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–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-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=f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)- f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称为当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从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变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时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一阶差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所有更高阶的差分由进一步的差分得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二阶差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▽</a:t>
            </a:r>
            <a:r>
              <a:rPr b="0" lang="zh-CN" sz="16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▽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=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▽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–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-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=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-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= 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–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-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) - 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-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–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-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=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-2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-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+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-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可类推至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i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阶差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▽</a:t>
            </a:r>
            <a:r>
              <a:rPr b="0" lang="zh-CN" sz="2400" spc="-1" strike="noStrike" baseline="30000">
                <a:solidFill>
                  <a:srgbClr val="ffffff"/>
                </a:solidFill>
                <a:latin typeface="宋体"/>
              </a:rPr>
              <a:t>k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i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▽(▽</a:t>
            </a:r>
            <a:r>
              <a:rPr b="0" lang="zh-CN" sz="2400" spc="-1" strike="noStrike" baseline="30000">
                <a:solidFill>
                  <a:srgbClr val="ffffff"/>
                </a:solidFill>
                <a:latin typeface="宋体"/>
              </a:rPr>
              <a:t>k-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i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…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②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差分对多项式判断中的应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例：含线性趋势确定性时间序列数据（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y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宋体"/>
              </a:rPr>
              <a:t>t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=2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       0        1          2          3          4         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t       0        2          4          6          8        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阶差分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          2          2          2          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二阶差分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          0          0           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057400" y="2362320"/>
                <a:ext cx="17524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二次曲线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 = ax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+ bx +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x     0       1           2                 3               4               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t    c    a+b+c   4a+2b+c   9a+3b+c  16a+4b+c  25a+5b+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 阶差分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+b        3a+b         5a+b         7a+b          9a+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二阶差分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a              2a              2a           2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三阶差分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               0           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由此可得出判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若一批自变量为等距分布的数据，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次差分之后，形成常数或差分后在某一定值上下波动，则可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次多项式拟合此批数据变动趋势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在利用数据确定曲线时，要排除偶然发生的那一类数据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Arial"/>
              </a:rPr>
              <a:t>第二节   成长曲线预测模型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  Gompertz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曲线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成长曲线主要应用两个原则：相似性原则与延续性原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①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决定过去技术发展的因素，很大程度的也将决定未来的发展，条件是不变的或变化不大的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②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发展过程属于渐进的，影响过程的规律不发生突变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③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增长曲线即生命周期与生物生长过程相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孕育—出生—成长—成熟—老化—死亡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发明—定型—推广—成熟—老化—淘汰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经验公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有三个系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,  b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双层指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取常用对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lgK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b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lg a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参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,a,b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确定（三和法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假定有若干原始数据，取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△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 = 1,t = 1,2,3,…….3n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且满足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即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lgK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b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lg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343400" y="3213000"/>
                <a:ext cx="457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914400" y="2133720"/>
                <a:ext cx="16002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</m:e>
                      <m: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09680" y="4114800"/>
                <a:ext cx="15242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</m:e>
                      <m: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排列成表如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           1          2        3       ……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……   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+1     n+2     n+3      ……   2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n+1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n+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n+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……   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n+1   2n+2    2n+3    ……   3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n+1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n+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n+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…… lg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3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共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n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个数据，平均分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组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27432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3886200"/>
            <a:ext cx="76320" cy="60948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800600"/>
            <a:ext cx="76320" cy="60948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62920" y="2819520"/>
            <a:ext cx="144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第一组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3809880"/>
            <a:ext cx="12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第二组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35920" y="4800600"/>
            <a:ext cx="182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第三组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一组：求和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= nlg K + (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+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+……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)lg a     ……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第二组：求和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∑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lg yt = nlg K + ( 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+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n+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+……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2n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)lg a   ②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第三组：求和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∑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lg yt = nlg K+( 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2n+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+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2n+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+……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3n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)lg a ③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③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-②: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lg yt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-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lg yt  = 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(b+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+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+……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)(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1)lg a …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②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: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lg yt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-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lg yt  =  (b+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+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+……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)( b</a:t>
            </a:r>
            <a:r>
              <a:rPr b="0" lang="zh-CN" sz="20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1)lg a ……⑤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19320" y="2057400"/>
                <a:ext cx="99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600200" y="4876920"/>
                <a:ext cx="334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143000" y="3276720"/>
                <a:ext cx="458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990720" y="4267080"/>
                <a:ext cx="333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514600" y="4876920"/>
                <a:ext cx="333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523880" y="5410080"/>
                <a:ext cx="397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514600" y="5486400"/>
                <a:ext cx="376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一节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多次式曲线模型预测法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第三章所谈及的回归分析，是在已知统计资料基础上，利用线性或非线性回归技术进行模拟，利用趋势外推进行预测，而模型的项数均为常数项加一次项或非线性构成。事实上，若采用多项式进行模拟，也是一种行之有效的方法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38080" y="1523880"/>
                <a:ext cx="12956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895480" y="990720"/>
                <a:ext cx="26352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(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g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nary>
                              </m:num>
                              <m:den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g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nary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295280" y="2514600"/>
                <a:ext cx="8384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由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62120" y="4419720"/>
                <a:ext cx="18478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r>
                      <m:t xml:space="preserve">入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743200" y="4114800"/>
                <a:ext cx="39625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19520" y="2362320"/>
                <a:ext cx="356868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例：某厂产品销售总额历史数据：（万元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份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t)    1968      1969       1970       1971      1972        197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407         418         432         447        463          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log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2.61       2.62        2.64        2.65        2.67        2.6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份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t)   1974       1975       1976       1977       1978       1979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08          535         566        602          644         69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log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2.71        2.73       2.75         2.78        2.81       2.84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份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t)   1980       1981       1982       1983       1984      1985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734         826         912        1018       1148       13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log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2.88        2.92        2.96        3.01        3.06        3.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上述数据的模型识别，一般采用作图法或计算机模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由上述公式，可求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 = 305,      a= 1.3;     b = 1.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预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年销售额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 = 21,    y =                 = 2125.7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万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067000" y="1981080"/>
            <a:ext cx="2971800" cy="19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403280" y="3933720"/>
                <a:ext cx="15112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5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700360" y="5013360"/>
                <a:ext cx="15112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5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关于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Gompert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曲线的讨论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①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   a 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)       0 &lt; b &lt;1                                      b)    b 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057400" y="2895480"/>
            <a:ext cx="0" cy="2314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95880" y="289512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48006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472428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3048120"/>
            <a:ext cx="2819160" cy="1384200"/>
          </a:xfrm>
          <a:custGeom>
            <a:avLst/>
            <a:gdLst/>
            <a:ahLst/>
            <a:rect l="l" t="t" r="r" b="b"/>
            <a:pathLst>
              <a:path w="1776" h="872">
                <a:moveTo>
                  <a:pt x="0" y="0"/>
                </a:moveTo>
                <a:cubicBezTo>
                  <a:pt x="44" y="100"/>
                  <a:pt x="88" y="200"/>
                  <a:pt x="144" y="288"/>
                </a:cubicBezTo>
                <a:cubicBezTo>
                  <a:pt x="200" y="376"/>
                  <a:pt x="240" y="456"/>
                  <a:pt x="336" y="528"/>
                </a:cubicBezTo>
                <a:cubicBezTo>
                  <a:pt x="432" y="600"/>
                  <a:pt x="576" y="672"/>
                  <a:pt x="720" y="720"/>
                </a:cubicBezTo>
                <a:cubicBezTo>
                  <a:pt x="864" y="768"/>
                  <a:pt x="1048" y="792"/>
                  <a:pt x="1200" y="816"/>
                </a:cubicBezTo>
                <a:cubicBezTo>
                  <a:pt x="1352" y="840"/>
                  <a:pt x="1536" y="856"/>
                  <a:pt x="1632" y="864"/>
                </a:cubicBezTo>
                <a:cubicBezTo>
                  <a:pt x="1728" y="872"/>
                  <a:pt x="1752" y="868"/>
                  <a:pt x="1776" y="8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3352680"/>
            <a:ext cx="2438280" cy="1143000"/>
          </a:xfrm>
          <a:custGeom>
            <a:avLst/>
            <a:gdLst/>
            <a:ahLst/>
            <a:rect l="l" t="t" r="r" b="b"/>
            <a:pathLst>
              <a:path w="1344" h="1104">
                <a:moveTo>
                  <a:pt x="0" y="1104"/>
                </a:moveTo>
                <a:cubicBezTo>
                  <a:pt x="60" y="1092"/>
                  <a:pt x="120" y="1080"/>
                  <a:pt x="192" y="1056"/>
                </a:cubicBezTo>
                <a:cubicBezTo>
                  <a:pt x="264" y="1032"/>
                  <a:pt x="320" y="1024"/>
                  <a:pt x="432" y="960"/>
                </a:cubicBezTo>
                <a:cubicBezTo>
                  <a:pt x="544" y="896"/>
                  <a:pt x="736" y="792"/>
                  <a:pt x="864" y="672"/>
                </a:cubicBezTo>
                <a:cubicBezTo>
                  <a:pt x="992" y="552"/>
                  <a:pt x="1120" y="352"/>
                  <a:pt x="1200" y="240"/>
                </a:cubicBezTo>
                <a:cubicBezTo>
                  <a:pt x="1280" y="128"/>
                  <a:pt x="1320" y="48"/>
                  <a:pt x="1344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4495680"/>
            <a:ext cx="27414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457200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5181480"/>
            <a:ext cx="4114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→0, yt →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 ↗ ,       yt↗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→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∞  yt →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10280" y="3581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细胞分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核爆后继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5486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无抑制上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5105520"/>
            <a:ext cx="22096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→0, yt →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 ↗ ,       yt↘                                       t→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+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∞  yt →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62120" y="541008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5410080"/>
            <a:ext cx="2895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133720" y="342864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705720" y="3657240"/>
            <a:ext cx="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267080"/>
            <a:ext cx="2590920" cy="914400"/>
          </a:xfrm>
          <a:custGeom>
            <a:avLst/>
            <a:gdLst/>
            <a:ahLst/>
            <a:rect l="l" t="t" r="r" b="b"/>
            <a:pathLst>
              <a:path w="1632" h="624">
                <a:moveTo>
                  <a:pt x="0" y="624"/>
                </a:moveTo>
                <a:cubicBezTo>
                  <a:pt x="196" y="596"/>
                  <a:pt x="392" y="568"/>
                  <a:pt x="528" y="528"/>
                </a:cubicBezTo>
                <a:cubicBezTo>
                  <a:pt x="664" y="488"/>
                  <a:pt x="712" y="456"/>
                  <a:pt x="816" y="384"/>
                </a:cubicBezTo>
                <a:cubicBezTo>
                  <a:pt x="920" y="312"/>
                  <a:pt x="1016" y="160"/>
                  <a:pt x="1152" y="96"/>
                </a:cubicBezTo>
                <a:cubicBezTo>
                  <a:pt x="1288" y="32"/>
                  <a:pt x="1544" y="16"/>
                  <a:pt x="163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4114800"/>
            <a:ext cx="2514600" cy="1168560"/>
          </a:xfrm>
          <a:custGeom>
            <a:avLst/>
            <a:gdLst/>
            <a:ahLst/>
            <a:rect l="l" t="t" r="r" b="b"/>
            <a:pathLst>
              <a:path w="1584" h="736">
                <a:moveTo>
                  <a:pt x="0" y="0"/>
                </a:moveTo>
                <a:cubicBezTo>
                  <a:pt x="76" y="4"/>
                  <a:pt x="152" y="8"/>
                  <a:pt x="240" y="48"/>
                </a:cubicBezTo>
                <a:cubicBezTo>
                  <a:pt x="328" y="88"/>
                  <a:pt x="456" y="192"/>
                  <a:pt x="528" y="240"/>
                </a:cubicBezTo>
                <a:cubicBezTo>
                  <a:pt x="600" y="288"/>
                  <a:pt x="616" y="296"/>
                  <a:pt x="672" y="336"/>
                </a:cubicBezTo>
                <a:cubicBezTo>
                  <a:pt x="728" y="376"/>
                  <a:pt x="800" y="432"/>
                  <a:pt x="864" y="480"/>
                </a:cubicBezTo>
                <a:cubicBezTo>
                  <a:pt x="928" y="528"/>
                  <a:pt x="976" y="584"/>
                  <a:pt x="1056" y="624"/>
                </a:cubicBezTo>
                <a:cubicBezTo>
                  <a:pt x="1136" y="664"/>
                  <a:pt x="1256" y="704"/>
                  <a:pt x="1344" y="720"/>
                </a:cubicBezTo>
                <a:cubicBezTo>
                  <a:pt x="1432" y="736"/>
                  <a:pt x="1508" y="728"/>
                  <a:pt x="1584" y="72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3720" y="41911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40384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86400" y="56386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动植物生命衰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1371600"/>
            <a:ext cx="70866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②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a 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)       0 &lt; b &lt;1                                      b)    b 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2133720"/>
            <a:ext cx="2971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→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∞  yt →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→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+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∞  yt →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→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yt →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以上“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称为最大步长值，或饱和点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 ：家电生产及销售，农田亩产，机器工作效率等，耐用消费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③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Gomper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曲线是双层指数，又称双指数模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7720" y="9144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.Logistic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曲线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该曲线为美国生物学家，人口统计学家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R.Pearl  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博士通过利用微分方程表示生物生长速度，求解得到的公式，为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Logistic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增长曲线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数学模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微分方程形式为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dy/dt =k y(K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)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其中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k, K&gt;o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常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且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0 &lt;y&lt;k,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为可分离变量一阶微分方程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解出为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t  = K/[1+a e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(-bt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其中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a =  e</a:t>
            </a:r>
            <a:r>
              <a:rPr b="0" lang="zh-CN" sz="2600" spc="-1" strike="noStrike" baseline="30000">
                <a:solidFill>
                  <a:srgbClr val="ffffff"/>
                </a:solidFill>
                <a:latin typeface="Times New Roman"/>
              </a:rPr>
              <a:t>-ck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为积分常数）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b = k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书中公式为                    是变形的一种。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(1/2005/4/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635280" y="6021360"/>
                <a:ext cx="1219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当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→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∞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时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y=K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为极限参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称饱和值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曲线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改变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只影响曲线位置变动而不改变形状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 a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位置参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改变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只影响曲线形状而不改变位置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    ( b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形状参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此方法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8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年代曾用于闭路电视发展预测，结果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9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年美家庭将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3%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200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年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9.5%,201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年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97.17%,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使美联邦通讯委员会从禁止到支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3429000"/>
            <a:ext cx="5486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505320" y="1371240"/>
            <a:ext cx="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1752480"/>
            <a:ext cx="4206960" cy="1479600"/>
          </a:xfrm>
          <a:custGeom>
            <a:avLst/>
            <a:gdLst/>
            <a:ahLst/>
            <a:rect l="l" t="t" r="r" b="b"/>
            <a:pathLst>
              <a:path w="2832" h="1112">
                <a:moveTo>
                  <a:pt x="0" y="1112"/>
                </a:moveTo>
                <a:cubicBezTo>
                  <a:pt x="252" y="1096"/>
                  <a:pt x="504" y="1080"/>
                  <a:pt x="720" y="1016"/>
                </a:cubicBezTo>
                <a:cubicBezTo>
                  <a:pt x="936" y="952"/>
                  <a:pt x="1144" y="832"/>
                  <a:pt x="1296" y="728"/>
                </a:cubicBezTo>
                <a:cubicBezTo>
                  <a:pt x="1448" y="624"/>
                  <a:pt x="1464" y="504"/>
                  <a:pt x="1632" y="392"/>
                </a:cubicBezTo>
                <a:cubicBezTo>
                  <a:pt x="1800" y="280"/>
                  <a:pt x="2104" y="112"/>
                  <a:pt x="2304" y="56"/>
                </a:cubicBezTo>
                <a:cubicBezTo>
                  <a:pt x="2504" y="0"/>
                  <a:pt x="2752" y="56"/>
                  <a:pt x="2832" y="5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2286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19810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05320" y="1752480"/>
            <a:ext cx="2361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228600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198108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1219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71800" y="3429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3429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参数估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解法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三点法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取已知三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一点为起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 = 0 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另两点分别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 = 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 = 2n 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即从时间上均匀分段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设曲线序列始点选定为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 |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=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=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→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=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k/(1+a)…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 y |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=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=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 ,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→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=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k/[1+a 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-bn ]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………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终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 y |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=2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=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 ,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→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=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k/[1+a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-2b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]……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③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由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推出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= (K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/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……………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④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由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②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•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[1+a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-bn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] =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得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-bn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=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K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/ay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= [ln a +ln 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–ln(K-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]/n………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⑤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将公式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②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解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-b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及公式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④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代入公式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③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得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   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{1 + (K-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/ [(K-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 y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/ 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]}=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整理得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=[y0 y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+ y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y2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y0 y1y2]/[y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0 y2]…...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公式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⑥⑤④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三式共同组成参数估计公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59640" y="3429000"/>
            <a:ext cx="360360" cy="36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 rot="19607400">
            <a:off x="7543440" y="3428280"/>
            <a:ext cx="360360" cy="3560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．正规方程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谓多项式回归，就是已知统计资料给出，当预测变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与自变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可用一个多项式进行模拟时，利用一元非线性回归技术，来作出模拟并用于预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设实际值为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方便多项式次数测定，数据选取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 ∆x = 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模型模拟值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就有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 f(x) = 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 + 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 +……+ 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显然，这是一个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次多项式，同时假定已知数据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    i = 1,2,……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4419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425840" y="3213000"/>
                <a:ext cx="2923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620120" y="3962520"/>
                <a:ext cx="274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600200" y="4495680"/>
                <a:ext cx="3031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解法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线性回归法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前提是假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已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公式变形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/[1+a e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/y =  1+a e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 e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K/y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取自然对数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n a – bt = ln(K/y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令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ln(K/y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)=y’, ln a =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0 ,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– b =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则构成线性方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 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’ = 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+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利用一元线性回归方法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解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’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进而求出预测值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解法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为近似积分法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见书介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解法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为三和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举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我国家用缝纫机市场需求量转折点预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70—198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统计资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份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            1970     1971     1972     1973     1974      19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普及率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%     5.49      6.676     7.910    9.125    10.544   12.02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76      1977      1978      1979      1980      1981     198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3.694   15.363     17.282  19.459    22.980   27.054   31.2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由于欧洲市场已饱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可参考统计数据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饱和值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同名             日   英       法         苏         芬           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饱和值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%)   80   35    47.619   62.50   30.303    71.42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据专家估计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中国由于广阔的农村市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饱和率可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0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解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t ’= K/[1+a e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]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且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 =7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用回归分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线性化及预测方程：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t = a0 + a1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式中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0 = ln a, a1 =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 , yt ’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= ln(K/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1)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∵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K,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为已知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 ∴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’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为已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’ = 18.1174 ,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’ = 1.39365 ,  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’ = 30.967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n = 13 ,  t = 7.0  , 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 819, ∑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’ = 76.5519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4267080"/>
            <a:ext cx="19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46483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4038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57600" y="45720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利用线性回归中求参数公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= y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bx = y’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及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1/n)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x(1/n)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(1/n)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(1/n)∑y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1/n)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x(1/n)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(1/n)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t(1/n)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得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= 2.453620    → a = 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= 11.63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.176662   →  b =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= 0.17666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相关系数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n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- 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[n∑x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–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 ][n∑yi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–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 0.99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 70/[1+11.6304 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-0.176662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]   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00200" y="274320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242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2514600"/>
            <a:ext cx="106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19810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95480" y="19810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1981080"/>
            <a:ext cx="11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2374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2852640"/>
            <a:ext cx="11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236232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2819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4419720"/>
            <a:ext cx="434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4495680"/>
            <a:ext cx="418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66688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2590560" y="48006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90920" y="2743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67280" y="2666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19720" y="44956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44956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620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求转折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’= [K/(1+ a e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)]’= -K[-b·a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]/ (1+ a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Kab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/ (1+ a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 y/dx = Kb a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a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/ (1+ a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3962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40384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62320" y="3962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令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” = 0,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→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a = e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b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→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bt = ln a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→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t = (lna)/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即转折点为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ln a)/b,K/2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 = (ln a)/b = ln11.6304/0.17666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3.89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 = K/2=70/2(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即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当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 =14,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即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98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年为缝纫机市场需求量转折点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198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我国缝纫机普及率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5%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研究转折点原因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由于持续增长率将开始下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无其他原因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将逐步趋于饱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生产增长速度亦应下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生产规模不要再扩大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库存尽可能不要积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应重点抓住更新如促销手段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增强竞争力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)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加紧试制新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以便及时转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转折点公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对公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K/[1+a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-b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] 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[(ln a)/b, k/2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对公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1/(k+a b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) ,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[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ln k – ln a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)/ln b,1/(2k)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2004/11/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6176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假定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是相关的，对应任意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，都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由回归分析，最佳拟合为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Q = 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= Q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利用最小二乘法，对系数求偏导数，有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(Q/a</a:t>
            </a:r>
            <a:r>
              <a:rPr b="0" lang="zh-CN" sz="2600" spc="-1" strike="noStrike" baseline="-25000">
                <a:solidFill>
                  <a:srgbClr val="ffffff"/>
                </a:solidFill>
                <a:latin typeface="Times New Roman"/>
                <a:ea typeface=""/>
              </a:rPr>
              <a:t>k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)’ = 0 →2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(e</a:t>
            </a:r>
            <a:r>
              <a:rPr b="0" lang="zh-CN" sz="2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)’</a:t>
            </a:r>
            <a:r>
              <a:rPr b="0" lang="zh-CN" sz="2600" spc="-1" strike="noStrike" baseline="-25000">
                <a:solidFill>
                  <a:srgbClr val="ffffff"/>
                </a:solidFill>
                <a:latin typeface="Times New Roman"/>
              </a:rPr>
              <a:t>ak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其中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k = 0,1,2,3,……,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因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 ……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 baseline="30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所以有：∑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(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－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-- …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 baseline="30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)(-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)= 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得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6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∑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k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+a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∑ 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(k+1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+……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k+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705720" y="114264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114300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895480" y="38858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388620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666880" y="1676520"/>
                <a:ext cx="274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209680" y="4800600"/>
                <a:ext cx="436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23880" y="5257800"/>
                <a:ext cx="479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828800" y="2362320"/>
                <a:ext cx="2362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Δ</m:t>
                        </m:r>
                      </m:lim>
                    </m:limUpp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</m:sSub>
                        <m:r>
                          <m:t xml:space="preserve">,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280040" y="3282840"/>
                <a:ext cx="5839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00600" y="2376360"/>
                <a:ext cx="18288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80010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可建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+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个方程组成的正规方程组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+s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+……+s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u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(k =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+s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+………+s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m+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u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(k =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:        :                          :         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+s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m+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+……..+s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u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(k = 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记为矩阵式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…… 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m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 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…… 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m+1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m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m+1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… s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2m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m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记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记为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记为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则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U = SA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→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A = S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(-1)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U = 1/|S| S*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有唯一解，故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0,a1,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am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可唯一求出，于是预测方程可以求得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{2004/11/1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3429000"/>
            <a:ext cx="76320" cy="1371600"/>
          </a:xfrm>
          <a:custGeom>
            <a:avLst/>
            <a:gdLst>
              <a:gd name="textAreaLeft" fmla="*/ 22320 w 76320"/>
              <a:gd name="textAreaRight" fmla="*/ 7632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429000"/>
            <a:ext cx="75960" cy="1371600"/>
          </a:xfrm>
          <a:custGeom>
            <a:avLst/>
            <a:gdLst>
              <a:gd name="textAreaLeft" fmla="*/ 0 w 75960"/>
              <a:gd name="textAreaRight" fmla="*/ 53280 w 7596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3429000"/>
            <a:ext cx="76320" cy="1371600"/>
          </a:xfrm>
          <a:custGeom>
            <a:avLst/>
            <a:gdLst>
              <a:gd name="textAreaLeft" fmla="*/ 22320 w 76320"/>
              <a:gd name="textAreaRight" fmla="*/ 7632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3429000"/>
            <a:ext cx="76320" cy="1371600"/>
          </a:xfrm>
          <a:custGeom>
            <a:avLst/>
            <a:gdLst>
              <a:gd name="textAreaLeft" fmla="*/ 0 w 76320"/>
              <a:gd name="textAreaRight" fmla="*/ 5364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3429000"/>
            <a:ext cx="76320" cy="1371600"/>
          </a:xfrm>
          <a:custGeom>
            <a:avLst/>
            <a:gdLst>
              <a:gd name="textAreaLeft" fmla="*/ 22320 w 76320"/>
              <a:gd name="textAreaRight" fmla="*/ 7632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3429000"/>
            <a:ext cx="76320" cy="1371600"/>
          </a:xfrm>
          <a:custGeom>
            <a:avLst/>
            <a:gdLst>
              <a:gd name="textAreaLeft" fmla="*/ 0 w 76320"/>
              <a:gd name="textAreaRight" fmla="*/ 5364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886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3886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160" y="8377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二、案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某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72---1979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工业产值统计资料如表，企业多项式模型，并预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8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8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工业产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72    1973   1974   1975   1976   1977    1978    197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序号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        2         3         4         5          6          7         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产值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.54    8.76   8.23    9.92   10.65   11.65   12.56   13.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解：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描点，观察，做趋势图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由图所示，用二次曲线描述合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即预测模型可取为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 = 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+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+a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523880" y="3276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449568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752480" y="4038120"/>
            <a:ext cx="1526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03848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133720" y="4038120"/>
            <a:ext cx="3045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438280" y="380952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666880" y="358092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200400" y="3504960"/>
            <a:ext cx="3808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81280" y="3352680"/>
            <a:ext cx="3049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886200" y="3276360"/>
            <a:ext cx="3808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3200400"/>
            <a:ext cx="2438280" cy="1066680"/>
          </a:xfrm>
          <a:custGeom>
            <a:avLst/>
            <a:gdLst/>
            <a:ahLst/>
            <a:rect l="l" t="t" r="r" b="b"/>
            <a:pathLst>
              <a:path w="1536" h="672">
                <a:moveTo>
                  <a:pt x="0" y="672"/>
                </a:moveTo>
                <a:cubicBezTo>
                  <a:pt x="240" y="636"/>
                  <a:pt x="480" y="600"/>
                  <a:pt x="672" y="528"/>
                </a:cubicBezTo>
                <a:cubicBezTo>
                  <a:pt x="864" y="456"/>
                  <a:pt x="1008" y="328"/>
                  <a:pt x="1152" y="240"/>
                </a:cubicBezTo>
                <a:cubicBezTo>
                  <a:pt x="1296" y="152"/>
                  <a:pt x="1472" y="40"/>
                  <a:pt x="1536" y="0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55166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）由正规方程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U = SA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，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 = S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imes New Roman"/>
              </a:rPr>
              <a:t>(-1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∵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∑X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宋体"/>
              </a:rPr>
              <a:t>i</a:t>
            </a:r>
            <a:r>
              <a:rPr b="0" lang="zh-CN" sz="2800" spc="-1" strike="noStrike" baseline="30000">
                <a:solidFill>
                  <a:srgbClr val="ffffff"/>
                </a:solidFill>
                <a:latin typeface="宋体"/>
              </a:rPr>
              <a:t>k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 = 1,2,………,8.    K = 0,1,2,3,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8; 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36; 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204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1296; S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i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877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         36        2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∴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S =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36       204       12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4     1296      877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4038480"/>
            <a:ext cx="76320" cy="1143000"/>
          </a:xfrm>
          <a:custGeom>
            <a:avLst/>
            <a:gdLst>
              <a:gd name="textAreaLeft" fmla="*/ 22320 w 76320"/>
              <a:gd name="textAreaRight" fmla="*/ 76320 w 7632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4114800"/>
            <a:ext cx="76320" cy="1066680"/>
          </a:xfrm>
          <a:custGeom>
            <a:avLst/>
            <a:gdLst>
              <a:gd name="textAreaLeft" fmla="*/ 0 w 76320"/>
              <a:gd name="textAreaRight" fmla="*/ 5364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2819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28195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28195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3352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24280" y="32767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762120" y="1371600"/>
                <a:ext cx="7391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,1,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62120" y="2514600"/>
                <a:ext cx="23619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00400" y="2514600"/>
                <a:ext cx="24382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715000" y="2498760"/>
                <a:ext cx="25909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124080" y="3505320"/>
                <a:ext cx="266724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1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5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趋势曲线 模型 预测</cp:keywords>
  <dc:language>en-US</dc:language>
  <cp:lastModifiedBy/>
  <cp:revision>0</cp:revision>
  <dc:subject/>
  <dc:title/>
</cp:coreProperties>
</file>