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6ECC0-B789-446E-B130-977EC1148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D87E-1DF1-4978-ADAE-42F0573A5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AB80D-B7FE-4FE7-857C-304281BC7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3EADB-6B5F-4CB5-A03C-7F7D25010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86438-2FA6-469C-B7B8-62662D7CE1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22B68-818D-493D-930E-CC7CDEA0FA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45FC4-E516-4F3C-9DF5-5432D7D12A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E6209-038F-42F7-B54B-7EF05CFDA4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6028C-035E-4589-B0FC-686425272E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A6302-1BE9-4B86-88FF-94B24226A7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0B861-6B09-4970-9B70-B33D03690C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0A706-4A53-4FFE-9861-A9C65C912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5B70D-49A6-4055-A45F-D2945B4BF3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0D25A-4FD3-42E9-9E28-2F30FABC40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136F9-58D9-4AA3-9FBB-EF7378B85B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F8F91-9C89-4807-9A32-B6BD3F3330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44C89-58BB-4373-9056-4B5ED467BC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1B096-46B0-48BA-9A82-AE6075CFB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FB342-B06F-4440-868D-C401E5259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D580D-6EF6-46F2-A37C-185029D7F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B6E13-73FE-42DB-B818-1648E492A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FC4B-2C6D-4351-B1FC-5A166C8CE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FC14C-6830-40C4-8E9F-A03AFEAC4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C56DD-BEDD-4623-A059-65EDF28E7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1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2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2ED0-EC60-4106-8C0D-5DB5F77EAB9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-1440" y="0"/>
            <a:ext cx="9145080" cy="6867360"/>
            <a:chOff x="-1440" y="0"/>
            <a:chExt cx="9145080" cy="6867360"/>
          </a:xfrm>
        </p:grpSpPr>
        <p:grpSp>
          <p:nvGrpSpPr>
            <p:cNvPr id="104" name=""/>
            <p:cNvGrpSpPr/>
            <p:nvPr/>
          </p:nvGrpSpPr>
          <p:grpSpPr>
            <a:xfrm>
              <a:off x="-1440" y="0"/>
              <a:ext cx="9065520" cy="6867360"/>
              <a:chOff x="-1440" y="0"/>
              <a:chExt cx="9065520" cy="6867360"/>
            </a:xfrm>
          </p:grpSpPr>
          <p:sp>
            <p:nvSpPr>
              <p:cNvPr id="105" name=""/>
              <p:cNvSpPr/>
              <p:nvPr/>
            </p:nvSpPr>
            <p:spPr>
              <a:xfrm>
                <a:off x="-1440" y="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504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312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76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032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1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648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1752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36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220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472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266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789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3156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38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361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8876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410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933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4596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1982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3505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0316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550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8073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6000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1122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2645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1720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694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217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7440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66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789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3160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835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78844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407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564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979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70284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551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6004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19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4642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1688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691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214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7408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263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786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128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6835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8358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98848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682560" y="0"/>
              <a:ext cx="84610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40" y="0"/>
              <a:ext cx="91422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DE50-973A-4258-9588-4F8ED2D891C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projctor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jctor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6" descr=""/>
          <p:cNvPicPr/>
          <p:nvPr/>
        </p:nvPicPr>
        <p:blipFill>
          <a:blip r:embed="rId1"/>
          <a:stretch/>
        </p:blipFill>
        <p:spPr>
          <a:xfrm>
            <a:off x="1370160" y="2514600"/>
            <a:ext cx="6402240" cy="38862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79400" y="1096920"/>
            <a:ext cx="7678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87280" y="1125360"/>
            <a:ext cx="5486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楷体_GB2312"/>
              </a:rPr>
              <a:t>市场经济的一般特征</a:t>
            </a:r>
            <a:endParaRPr b="0" lang="en-US" sz="4800" spc="-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11" name="PE01832_" descr=""/>
          <p:cNvPicPr/>
          <p:nvPr/>
        </p:nvPicPr>
        <p:blipFill>
          <a:blip r:embed="rId2"/>
          <a:stretch/>
        </p:blipFill>
        <p:spPr>
          <a:xfrm>
            <a:off x="6172200" y="3809880"/>
            <a:ext cx="2744640" cy="28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8E5E5-8261-4E84-8F28-58441A068F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327680" y="6350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竞争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2360" y="190512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含义：经济活动参加者之间存在着广泛竞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10760" y="26668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原因：价值规律决定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08360" y="3429000"/>
            <a:ext cx="360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作用：商品交换得以进行的前提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促使商品生产者和经营者改进技术、提高劳动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产率，优胜劣汰促进资源优化配置的实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27160" y="49528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如何正确开展公平竞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02680" y="56386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负面效应：社会资源的浪费、垄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D8359-99F4-462E-9FC7-94A29C18B8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80640" y="8355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法制性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332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1828800"/>
            <a:ext cx="76960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含义：社会经济运行有健全的法制基础，生产者和经营者的经济活动依据市场经济的法规进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3657600"/>
            <a:ext cx="77724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作用：健全的法制是处理矛盾，体现公平的依据和准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4800600"/>
            <a:ext cx="8153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要求：学法，懂法，守法，用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4FD60-7C48-4B82-8612-D0F82C3F341D}" type="slidenum">
              <a:t>11</a:t>
            </a:fld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开放性</a:t>
            </a:r>
            <a:r>
              <a:rPr b="0" lang="en-US" sz="4400" spc="-1" strike="noStrike">
                <a:solidFill>
                  <a:srgbClr val="003366"/>
                </a:solidFill>
                <a:latin typeface="宋体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19051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）含义：市场不是相互封闭的，全国是一个统一的大市场并且与世界市场联系在一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3733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）原因：市场经济条件下，生产经营的特点决定社会分工和生产专业化的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54100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）作用：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达到资源优化配置的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66680" y="60199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）要求：对外开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58A03-D254-41DF-B11A-481BAE2F9E74}" type="slidenum">
              <a:t>12</a:t>
            </a:fld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14400" y="2971800"/>
            <a:ext cx="73915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市场经济的优越性：是实现资源配置的一种有效形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四个特征的联系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2600" y="22860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般特征是市场经济所固有的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CF330-20A0-4271-AE33-A6DEEEDCF2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31680" y="380880"/>
            <a:ext cx="732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ahoma"/>
                <a:ea typeface="华文彩云"/>
              </a:rPr>
              <a:t>练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46800" y="1066680"/>
            <a:ext cx="61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1.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实现资源配置的有效形式是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.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商品经济   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B.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计划经济   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.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市场经济   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D.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自然经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2057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2.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市场经济条件下的竞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①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会克服垄断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,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从而有利于资源的优化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②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是由市场经济的基本规律决定的必然现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③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是协调和处理矛盾、体现公平的依据和准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④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是市场经济有效运行的必要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. ①②③④     B.②④     C. ①③④      D. ②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680" y="10638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黑体"/>
              </a:rPr>
              <a:t>(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  <a:ea typeface="黑体"/>
              </a:rPr>
              <a:t>单选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680" y="4343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黑体"/>
              </a:rPr>
              <a:t>(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  <a:ea typeface="黑体"/>
              </a:rPr>
              <a:t>多选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96200" y="4343400"/>
            <a:ext cx="406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1.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市场经济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.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是和商品经济同时产生和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B.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是市场在资源配置中起基础性作用的经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.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是社会化的商品经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D.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可以存在于各种社会制度之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5DA4E-662C-4044-8DFA-367D39A21B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011840" y="228600"/>
            <a:ext cx="11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一、市场经济的一般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61560" y="914400"/>
            <a:ext cx="23032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（一）资源和资源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资源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05440" y="1752480"/>
            <a:ext cx="1294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资源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59920" y="2514600"/>
            <a:ext cx="3214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资源配置的方式：计划与市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895480"/>
            <a:ext cx="3740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（二）市场和市场经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1"/>
          </p:cNvPr>
          <p:cNvSpPr/>
          <p:nvPr/>
        </p:nvSpPr>
        <p:spPr>
          <a:xfrm>
            <a:off x="2159640" y="3581280"/>
            <a:ext cx="77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市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48120" y="3352680"/>
            <a:ext cx="877320" cy="853560"/>
            <a:chOff x="3048120" y="3352680"/>
            <a:chExt cx="877320" cy="853560"/>
          </a:xfrm>
        </p:grpSpPr>
        <p:sp>
          <p:nvSpPr>
            <p:cNvPr id="219" name=""/>
            <p:cNvSpPr/>
            <p:nvPr/>
          </p:nvSpPr>
          <p:spPr>
            <a:xfrm>
              <a:off x="3048120" y="3504960"/>
              <a:ext cx="228600" cy="6858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98120" y="3352680"/>
              <a:ext cx="42732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狭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广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>
            <a:hlinkClick r:id="rId2"/>
          </p:cNvPr>
          <p:cNvSpPr/>
          <p:nvPr/>
        </p:nvSpPr>
        <p:spPr>
          <a:xfrm>
            <a:off x="2523240" y="4191120"/>
            <a:ext cx="1846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市场经济的含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05000" y="4572000"/>
            <a:ext cx="3553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市场经济和商品经济的联系与区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4952880"/>
            <a:ext cx="4572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（三）市场经济的一般特征：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133720" y="5410080"/>
            <a:ext cx="1218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3300"/>
                </a:solidFill>
                <a:latin typeface="楷体_GB2312"/>
              </a:rPr>
              <a:t>1.</a:t>
            </a:r>
            <a:r>
              <a:rPr b="0" lang="zh-CN" sz="2800" spc="-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3300"/>
                </a:solidFill>
                <a:latin typeface="楷体_GB2312"/>
              </a:rPr>
              <a:t>平等性</a:t>
            </a:r>
            <a:endParaRPr b="0" lang="en-US" sz="2800" spc="-1" strike="noStrike">
              <a:ln w="9360">
                <a:solidFill>
                  <a:srgbClr val="333399"/>
                </a:solidFill>
                <a:miter/>
              </a:ln>
              <a:solidFill>
                <a:srgbClr val="ff3300"/>
              </a:solidFill>
              <a:latin typeface="楷体_GB2312"/>
              <a:ea typeface="楷体_GB2312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5410080"/>
            <a:ext cx="1218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2.</a:t>
            </a:r>
            <a:r>
              <a:rPr b="0" lang="zh-CN" sz="2800" spc="-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竞争性</a:t>
            </a:r>
            <a:endParaRPr b="0" lang="en-US" sz="2800" spc="-1" strike="noStrike">
              <a:ln w="9360">
                <a:solidFill>
                  <a:srgbClr val="333399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057400" y="5943600"/>
            <a:ext cx="1295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3300"/>
                </a:solidFill>
                <a:latin typeface="楷体_GB2312"/>
              </a:rPr>
              <a:t>3.</a:t>
            </a:r>
            <a:r>
              <a:rPr b="0" lang="zh-CN" sz="2800" spc="-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3300"/>
                </a:solidFill>
                <a:latin typeface="楷体_GB2312"/>
              </a:rPr>
              <a:t>法制性</a:t>
            </a:r>
            <a:endParaRPr b="0" lang="en-US" sz="2800" spc="-1" strike="noStrike">
              <a:ln w="9360">
                <a:solidFill>
                  <a:srgbClr val="333399"/>
                </a:solidFill>
                <a:miter/>
              </a:ln>
              <a:solidFill>
                <a:srgbClr val="ff3300"/>
              </a:solidFill>
              <a:latin typeface="楷体_GB2312"/>
              <a:ea typeface="楷体_GB2312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5943600"/>
            <a:ext cx="1218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latin typeface="楷体_GB2312"/>
              </a:rPr>
              <a:t>4.</a:t>
            </a:r>
            <a:r>
              <a:rPr b="0" lang="zh-CN" sz="2800" spc="-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latin typeface="楷体_GB2312"/>
              </a:rPr>
              <a:t>开放性</a:t>
            </a:r>
            <a:endParaRPr b="0" lang="en-US" sz="2800" spc="-1" strike="noStrike">
              <a:ln w="9360">
                <a:solidFill>
                  <a:srgbClr val="000099"/>
                </a:solidFill>
                <a:miter/>
              </a:ln>
              <a:solidFill>
                <a:srgbClr val="ff3300"/>
              </a:solidFill>
              <a:latin typeface="楷体_GB2312"/>
              <a:ea typeface="楷体_GB2312"/>
            </a:endParaRPr>
          </a:p>
        </p:txBody>
      </p:sp>
      <p:sp>
        <p:nvSpPr>
          <p:cNvPr id="228" name="">
            <a:hlinkClick r:id="rId3"/>
          </p:cNvPr>
          <p:cNvSpPr/>
          <p:nvPr/>
        </p:nvSpPr>
        <p:spPr>
          <a:xfrm>
            <a:off x="2523600" y="2133720"/>
            <a:ext cx="1934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资源的合理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BD14565_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19112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EDB1-97C5-41E8-86FA-E13121BBA1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777680" y="2514600"/>
            <a:ext cx="52646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市场经济的含义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市场经济是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社会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商品经济，是市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资源配置中起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基础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的经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64E70-2047-4FCE-B18A-97D6904C14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343400" y="0"/>
            <a:ext cx="4267080" cy="76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人类社会发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程中，人们为争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有限资源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到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充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合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利用，以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最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限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满足自己生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发展的需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8280" y="254160"/>
            <a:ext cx="1642680" cy="33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资 源 的 合 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配 置 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7E868-4E62-41A4-9132-E3A7FC77EF9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8355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（二）市场和市场经济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1905120"/>
            <a:ext cx="6400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市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1"/>
          </p:cNvPr>
          <p:cNvSpPr/>
          <p:nvPr/>
        </p:nvSpPr>
        <p:spPr>
          <a:xfrm>
            <a:off x="914400" y="2438280"/>
            <a:ext cx="69343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狭义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有形市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无形市场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2"/>
          </p:cNvPr>
          <p:cNvSpPr/>
          <p:nvPr/>
        </p:nvSpPr>
        <p:spPr>
          <a:xfrm>
            <a:off x="914400" y="3809880"/>
            <a:ext cx="8229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广义：包括有形市场和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无形市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FF751-7136-4360-8827-5B25BDA49147}" type="slidenum">
              <a:t>5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377720" y="205740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个别劳动时间     社会必要劳动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10640" y="1905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10640" y="23623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33040" y="1676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亏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33040" y="2286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盈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57440" y="3505320"/>
            <a:ext cx="1757160" cy="520560"/>
            <a:chOff x="757440" y="3505320"/>
            <a:chExt cx="1757160" cy="520560"/>
          </a:xfrm>
        </p:grpSpPr>
        <p:sp>
          <p:nvSpPr>
            <p:cNvPr id="244" name=""/>
            <p:cNvSpPr/>
            <p:nvPr/>
          </p:nvSpPr>
          <p:spPr>
            <a:xfrm>
              <a:off x="757440" y="3505320"/>
              <a:ext cx="1034280" cy="520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  <a:ea typeface="楷体_GB2312"/>
                </a:rPr>
                <a:t>价格上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9680" y="37814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891160" y="3505320"/>
            <a:ext cx="1757160" cy="520560"/>
            <a:chOff x="2891160" y="3505320"/>
            <a:chExt cx="1757160" cy="520560"/>
          </a:xfrm>
        </p:grpSpPr>
        <p:sp>
          <p:nvSpPr>
            <p:cNvPr id="247" name=""/>
            <p:cNvSpPr/>
            <p:nvPr/>
          </p:nvSpPr>
          <p:spPr>
            <a:xfrm>
              <a:off x="2891160" y="3505320"/>
              <a:ext cx="1034280" cy="520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  <a:ea typeface="楷体_GB2312"/>
                </a:rPr>
                <a:t>获利增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37814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024520" y="3505320"/>
            <a:ext cx="1757160" cy="520560"/>
            <a:chOff x="5024520" y="3505320"/>
            <a:chExt cx="1757160" cy="520560"/>
          </a:xfrm>
        </p:grpSpPr>
        <p:sp>
          <p:nvSpPr>
            <p:cNvPr id="250" name=""/>
            <p:cNvSpPr/>
            <p:nvPr/>
          </p:nvSpPr>
          <p:spPr>
            <a:xfrm>
              <a:off x="5024520" y="3505320"/>
              <a:ext cx="1034280" cy="520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  <a:ea typeface="楷体_GB2312"/>
                </a:rPr>
                <a:t>生产扩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6760" y="37814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158240" y="3505320"/>
            <a:ext cx="1034280" cy="1371600"/>
            <a:chOff x="7158240" y="3505320"/>
            <a:chExt cx="1034280" cy="1371600"/>
          </a:xfrm>
        </p:grpSpPr>
        <p:sp>
          <p:nvSpPr>
            <p:cNvPr id="253" name=""/>
            <p:cNvSpPr/>
            <p:nvPr/>
          </p:nvSpPr>
          <p:spPr>
            <a:xfrm>
              <a:off x="7158240" y="3505320"/>
              <a:ext cx="1034280" cy="520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  <a:ea typeface="楷体_GB2312"/>
                </a:rPr>
                <a:t>供过于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20120" y="41148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553080" y="5033880"/>
            <a:ext cx="1639440" cy="520560"/>
            <a:chOff x="6553080" y="5033880"/>
            <a:chExt cx="1639440" cy="520560"/>
          </a:xfrm>
        </p:grpSpPr>
        <p:sp>
          <p:nvSpPr>
            <p:cNvPr id="256" name=""/>
            <p:cNvSpPr/>
            <p:nvPr/>
          </p:nvSpPr>
          <p:spPr>
            <a:xfrm>
              <a:off x="7158240" y="5033880"/>
              <a:ext cx="1034280" cy="520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  <a:ea typeface="楷体_GB2312"/>
                </a:rPr>
                <a:t>价格下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53080" y="53337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495680" y="5029200"/>
            <a:ext cx="1639440" cy="520560"/>
            <a:chOff x="4495680" y="5029200"/>
            <a:chExt cx="1639440" cy="520560"/>
          </a:xfrm>
        </p:grpSpPr>
        <p:sp>
          <p:nvSpPr>
            <p:cNvPr id="259" name=""/>
            <p:cNvSpPr/>
            <p:nvPr/>
          </p:nvSpPr>
          <p:spPr>
            <a:xfrm>
              <a:off x="5100840" y="5029200"/>
              <a:ext cx="1034280" cy="520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  <a:ea typeface="楷体_GB2312"/>
                </a:rPr>
                <a:t>获利减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95680" y="53290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286000" y="5029200"/>
            <a:ext cx="1639440" cy="520560"/>
            <a:chOff x="2286000" y="5029200"/>
            <a:chExt cx="1639440" cy="520560"/>
          </a:xfrm>
        </p:grpSpPr>
        <p:sp>
          <p:nvSpPr>
            <p:cNvPr id="262" name=""/>
            <p:cNvSpPr/>
            <p:nvPr/>
          </p:nvSpPr>
          <p:spPr>
            <a:xfrm>
              <a:off x="2891160" y="5029200"/>
              <a:ext cx="1034280" cy="520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  <a:ea typeface="楷体_GB2312"/>
                </a:rPr>
                <a:t>生产缩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86000" y="53290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833760" y="4191120"/>
            <a:ext cx="1034280" cy="1358280"/>
            <a:chOff x="833760" y="4191120"/>
            <a:chExt cx="1034280" cy="1358280"/>
          </a:xfrm>
        </p:grpSpPr>
        <p:sp>
          <p:nvSpPr>
            <p:cNvPr id="265" name=""/>
            <p:cNvSpPr/>
            <p:nvPr/>
          </p:nvSpPr>
          <p:spPr>
            <a:xfrm>
              <a:off x="1295640" y="4191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3760" y="5028840"/>
              <a:ext cx="1034280" cy="520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  <a:ea typeface="楷体_GB2312"/>
                </a:rPr>
                <a:t>供不应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4C72E-2505-42A9-85EE-8CE8E84D97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价值规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价值规律的内容：商品的价值量是由生产商品的社会必要劳动时间决定的，商品交换要以 人价值量为基础，实行等价交换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价值规律的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第一：调节生产资料和劳动力在各生产部门的分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第二：刺激商品生产者改进生产技术，改善经管理，提高劳动生产率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第三：促使生产者在竞争中优胜劣汰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2BE0C-1271-44EE-A10A-802D3AB888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560" y="859320"/>
            <a:ext cx="2100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平等性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42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762120" y="20494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）含义：是指在市场上经济活动                                                    参加者之间的关系是平等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3352680"/>
            <a:ext cx="7543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原因：价值规律决定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41148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要求：当事人身份平等，交易平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41E38-BD97-44DE-A75A-DC3FC66A43ED}" type="slidenum">
              <a:t>8</a:t>
            </a:fld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952880" y="304920"/>
            <a:ext cx="2857680" cy="5895720"/>
            <a:chOff x="4952880" y="304920"/>
            <a:chExt cx="2857680" cy="5895720"/>
          </a:xfrm>
        </p:grpSpPr>
        <p:pic>
          <p:nvPicPr>
            <p:cNvPr id="278" name="对联" descr=""/>
            <p:cNvPicPr/>
            <p:nvPr/>
          </p:nvPicPr>
          <p:blipFill>
            <a:blip r:embed="rId1"/>
            <a:srcRect l="0" t="0" r="60522" b="0"/>
            <a:stretch/>
          </p:blipFill>
          <p:spPr>
            <a:xfrm>
              <a:off x="4952880" y="304920"/>
              <a:ext cx="2857680" cy="58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140080" y="914040"/>
              <a:ext cx="1521000" cy="45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茶  泡茶  泡好茶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286000" y="304920"/>
            <a:ext cx="2857680" cy="5895720"/>
            <a:chOff x="2286000" y="304920"/>
            <a:chExt cx="2857680" cy="5895720"/>
          </a:xfrm>
        </p:grpSpPr>
        <p:pic>
          <p:nvPicPr>
            <p:cNvPr id="281" name="对联" descr=""/>
            <p:cNvPicPr/>
            <p:nvPr/>
          </p:nvPicPr>
          <p:blipFill>
            <a:blip r:embed="rId2"/>
            <a:srcRect l="0" t="0" r="60522" b="0"/>
            <a:stretch/>
          </p:blipFill>
          <p:spPr>
            <a:xfrm>
              <a:off x="2286000" y="304920"/>
              <a:ext cx="2857680" cy="58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457360" y="914040"/>
              <a:ext cx="1521000" cy="45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坐  请坐  请上坐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763560" y="7621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对联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4120" y="1946160"/>
            <a:ext cx="66780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出自：郑板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27DDE-742C-4FF0-999F-F03C19F3B8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市场 经济</cp:keywords>
  <dc:language>en-US</dc:language>
  <cp:lastModifiedBy/>
  <cp:revision>0</cp:revision>
  <dc:subject/>
  <dc:title/>
</cp:coreProperties>
</file>