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84E-E880-4FBA-97C1-1FD93444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13F-C362-4B99-9E34-1FAB4F76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0D1-99E6-429D-A656-342C5043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8CB-0E53-4337-95ED-B9C1DE58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C32A-B0DA-4C8B-B4D6-7B6B6466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4CC8-E516-40E9-9285-CA4FE2B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7239-1A22-4D82-9187-F53E5021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508-3D89-4B68-A3E8-9B37DB4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CA54-B436-49D5-89EC-A08BFA55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7D9C-7645-4027-9C33-D975BDCF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B801-9A50-41AF-9A16-CA14E3D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9C08-9124-4D79-BEAA-8AB2D0A3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7F7-9492-49BE-AC1E-EEDEF62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770C-7F1A-428B-A267-940A18A6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EFFE-C851-492B-926E-093867AE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D33F-6C27-47C5-ACEC-60BC6566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56B5-C4FE-4DEC-9420-705EDD6E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EECE-96FF-4C8A-9E3D-BC79A1BD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E47-9298-48DB-9888-0B480C77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3AC-7848-4B5D-A698-D4D8882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A36-20D2-4708-9A9C-6E45F6D0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5CB-5451-4577-B273-E1B6215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749-4657-42AB-8789-028769B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2FA-F3A6-4F26-83E3-52D24D3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C26B-CDF6-4720-A989-EBB73AEB4440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AC3-D21D-40C8-9D1A-0995AD567081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762120"/>
            <a:ext cx="815328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1500</a:t>
            </a: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年的四大传统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黑体"/>
                <a:ea typeface="黑体"/>
              </a:rPr>
              <a:t>文明及其关系格局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35053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b2d0b"/>
                </a:solidFill>
                <a:latin typeface="Tahoma"/>
                <a:ea typeface="黑体"/>
              </a:rPr>
              <a:t>对外交往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3760" y="28191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b2d0b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2d0b"/>
                </a:solidFill>
                <a:latin typeface="Tahoma"/>
              </a:rPr>
              <a:t>纳贡关系是古代中国处理国际关系的主要形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b2d0b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b2d0b"/>
                </a:solidFill>
                <a:latin typeface="Tahoma"/>
              </a:rPr>
              <a:t>郑和下西洋：规模、技术水平都远远高于同时期的西方，却没有产生后来的地理大发现那样的成果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952880" cy="414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" y="5867280"/>
            <a:ext cx="4952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郑和船队行经路线示意图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410080" y="152280"/>
            <a:ext cx="3581640" cy="2565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04920" y="-11340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郑和宝船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b2d0b"/>
                </a:solidFill>
                <a:latin typeface="Tahoma"/>
                <a:ea typeface="黑体"/>
              </a:rPr>
              <a:t>印度河文明</a:t>
            </a:r>
            <a:r>
              <a:rPr b="1" lang="zh-CN" sz="5400" spc="-1" strike="noStrike">
                <a:solidFill>
                  <a:srgbClr val="8b2d0b"/>
                </a:solidFill>
                <a:latin typeface="Tahoma"/>
              </a:rPr>
              <a:t>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早在公元前三千纪，曾有过一个“印度河文明”，习惯上称之为“哈拉巴文化”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古代世界面积最广阔的青铜文化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4011840" cy="455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  <a:ea typeface="黑体"/>
              </a:rPr>
              <a:t>印度河文明</a:t>
            </a:r>
            <a:r>
              <a:rPr b="1" lang="zh-CN" sz="4800" spc="-1" strike="noStrike">
                <a:solidFill>
                  <a:srgbClr val="000066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2895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8b2d0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公元前</a:t>
            </a:r>
            <a:r>
              <a:rPr b="1" lang="zh-CN" sz="3600" spc="-1" strike="noStrike">
                <a:solidFill>
                  <a:srgbClr val="8b2d0b"/>
                </a:solidFill>
                <a:latin typeface="Times New Roman"/>
              </a:rPr>
              <a:t>1400</a:t>
            </a:r>
            <a:r>
              <a:rPr b="1" lang="zh-CN" sz="3600" spc="-1" strike="noStrike">
                <a:solidFill>
                  <a:srgbClr val="8b2d0b"/>
                </a:solidFill>
                <a:latin typeface="Tahoma"/>
              </a:rPr>
              <a:t>年左右，突然衰落消失，消失的原因迄今无定论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352680" y="1752480"/>
            <a:ext cx="5486400" cy="3146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52680" y="51055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摩亨约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Tahoma"/>
              </a:rPr>
              <a:t>•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达罗遗址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（摩亨约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Tahoma"/>
              </a:rPr>
              <a:t>•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达罗，印度河文明的两大城市之一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b2d0b"/>
                </a:solidFill>
                <a:latin typeface="Tahoma"/>
                <a:ea typeface="黑体"/>
              </a:rPr>
              <a:t>印度文明的三个时代</a:t>
            </a:r>
            <a:r>
              <a:rPr b="0" lang="zh-CN" sz="4800" spc="-1" strike="noStrike">
                <a:solidFill>
                  <a:srgbClr val="8b2d0b"/>
                </a:solidFill>
                <a:latin typeface="Tahoma"/>
              </a:rPr>
              <a:t>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印度</a:t>
            </a: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ed531d"/>
                </a:solidFill>
                <a:latin typeface="黑体"/>
                <a:ea typeface="黑体"/>
              </a:rPr>
              <a:t>雅利安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公元前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1400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公元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8b2d0b"/>
                </a:solidFill>
                <a:latin typeface="Times New Roman"/>
              </a:rPr>
              <a:t> ）。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又称吠陀文明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印度教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公元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1206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d531d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伊斯兰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ed531d"/>
                </a:solidFill>
                <a:latin typeface="Times New Roman"/>
                <a:ea typeface="黑体"/>
              </a:rPr>
              <a:t>印度文明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时代（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1206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-1757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年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8b2d0b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8b2d0b"/>
                </a:solidFill>
                <a:latin typeface="Times New Roman"/>
              </a:rPr>
              <a:t>三个文明都不曾统一过整个次大陆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9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印度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雅利安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166a5"/>
                </a:solidFill>
                <a:latin typeface="Tahoma"/>
              </a:rPr>
              <a:t>该文明是雅利安入侵者的文化和印度土著文化的混合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166a5"/>
                </a:solidFill>
                <a:latin typeface="Tahoma"/>
              </a:rPr>
              <a:t>为印度文明的发展定下结构性的基调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4255920" cy="5410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26920" y="5638680"/>
            <a:ext cx="34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右图：古代印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BC-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2166a5"/>
                </a:solidFill>
                <a:latin typeface="黑体"/>
                <a:ea typeface="黑体"/>
              </a:rPr>
              <a:t>世纪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AD</a:t>
            </a:r>
            <a:r>
              <a:rPr b="0" lang="en-US" sz="2800" spc="-1" strike="noStrike">
                <a:solidFill>
                  <a:srgbClr val="2166a5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Tahoma"/>
                <a:ea typeface="黑体"/>
              </a:rPr>
              <a:t>印度教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57440" y="533160"/>
            <a:ext cx="36939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耆那教、佛教衰落，印度教成为占主导地位的宗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印度历史上最混乱的群雄割据时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商业的荣衰常常能决定其最富裕地区内各帝国的兴亡（</a:t>
            </a:r>
            <a:r>
              <a:rPr b="1" lang="zh-CN" sz="2800" spc="-1" strike="noStrike">
                <a:solidFill>
                  <a:srgbClr val="2166a5"/>
                </a:solidFill>
                <a:latin typeface="Tahoma"/>
              </a:rPr>
              <a:t>布罗代尔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3645000" cy="51055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41400" y="1676520"/>
            <a:ext cx="1033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66a5"/>
                </a:solidFill>
                <a:latin typeface="Tahoma"/>
              </a:rPr>
              <a:t>左图：舞王湿婆（青铜雕像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243000"/>
            <a:ext cx="762012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伊斯兰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-</a:t>
            </a:r>
            <a:r>
              <a:rPr b="1" lang="zh-CN" sz="4800" spc="-1" strike="noStrike">
                <a:solidFill>
                  <a:srgbClr val="2166a5"/>
                </a:solidFill>
                <a:latin typeface="黑体"/>
                <a:ea typeface="黑体"/>
              </a:rPr>
              <a:t>印度文明时代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4572000" cy="54100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2880" y="1219320"/>
            <a:ext cx="399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伊斯兰教文化的入侵，遭到印度教文化的顽强抗拒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次大陆的矛盾复杂化，社会发展受到阻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2166a5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经济上农工商并重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66a5"/>
                </a:solidFill>
                <a:latin typeface="Tahoma"/>
                <a:ea typeface="黑体"/>
              </a:rPr>
              <a:t>左图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166a5"/>
                </a:solidFill>
                <a:latin typeface="Tahoma"/>
                <a:ea typeface="黑体"/>
              </a:rPr>
              <a:t>莫卧儿帝国在印度的扩张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5280" y="11430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166a5"/>
                </a:solidFill>
                <a:latin typeface="Tahoma"/>
                <a:ea typeface="黑体"/>
              </a:rPr>
              <a:t>印度文明三大基本特征</a:t>
            </a:r>
            <a:r>
              <a:rPr b="1" lang="zh-CN" sz="3200" spc="-1" strike="noStrike">
                <a:solidFill>
                  <a:srgbClr val="2166a5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村社制度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种姓制度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印度教（</a:t>
            </a:r>
            <a:r>
              <a:rPr b="0" lang="en-US" sz="4800" spc="-1" strike="noStrike">
                <a:solidFill>
                  <a:srgbClr val="2166a5"/>
                </a:solidFill>
                <a:latin typeface="Arial"/>
                <a:ea typeface="楷体_GB2312"/>
              </a:rPr>
              <a:t>Hinduism</a:t>
            </a:r>
            <a:r>
              <a:rPr b="1" lang="en-US" sz="4800" spc="-1" strike="noStrike">
                <a:solidFill>
                  <a:srgbClr val="2166a5"/>
                </a:solidFill>
                <a:latin typeface="楷体_GB2312"/>
                <a:ea typeface="楷体_GB2312"/>
              </a:rPr>
              <a:t>）</a:t>
            </a:r>
            <a:endParaRPr b="0" lang="en-US" sz="4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77836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  <a:ea typeface="黑体"/>
              </a:rPr>
              <a:t>伊斯兰教的兴起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黑体"/>
              </a:rPr>
              <a:t>三个重要的社会特征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迎合的主要是当时半开化的沙漠游牧民贝杜因人的精神需要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具有一定的原始平等的色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808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相当重视商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290760" cy="4572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8537040" y="1600200"/>
            <a:ext cx="6069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ahoma"/>
              </a:rPr>
              <a:t>左图：麦地那</a:t>
            </a:r>
            <a:r>
              <a:rPr b="1" lang="zh-CN" sz="2800" spc="-1" strike="noStrike">
                <a:solidFill>
                  <a:srgbClr val="008080"/>
                </a:solidFill>
                <a:latin typeface="Tahoma"/>
                <a:ea typeface="_x000b__x000c_"/>
              </a:rPr>
              <a:t>印经局刊本《古兰经》扉页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378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ahoma"/>
                <a:ea typeface="黑体"/>
              </a:rPr>
              <a:t>阿拉伯帝国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5000" y="1447560"/>
            <a:ext cx="324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23232f"/>
                </a:solidFill>
                <a:latin typeface="Tahoma"/>
              </a:rPr>
              <a:t>它将阿拉伯世界由阿拉伯半岛扩展到整个西亚北非，并奠立了一个以中东地区为核心的广阔的区域文明－－伊斯兰文明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715000" cy="396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6095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3232f"/>
                </a:solidFill>
                <a:latin typeface="Tahoma"/>
              </a:rPr>
              <a:t>全盛时期的阿拉伯帝国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37e32"/>
                </a:solidFill>
                <a:latin typeface="Tahoma"/>
                <a:ea typeface="黑体"/>
              </a:rPr>
              <a:t>四大传统文明及其相互关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中华文明（儒家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印度文明（印度教佛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中东文明（伊斯兰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617b31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17b31"/>
                </a:solidFill>
                <a:latin typeface="Tahoma"/>
                <a:ea typeface="黑体"/>
              </a:rPr>
              <a:t>欧洲文明（基督教文化圈）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7160" y="50760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  <a:ea typeface="黑体"/>
              </a:rPr>
              <a:t>中东文明的特点</a:t>
            </a:r>
            <a:r>
              <a:rPr b="0" lang="zh-CN" sz="4400" spc="-1" strike="noStrike">
                <a:solidFill>
                  <a:srgbClr val="008080"/>
                </a:solidFill>
                <a:latin typeface="Tahoma"/>
              </a:rPr>
              <a:t>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特别注重对知识的追求，为保存古希腊罗马濒于灭绝的科学文化作出过重要贡献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但伊斯兰科学成就限于一种“量的积累”，对科学的探索不成系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00808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ahoma"/>
              </a:rPr>
              <a:t>扩张性极强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2096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42696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Tahoma"/>
              </a:rPr>
              <a:t>4. </a:t>
            </a:r>
            <a:r>
              <a:rPr b="0" lang="zh-CN" sz="6000" spc="-1" strike="noStrike">
                <a:solidFill>
                  <a:srgbClr val="660066"/>
                </a:solidFill>
                <a:latin typeface="Tahoma"/>
                <a:ea typeface="黑体"/>
              </a:rPr>
              <a:t>欧洲文明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年的欧洲文明，其本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质是西方的基督教文明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要想了解欧洲文明，就不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能不了解基督教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  <a:ea typeface="黑体"/>
              </a:rPr>
              <a:t>基督教的特点（一）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十分重视“理性”的作用，即使在中世纪最黑暗的年代基督教的理性精神也不曾完全泯灭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右图：圣奥古斯丁（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aint Augustine, 354-430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83080" y="1600200"/>
            <a:ext cx="3260880" cy="45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65988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ahoma"/>
                <a:ea typeface="黑体"/>
              </a:rPr>
              <a:t>基督教的特点（二）：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91320" y="182844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信奉“普济主义” —— 即以救赎全人类为己任，充斥着改变异端信仰的狂热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左图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十字军东征示意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5410080" cy="41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410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  <a:ea typeface="黑体"/>
              </a:rPr>
              <a:t>基督教文明也是非典型的农业文明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343040" y="1447560"/>
            <a:ext cx="4459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畜牧业在经济中占很大的比重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00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比较重视工商业，商人在社会生活中有较高的地位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左图：卖酒商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93760" y="1447920"/>
            <a:ext cx="3875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15840"/>
            <a:ext cx="42670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d531d"/>
                </a:solidFill>
                <a:latin typeface="黑体"/>
                <a:ea typeface="黑体"/>
              </a:rPr>
              <a:t>1.</a:t>
            </a:r>
            <a:r>
              <a:rPr b="1" lang="zh-CN" sz="6000" spc="-1" strike="noStrike">
                <a:solidFill>
                  <a:srgbClr val="ed531d"/>
                </a:solidFill>
                <a:latin typeface="黑体"/>
                <a:ea typeface="黑体"/>
              </a:rPr>
              <a:t>中华文明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3716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7775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ed531d"/>
                </a:solidFill>
                <a:latin typeface="Tahoma"/>
              </a:rPr>
              <a:t>虽非最古老的，却是最长命的，是上古时代人类文明的硕果仅存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左上：长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1d7775"/>
                </a:solidFill>
                <a:latin typeface="Tahoma"/>
              </a:rPr>
              <a:t>左下：丝绸之路上的驼队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9604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49604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25142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ahoma"/>
              </a:rPr>
              <a:t>中华文明何以有如此独特的延续性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ahoma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  <a:ea typeface="楷体_GB2312"/>
              </a:rPr>
              <a:t>斯塔夫里阿诺斯：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地理上与外界严重隔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由发达的农业导致的极其庞大的人口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以农为本的生活方式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统一的文字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科举制度及儒家学说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391520" y="261144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</a:rPr>
              <a:t>上图：清明上河图（局部）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d531d"/>
                </a:solidFill>
                <a:latin typeface="Tahoma"/>
                <a:ea typeface="黑体"/>
              </a:rPr>
              <a:t>农业发达</a:t>
            </a:r>
            <a:r>
              <a:rPr b="0" lang="zh-CN" sz="7200" spc="-1" strike="noStrike">
                <a:solidFill>
                  <a:srgbClr val="617b31"/>
                </a:solidFill>
                <a:latin typeface="Tahoma"/>
                <a:ea typeface="黑体"/>
              </a:rPr>
              <a:t> </a:t>
            </a:r>
            <a:r>
              <a:rPr b="0" lang="zh-CN" sz="4000" spc="-1" strike="noStrike">
                <a:solidFill>
                  <a:srgbClr val="333333"/>
                </a:solidFill>
                <a:latin typeface="Tahoma"/>
                <a:ea typeface="黑体"/>
              </a:rPr>
              <a:t>是最关键的因素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800240" y="13712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中国农业何以发达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斯氏的解释是：中国土壤和气候条件的结合特别有利于农作物生长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          ——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此说不实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汤因比的“挑战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-</a:t>
            </a:r>
            <a:r>
              <a:rPr b="1" lang="zh-CN" sz="3200" spc="-1" strike="noStrike">
                <a:solidFill>
                  <a:srgbClr val="333333"/>
                </a:solidFill>
                <a:latin typeface="Tahoma"/>
              </a:rPr>
              <a:t>应战”理论：并不优越的自然条件促使了中国人的才智和潜能的充分发挥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4496040" cy="3200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533412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上图：牛耕砖画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ahoma"/>
              </a:rPr>
              <a:t>（甘肃嘉峪关出土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12400"/>
            <a:ext cx="9144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531d"/>
                </a:solidFill>
                <a:latin typeface="Tahoma"/>
              </a:rPr>
              <a:t>中华文明是一种经典形态的农业文明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62360" y="1980720"/>
            <a:ext cx="2895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ahoma"/>
              </a:rPr>
              <a:t>中国农业</a:t>
            </a:r>
            <a:r>
              <a:rPr b="1" lang="zh-CN" sz="4000" spc="-1" strike="noStrike">
                <a:solidFill>
                  <a:srgbClr val="000066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集约而纯粹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</a:rPr>
              <a:t>自给自足的封闭性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800600" cy="331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28600" y="51814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上图：同庆丰年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（清末 天津杨柳青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重农”对中华文明产生的影响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4120" y="1752120"/>
            <a:ext cx="3620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使中国长期维持一种大一统的专制政治结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以农为本，重本轻末，工商业的发展受到抑制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严重抑制了技术的进步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5029200" cy="3396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5486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上图：福寿康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（清末 天津杨柳青）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569880"/>
            <a:ext cx="863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d531d"/>
                </a:solidFill>
                <a:latin typeface="Tahoma"/>
                <a:ea typeface="黑体"/>
              </a:rPr>
              <a:t>儒学</a:t>
            </a:r>
            <a:r>
              <a:rPr b="1" lang="zh-CN" sz="5400" spc="-1" strike="noStrike">
                <a:solidFill>
                  <a:srgbClr val="65451b"/>
                </a:solidFill>
                <a:latin typeface="Tahoma"/>
                <a:ea typeface="黑体"/>
              </a:rPr>
              <a:t>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81280" y="2361960"/>
            <a:ext cx="472464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5451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注重此岸的世俗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幸福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65451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家国相通的伦理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5451b"/>
                </a:solidFill>
                <a:latin typeface="黑体"/>
                <a:ea typeface="黑体"/>
              </a:rPr>
              <a:t>政治观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593800" cy="45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7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ahoma"/>
                <a:ea typeface="黑体"/>
              </a:rPr>
              <a:t>中华文明的巨大贡献：四大发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486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图示：指南针、造纸术、印刷术、火药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四大文明 关系格局</cp:keywords>
  <dc:language>en-US</dc:language>
  <cp:lastModifiedBy/>
  <cp:revision>0</cp:revision>
  <dc:subject/>
  <dc:title/>
</cp:coreProperties>
</file>