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CAD-8E0E-4A67-B211-CD9C66EE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D8E-A17C-49AF-8A60-B9879398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D4F-644F-43B1-9E22-25E1CD2E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4C1-194D-4BA6-B915-F31B1C83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560D-001A-471E-B203-2672E094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21B2-D9F4-4C40-B5A2-4BBBAAE9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BFDF-567B-46FC-A28E-24D02695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6847-7D58-4169-96AC-4EA9D4F8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6202-4B35-4DA3-BD6C-EED607F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E874-5C07-4650-8204-BC0C4EE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80F0-1343-4496-B55F-8010518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3AC-DBE3-408F-9675-E9E22CC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994-158C-4C0A-B19A-0FEF4484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1048-BD5C-48D6-BF07-9F8B7165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482-0E4A-486F-996D-F3068E4D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C67-0D41-4FF4-B0FF-D8245A56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A850-EBEB-4816-940C-3888A93B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268-F6BE-443A-960B-E0BA6A5B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3EE-2127-40C9-B58E-4D1AB86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24E-7776-4478-BD75-0720E9F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709-07AC-4531-8EC9-CCBC011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57E-DB16-4B17-903D-EE0D664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2E7-0363-4A6A-8928-C180C94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603-FA4A-4B10-BDBE-E568E64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A6CE-2500-43A6-9787-2CD1EAB832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233-B2A1-416A-BCFA-A9BB6DED2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A1A0-4902-4B8F-A256-836AE16330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519-CBF4-47CD-B63F-DDCAC36ABC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" y="1414440"/>
            <a:ext cx="9096120" cy="4030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560" y="6505560"/>
            <a:ext cx="4601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35000" y="6660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圣诞节派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1377-2B37-4F78-8B60-12F42910C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6:12Z</dcterms:modified>
  <cp:revision>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