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6185-95DB-4118-AFAE-FFD3D81F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31F-F86B-4EDD-B0BB-03F53EE0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A6F-3ADE-41C0-81CF-C48ED4C9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2BC-FE20-4B0E-9C52-A24B199D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7AAB-D376-4E16-B5AC-1DFB76A6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AC7F-2DFA-44DC-B8E0-26A7F260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DCDA2-73AC-4741-976E-A441F93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32A5-7B72-4958-94E3-7C02D0C5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50C1-5AC2-43FA-9E67-F1A97B2B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9F3B-0D51-4093-82BA-BE47F12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28FA-9660-471F-AFC1-E1E80715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680-81A7-46BD-8BCD-A5284120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B409-BE50-44D1-A178-92CFC80E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8414-B306-4ECE-BF6B-097ECA4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F16A-D49F-4773-9EC6-DCB452AC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46DC-8D8E-4E90-A439-55C4237C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A11B-611E-4C3C-9A09-545C07DF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6736-6E90-4492-BAE3-1E78372E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8AE4-7613-4A30-94A3-F0C3C4F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0BC-5DA1-4D54-97E2-05EF0A39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893-6452-4671-A3A4-78AD2A3CD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B47-B86B-466A-A2C5-50B6CFD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3FBF-BE5E-4BDF-8D5F-7462371F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A889-47D3-429A-9108-5F3C8953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96F3-8C57-46AB-9516-31925CDA9706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708F-4348-465E-985B-4F0CD0904B2D}" type="slidenum">
              <a:rPr b="0" lang="zh-CN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../../../download/&#38451;&#20851;&#19977;&#21472;.mp3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../../../download/yll.ex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../../../download/yll.ex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../download/&#38451;&#20851;&#19977;&#21472;.mp3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50840" y="383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08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60840" y="1295280"/>
            <a:ext cx="164376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ae4828"/>
                </a:solidFill>
                <a:uFillTx/>
                <a:latin typeface="Times New Roman"/>
                <a:ea typeface="华文彩云"/>
                <a:hlinkClick r:id="rId2"/>
              </a:rPr>
              <a:t>阳关三叠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诗歌鉴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4600" y="2743200"/>
            <a:ext cx="1113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  <a:ea typeface="方正舒体"/>
              </a:rPr>
              <a:t>《送元二使安西》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91640" y="44197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方正舒体"/>
              </a:rPr>
              <a:t>王维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733920" y="838080"/>
            <a:ext cx="2743200" cy="838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6685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舒体"/>
              </a:rPr>
              <a:t>伤离别</a:t>
            </a:r>
            <a:endParaRPr b="1" lang="en-US" sz="2400" spc="1" strike="noStrike">
              <a:ln w="2232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方正舒体"/>
              <a:ea typeface="方正舒体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1828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76520" y="2514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写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1905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实写（所见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1240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虚写（所想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51055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话情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39625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离别前（心理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0400" y="5867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离别后（心理）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2819520"/>
            <a:ext cx="381240" cy="2590560"/>
          </a:xfrm>
          <a:custGeom>
            <a:avLst/>
            <a:gdLst>
              <a:gd name="textAreaLeft" fmla="*/ 243720 w 381240"/>
              <a:gd name="textAreaRight" fmla="*/ 381600 w 38124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2209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5480" y="4343400"/>
            <a:ext cx="152640" cy="1981080"/>
          </a:xfrm>
          <a:custGeom>
            <a:avLst/>
            <a:gdLst>
              <a:gd name="textAreaLeft" fmla="*/ 97560 w 152640"/>
              <a:gd name="textAreaRight" fmla="*/ 153000 w 1526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欣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49120" y="4876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离别时（情态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2209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2209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98160" y="2133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景中含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处处是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4191120"/>
            <a:ext cx="76320" cy="1066680"/>
          </a:xfrm>
          <a:custGeom>
            <a:avLst/>
            <a:gdLst>
              <a:gd name="textAreaLeft" fmla="*/ 0 w 76320"/>
              <a:gd name="textAreaRight" fmla="*/ 27360 w 763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648840" y="42069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依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不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88360" y="5410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痛苦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Arial"/>
              </a:rPr>
              <a:t>思念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4495680"/>
            <a:ext cx="228600" cy="1905120"/>
          </a:xfrm>
          <a:custGeom>
            <a:avLst/>
            <a:gdLst>
              <a:gd name="textAreaLeft" fmla="*/ 0 w 228600"/>
              <a:gd name="textAreaRight" fmla="*/ 82440 w 22860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66360" y="4092840"/>
            <a:ext cx="127764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情景交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7311b"/>
                </a:solidFill>
                <a:latin typeface="Arial"/>
              </a:rPr>
              <a:t>字字是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94520" y="1143000"/>
            <a:ext cx="292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执手相看泪眼，竟无语凝噎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124080" y="2438280"/>
            <a:ext cx="3505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谢谢光临！</a:t>
            </a:r>
            <a:endParaRPr b="1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71800" y="5335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方正舒体"/>
              </a:rPr>
              <a:t>离别相思最苦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16002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浮云游子意，落日故人情。挥手自兹去，萧萧班马鸣</a:t>
            </a: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李白《送友人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9718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297180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剪不断，理还乱，是离愁。别是一般滋味在心头。</a:t>
            </a: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李煜《相见欢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离恨恰如春草，更行更远还生。    </a:t>
            </a:r>
            <a:r>
              <a:rPr b="0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李煜《清平乐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410080"/>
            <a:ext cx="7924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、蜡烛有心还惜别，替人垂泪到天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华文行楷"/>
                <a:ea typeface="华文行楷"/>
              </a:rPr>
              <a:t>                               </a:t>
            </a:r>
            <a:r>
              <a:rPr b="1" lang="zh-CN" sz="3600" spc="-1" strike="noStrike">
                <a:solidFill>
                  <a:srgbClr val="0033cc"/>
                </a:solidFill>
                <a:latin typeface="华文行楷"/>
                <a:ea typeface="华文行楷"/>
              </a:rPr>
              <a:t>（杜牧《赠别二首》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75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75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75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75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533520"/>
            <a:ext cx="74678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333333"/>
                </a:solidFill>
                <a:latin typeface="宋体"/>
              </a:rPr>
              <a:t>  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柳永：是</a:t>
            </a:r>
            <a:r>
              <a:rPr b="1" lang="zh-CN" sz="3600" spc="-1" strike="noStrike" u="sng">
                <a:solidFill>
                  <a:srgbClr val="333333"/>
                </a:solidFill>
                <a:uFillTx/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词人，字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耆卿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原名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三变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因排名第七，又曾做过屯田员外郎，世称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柳七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柳屯田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，满腹才华，但仕途坎坷，终身潦倒失意，因此流连坊曲写下了大量受普通市民喜欢的词作。他的词流传很广：“凡有井水饮处，即能歌柳词”。其中以写</a:t>
            </a:r>
            <a:r>
              <a:rPr b="1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羁旅行役、离情别绪</a:t>
            </a: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最为出色，感情纯真、大胆，善于运用铺叙的手法、通俗的语言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华文新魏"/>
                <a:ea typeface="华文新魏"/>
              </a:rPr>
              <a:t> 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5943600"/>
            <a:ext cx="990360" cy="609480"/>
          </a:xfrm>
          <a:custGeom>
            <a:avLst/>
            <a:gdLst>
              <a:gd name="textAreaLeft" fmla="*/ 39240 w 990360"/>
              <a:gd name="textAreaRight" fmla="*/ 951120 w 9903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3691" y="1400"/>
                </a:lnTo>
                <a:lnTo>
                  <a:pt x="1400" y="140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3691" y="20200"/>
                </a:lnTo>
                <a:lnTo>
                  <a:pt x="33691" y="140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91" y="202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欣赏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232480" y="609480"/>
            <a:ext cx="9115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折柳相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66360" y="3886200"/>
            <a:ext cx="1277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990099"/>
                </a:solidFill>
                <a:latin typeface="Arial"/>
              </a:rPr>
              <a:t>柳”即“留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7760" y="685800"/>
            <a:ext cx="3570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昔我往矣，杨柳依依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今我来思，雨雪霏霏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行道迟迟，载渴载饥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隶书"/>
              </a:rPr>
              <a:t>我心伤悲，莫知我哀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01840" y="609480"/>
            <a:ext cx="32324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水边杨柳曲成丝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立马烦君折一枝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唯有春风最相惜，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殷勤更向水中吹。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171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75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75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66880" y="1676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别时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762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寒蝉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16002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长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2438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骤雨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4648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别后景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429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烟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403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暮霭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4724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杨柳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9200" y="53341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晓风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9200" y="5943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残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0520" y="1371600"/>
            <a:ext cx="1399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一 切 景 语 皆 情 语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1143000"/>
            <a:ext cx="380880" cy="4876920"/>
          </a:xfrm>
          <a:custGeom>
            <a:avLst/>
            <a:gdLst>
              <a:gd name="textAreaLeft" fmla="*/ 0 w 380880"/>
              <a:gd name="textAreaRight" fmla="*/ 137520 w 38088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438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实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虚写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6000" y="1219320"/>
            <a:ext cx="1399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隶书"/>
              </a:rPr>
              <a:t>景中含情   处处是情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066680"/>
            <a:ext cx="152280" cy="1905120"/>
          </a:xfrm>
          <a:custGeom>
            <a:avLst/>
            <a:gdLst>
              <a:gd name="textAreaLeft" fmla="*/ 97200 w 152280"/>
              <a:gd name="textAreaRight" fmla="*/ 15264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3733920"/>
            <a:ext cx="152280" cy="2590560"/>
          </a:xfrm>
          <a:custGeom>
            <a:avLst/>
            <a:gdLst>
              <a:gd name="textAreaLeft" fmla="*/ 97200 w 152280"/>
              <a:gd name="textAreaRight" fmla="*/ 152640 w 15228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75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413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55120" y="304920"/>
            <a:ext cx="117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意象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0760" y="84924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融入主观情意的客观物象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2080" y="19051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是构成诗歌意境的细小单位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58120" y="2754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砖石）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45840" y="3276720"/>
            <a:ext cx="12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意境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: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3920" y="4038480"/>
            <a:ext cx="420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诗人主观情意和客观事物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1000" y="502920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互相交融而形成的艺术境界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45120" y="5791320"/>
            <a:ext cx="160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建筑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59436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4f3d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音乐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32760" y="838080"/>
            <a:ext cx="1826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33"/>
                </a:solidFill>
                <a:latin typeface="Arial"/>
              </a:rPr>
              <a:t>天若有情天亦老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6640" y="838080"/>
            <a:ext cx="29235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执手相看泪眼，竟无语凝噎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85080" y="1219320"/>
            <a:ext cx="1277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执子之手，与子偕老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71960" y="1219320"/>
            <a:ext cx="733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6120" y="37980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此时无声胜有声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53040" y="194040"/>
            <a:ext cx="911520" cy="59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</a:rPr>
              <a:t>相见时难别亦难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75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09080" y="990720"/>
            <a:ext cx="2355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  <a:ea typeface="隶书"/>
              </a:rPr>
              <a:t>虚写离别后的痛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"/>
                <a:ea typeface="华文行楷"/>
              </a:rPr>
              <a:t>                   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69920" y="685800"/>
            <a:ext cx="275472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e4828"/>
                </a:solidFill>
                <a:latin typeface="方正舒体"/>
                <a:ea typeface="方正舒体"/>
              </a:rPr>
              <a:t>多情自古伤离别，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e4828"/>
                </a:solidFill>
                <a:latin typeface="方正舒体"/>
                <a:ea typeface="方正舒体"/>
              </a:rPr>
              <a:t>     </a:t>
            </a:r>
            <a:r>
              <a:rPr b="1" lang="zh-CN" sz="4800" spc="-1" strike="noStrike">
                <a:solidFill>
                  <a:srgbClr val="ae4828"/>
                </a:solidFill>
                <a:latin typeface="方正舒体"/>
                <a:ea typeface="方正舒体"/>
              </a:rPr>
              <a:t>更哪堪冷落清秋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0" y="457200"/>
            <a:ext cx="52498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方正舒体"/>
                <a:ea typeface="方正舒体"/>
              </a:rPr>
              <a:t>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此去经年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    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应是良辰好景虚设。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         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便纵有千种风情，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                   </a:t>
            </a:r>
            <a:r>
              <a:rPr b="1" lang="zh-CN" sz="4400" spc="-1" strike="noStrike">
                <a:solidFill>
                  <a:srgbClr val="5b2615"/>
                </a:solidFill>
                <a:latin typeface="方正舒体"/>
                <a:ea typeface="方正舒体"/>
              </a:rPr>
              <a:t>更于何人说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cc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600200" y="2438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</a:rPr>
              <a:t>话情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13716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离别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22860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离别时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3276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</a:rPr>
              <a:t>离别后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1371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（心理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（情态）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327672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（心理）－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7960" y="1371600"/>
            <a:ext cx="1277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细黑"/>
              </a:rPr>
              <a:t>依舍依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66360" y="2895480"/>
            <a:ext cx="127764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细黑"/>
              </a:rPr>
              <a:t>苦念痛思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152388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752480"/>
            <a:ext cx="533520" cy="190512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47242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方正舒体"/>
              </a:rPr>
              <a:t> </a:t>
            </a: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情景交融</a:t>
            </a: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,</a:t>
            </a:r>
            <a:r>
              <a:rPr b="1" lang="zh-CN" sz="6000" spc="-1" strike="noStrike">
                <a:solidFill>
                  <a:srgbClr val="7a321c"/>
                </a:solidFill>
                <a:latin typeface="Arial"/>
                <a:ea typeface="方正舒体"/>
              </a:rPr>
              <a:t>字字是情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808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2615"/>
                </a:solidFill>
                <a:latin typeface="Arial"/>
                <a:ea typeface="隶书"/>
              </a:rPr>
              <a:t>伤 离 别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75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诗歌 鉴赏</cp:keywords>
  <dc:language>en-US</dc:language>
  <cp:lastModifiedBy/>
  <cp:revision>0</cp:revision>
  <dc:subject/>
  <dc:title/>
</cp:coreProperties>
</file>