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FBA-52D3-4407-ABC9-04FDBE6B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C4B-9718-4382-BB92-19CD5C48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3BF-73A6-4D4B-AEFB-64EC292D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57D-BE1F-43C7-8EF6-D3D8E774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6F2-ED67-4CB8-B43E-921F4242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AF1-B1F3-4B6B-8E28-31B6C569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22B-FA06-4349-9CAB-F3F427D5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449F-5970-4EAC-A17D-F3DF6E3A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FEF-EAA3-4DF9-8760-EB5A138F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7B6-C99B-4457-BB60-435D2444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9BC-D12D-4EBC-8446-FD52981A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3D9-35E6-4E44-9FE8-267FE47F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D1C2-0BFD-495A-8FE4-D46DB8B006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24050;&#24405;&#19979;&#30340;&#22768;&#38899;" TargetMode="External"/><Relationship Id="rId2" Type="http://schemas.microsoft.com/office/2007/relationships/media" Target="file:///tmp/home/.config/libreoffice/4/user/gallery/&#24050;&#24405;&#19979;&#30340;&#22768;&#38899;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&#24050;&#24405;&#19979;&#30340;&#22768;&#38899;" TargetMode="External"/><Relationship Id="rId2" Type="http://schemas.microsoft.com/office/2007/relationships/media" Target="file:///tmp/home/.config/libreoffice/4/user/gallery/&#24050;&#24405;&#19979;&#30340;&#22768;&#38899;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"/>
            <a:ext cx="8229600" cy="59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生活中的</a:t>
            </a:r>
            <a:r>
              <a:rPr b="1" lang="zh-CN" sz="5400" spc="-1" strike="noStrike">
                <a:solidFill>
                  <a:srgbClr val="cc3300"/>
                </a:solidFill>
                <a:latin typeface="Times New Roman"/>
              </a:rPr>
              <a:t>平均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实践活动课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执教人：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XX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单位：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县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XXX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小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2280" y="968400"/>
          <a:ext cx="8991720" cy="4924440"/>
        </p:xfrm>
        <a:graphic>
          <a:graphicData uri="http://schemas.openxmlformats.org/drawingml/2006/table">
            <a:tbl>
              <a:tblPr/>
              <a:tblGrid>
                <a:gridCol w="1981440"/>
                <a:gridCol w="685800"/>
                <a:gridCol w="685800"/>
                <a:gridCol w="761760"/>
                <a:gridCol w="762120"/>
                <a:gridCol w="685800"/>
                <a:gridCol w="685800"/>
                <a:gridCol w="685800"/>
                <a:gridCol w="762120"/>
                <a:gridCol w="1295280"/>
              </a:tblGrid>
              <a:tr h="14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评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幼儿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-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小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838080" y="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各单位文艺比赛评分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5943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注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---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表示评委没参与打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01000" y="36576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01000" y="22860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01000" y="441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29718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5029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990720"/>
            <a:ext cx="190512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0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52280" y="1028880"/>
          <a:ext cx="8636040" cy="4746600"/>
        </p:xfrm>
        <a:graphic>
          <a:graphicData uri="http://schemas.openxmlformats.org/drawingml/2006/table">
            <a:tbl>
              <a:tblPr/>
              <a:tblGrid>
                <a:gridCol w="1371600"/>
                <a:gridCol w="1143000"/>
                <a:gridCol w="1244880"/>
                <a:gridCol w="1371600"/>
                <a:gridCol w="1371600"/>
                <a:gridCol w="2133360"/>
              </a:tblGrid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90520" indent="-1190520">
                        <a:spcBef>
                          <a:spcPts val="15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               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平均分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甲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乙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4.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6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丙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0 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2819520" y="0"/>
            <a:ext cx="331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学平时成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066680"/>
            <a:ext cx="129528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1295280"/>
          <a:ext cx="9067680" cy="4954680"/>
        </p:xfrm>
        <a:graphic>
          <a:graphicData uri="http://schemas.openxmlformats.org/drawingml/2006/table">
            <a:tbl>
              <a:tblPr/>
              <a:tblGrid>
                <a:gridCol w="2361960"/>
                <a:gridCol w="1295640"/>
                <a:gridCol w="1295280"/>
                <a:gridCol w="1295280"/>
                <a:gridCol w="1371600"/>
                <a:gridCol w="1447920"/>
              </a:tblGrid>
              <a:tr h="17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份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月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均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电费                   （ 元）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.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.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.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.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费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元）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.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.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8077320" y="32767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01000" y="3276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4952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8088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明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年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---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月份水电费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162920" y="457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0" y="-14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762120"/>
            <a:ext cx="85341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招聘广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小头公司现有员工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人，人均年收入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27000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元。现招一名精通电脑的大学毕业生。有意者请光临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大头公司现有员工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人，人均年收入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20000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</a:rPr>
              <a:t>元。现招一名精通电脑的大学毕业生。有意者请光临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44928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头公司                        大头公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总经理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0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            负责人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0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副经理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            职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  21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职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   15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             职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   20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职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   15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             职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   19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职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   5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人均年收入：                    人均年收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70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元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00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生活 平均数</cp:keywords>
  <dc:language>en-US</dc:language>
  <cp:lastModifiedBy/>
  <cp:revision>0</cp:revision>
  <dc:subject/>
  <dc:title/>
</cp:coreProperties>
</file>