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19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809-F4B6-4E13-A5C7-C9124B38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D28-F062-49EE-B88E-3F8F9904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4CD-A0EC-4E10-A753-BD7C8082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AB4-9E57-409B-955A-71D5B3C1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1AB-4BD0-4DA1-A433-09CD1ACE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DCE0-6B9B-40A6-B504-E56A7D98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1C9D-E390-4412-B983-61A8555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6FC3-2754-4D94-9958-DD96568B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CE67-A76D-4493-A567-282D9188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A822-4327-47DC-A949-4F717E7A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68C9-A90B-4D88-8C16-C4B2B1AC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9C5-F03F-4974-8E87-EC7E313B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9CBA-CA53-4FD6-B146-796CE2B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8342-510A-4B93-8510-CE75D902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5280-B80B-49E7-A221-55084424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2BCA-841B-44E5-9D83-59B1D76B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35BF-36AB-4AC5-94C7-FE21B94F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23E-7A82-4436-A2B2-BF9B59A0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315-0E54-47E1-A184-4B6B3C52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014-DC22-4A56-A036-2D45B7E6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45F-9A5B-4910-9B52-A461DE4B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2AE-3220-4969-A26C-D4D0FA21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8BB-342C-4626-A27E-0E0111FB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CF3-7974-4F91-8976-B3CF66F3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9114-3653-4267-8092-CB6AF662FC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064D-3BCA-4449-A34A-16E19D48D1C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社会主义市场经济理论与现代企业制度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68600" y="200016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兼并的目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获得对方的技术优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扩大企业规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市场占有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入新领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实现管理者的其他目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05320" y="5334120"/>
            <a:ext cx="504720" cy="914400"/>
          </a:xfrm>
          <a:custGeom>
            <a:avLst/>
            <a:gdLst>
              <a:gd name="textAreaLeft" fmla="*/ 67320 w 504720"/>
              <a:gd name="textAreaRight" fmla="*/ 437400 w 5047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社会主义市场经济的基本体制框架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代企业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开放竞争有序的市场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按劳分配为主与按要素分配相结合的个人收入分配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多层次的社会保障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间接调控为主的宏观调控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社会主义市场体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商品市场：消费品市场，生产资料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金融市场：资金市场，资本市场，黄金市场，      外汇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劳动力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技术信息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房地产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2286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按劳分配为主多种分配并存的个人收入分配方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按劳分配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直接劳动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资金资产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经营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技术信息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投机收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多层次的社会保障制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会保险：养老保险，医疗保险，失业保险，公积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会救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会福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会优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3581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间接为主的宏观调控体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调控手段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经济手段：运用经济政策和经济杠杆调节控制经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经济杠杆主要包括：存款准备金率，再贴现率，公开市场业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经济政策主要包括：财政政策，货币政策，收入政策，消费政策，产业政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法律手段：国家通过经济立法规范市场主体的行为，调整经济关系。包括立法与司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行政手段：行政机构用强制性指令方式管理经济，国家在必要时运用行政手段进行直接调控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86400" y="449568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43000" y="5410080"/>
            <a:ext cx="609480" cy="990720"/>
          </a:xfrm>
          <a:custGeom>
            <a:avLst/>
            <a:gdLst>
              <a:gd name="textAreaLeft" fmla="*/ 81360 w 609480"/>
              <a:gd name="textAreaRight" fmla="*/ 528120 w 60948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政府职能与宏观调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政府职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资产所有者：资产管理，保值增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社会管理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教育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基础设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维持秩序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发展战略：可持续发展战略，科教兴国战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宏观调控者：调节控制宏观经济运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宏观调控的根本目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公平与效率的统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公平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收入平等——基尼系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机会平等—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表现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公平竞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受教育的机会平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产资料利用的机会平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03880" y="2590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宏观调控具体目标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   充分就业：有工作能力并愿意工作的人都找到了工作。   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周期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季节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结构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摩擦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充分就业是指只存在结构性失业和摩擦性失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经济持续均衡增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稳定物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四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平衡国际收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2438280"/>
            <a:ext cx="457200" cy="1524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892600"/>
            <a:ext cx="1067040" cy="45720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失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5643720"/>
            <a:ext cx="657360" cy="985680"/>
          </a:xfrm>
          <a:custGeom>
            <a:avLst/>
            <a:gdLst>
              <a:gd name="textAreaLeft" fmla="*/ 87840 w 657360"/>
              <a:gd name="textAreaRight" fmla="*/ 569520 w 65736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讲市场经济与政府职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经济的一般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66ff"/>
                </a:solidFill>
                <a:uFillTx/>
                <a:latin typeface="Times New Roman"/>
              </a:rPr>
              <a:t>社会主义市场经济体制的基本框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66ff"/>
                </a:solidFill>
                <a:uFillTx/>
                <a:latin typeface="Times New Roman"/>
              </a:rPr>
              <a:t>政府职能与宏观调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66ff"/>
                </a:solidFill>
                <a:uFillTx/>
                <a:latin typeface="Times New Roman"/>
              </a:rPr>
              <a:t>政企分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172692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政企分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取消企业行政级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离企业办社会的职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实行股份制改造，实现产权多元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15000" y="4343400"/>
            <a:ext cx="25146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二讲现代企业制度的主要内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明确界定的所有者和经营者的委托代理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有限财产责任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三法人财产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四法人治理结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五科学管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6733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明确界定的委托代理关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关键是建立激励约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建立激励约束机制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激励约束形式的探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年薪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股票期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2949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有限财产责任制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投资者：责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以出资额为限负有限责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权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选择管理者，决策，剩余                         索取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企业：责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以法人财产为限的有限责任，资产保值增值，依法纳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权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企业资产的日常经营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        法人财产制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5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企业财产掌握在企业法人手中，而非投资者自然人手中。投资者无权干预企业的生产，经营活动，企业有完全的权力不受干预地行使资产占有，支配，使用与经营收益的权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14600" y="4114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五    法人治理结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股东（大）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董事会                              监事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经理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完善法人治理结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尽可能通过市场选聘经营人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处理好新三会与老三会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健全董事会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24280" y="3322800"/>
            <a:ext cx="37641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五    科学管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抓方向，抓机遇，搞好企业发展战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建立重大决策的责任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完善资金管理与财务会计报表管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2895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会计信息失真的形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会计信息失真，即会计凭证失真。主要表现为不合法，不合理，不完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会计帐簿失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信息源失真引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抽单不入帐，设小金库。假帐真做，真帐假做，或真帐不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会计报表失真：虚设利润；挤占成本，凭空编造；帐外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解决措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加强立法与执法力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抓会计职业道德教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加强监督检查力度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建立会计职业联盟，优化会计队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实行会计委派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市场经济的一般原理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资源配置的含义，原因，目标与要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资源配置的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机制及其运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48769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资源配置的涵义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各种资源在不同使用方向之间的分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2692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资源配置的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3581280" cy="2133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的需要的多样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资源的稀缺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资源配置的目标与要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按比例：能满足人类多方面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效率：能使有限资源得到最大限度的       利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38480" y="4114800"/>
            <a:ext cx="3391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资源配置的方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计划配置：由政府通过行政指令，经济政策等手段配置资源的一种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市场配置：通过市场机制的作用配置资源的一种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市场机制及其运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价格机制：价格的形成是由商品和货币背后的市场主体—生产者和消费者共同决定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供求机制：价格下降，生产减少；价格上涨，生产增加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竞争机制：手段有价格竞争与非价格竞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非价格竞争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质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品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服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广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兼并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社会主义 市场经济 现代企业 制度</cp:keywords>
  <dc:language>en-US</dc:language>
  <cp:lastModifiedBy/>
  <cp:revision>0</cp:revision>
  <dc:subject/>
  <dc:title/>
</cp:coreProperties>
</file>