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6.png" ContentType="image/png"/>
  <Override PartName="/ppt/media/image22.jpeg" ContentType="image/jpeg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WHOOSH.WAV" ContentType="audio/x-wav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TYPE.WAV" ContentType="audio/x-wav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1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media/image37.wmf" ContentType="image/x-wmf"/>
  <Override PartName="/ppt/media/image7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102960"/>
            <a:ext cx="5270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960880" y="102960"/>
            <a:ext cx="89676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14480" y="723600"/>
            <a:ext cx="48290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k BT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6144840"/>
            <a:ext cx="247032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83040"/>
            <a:ext cx="6764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495840" y="9383040"/>
            <a:ext cx="36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01FA-1D3F-44F5-A9E1-CAC26C170045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895480" y="237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14480" y="723960"/>
            <a:ext cx="4829040" cy="3622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6529320"/>
            <a:ext cx="140328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378160" y="5599080"/>
          <a:ext cx="915840" cy="9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5599080"/>
                    <a:ext cx="9158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14480" y="723960"/>
            <a:ext cx="4829040" cy="3622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6529320"/>
            <a:ext cx="140328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5F7-28B0-4FFA-9BDD-BE21A585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116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044-6C82-44C0-BE10-2C57793F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250-82E5-4636-AC87-D400936F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116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116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116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40F-F50F-4907-BAE9-7E9C7F86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674-2171-4BD2-8EE6-8C2AF1FF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4D5-8917-4882-9DB7-F7602468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B1A-7865-4A8A-9792-B050FE50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7CF-D853-4EED-B75C-690D993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FD2-64A5-4636-AAF1-5DD9A104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854-6A5E-42D5-81B4-5C015C9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9C9-87FA-4452-89AE-4DC7D9B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116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FA8-B6A6-4A0E-BB8F-47FCE06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k BT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Eras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Eras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Eras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Eras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560" y="60199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B301-FCA9-4B98-BAB2-B361774AE4F5}" type="slidenum">
              <a: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9880" y="652140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A0C756-47D6-4B8F-B539-1BEB8E2959DA}" type="slidenum">
              <a:rPr b="0" i="1" lang="zh-CN" sz="16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39116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04960" y="5790960"/>
            <a:ext cx="2361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66076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533520"/>
            <a:ext cx="3504960" cy="5465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57200"/>
            <a:ext cx="3657600" cy="5465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163224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2600" y="60912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喜欢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3680" y="1142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熟悉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600" y="16761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容易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4280" y="228564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花费时间少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4280" y="281916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已排定时间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2040" y="335232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资料齐全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9760" y="38858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经过筹划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7720" y="44193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别人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3680" y="4952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有趣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320" y="54097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紧急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1760" y="60912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不喜欢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23200" y="114264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不熟悉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23200" y="16761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难做的是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8560" y="220932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花费时间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1200" y="274284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未排定时间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68560" y="335232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资料不齐全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84040" y="38858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未经筹划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320" y="44193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自己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320" y="4952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枯燥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9160" y="540972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不紧急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95680" y="4114800"/>
            <a:ext cx="2286000" cy="212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114800"/>
            <a:ext cx="2286000" cy="2128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057400"/>
            <a:ext cx="2286000" cy="212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057400"/>
            <a:ext cx="2286000" cy="2128320"/>
          </a:xfrm>
          <a:prstGeom prst="rect">
            <a:avLst/>
          </a:prstGeom>
          <a:gradFill rotWithShape="0">
            <a:gsLst>
              <a:gs pos="0">
                <a:srgbClr val="c2d50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37f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1981080"/>
            <a:ext cx="2209680" cy="1219320"/>
          </a:xfrm>
          <a:prstGeom prst="wedgeRoundRectCallout">
            <a:avLst>
              <a:gd name="adj1" fmla="val -66236"/>
              <a:gd name="adj2" fmla="val 83856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819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重要，非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6248520"/>
            <a:ext cx="548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819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重要，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278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非重要，非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非重要，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213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尽量避免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4191120"/>
            <a:ext cx="2209680" cy="1218960"/>
          </a:xfrm>
          <a:prstGeom prst="wedgeRoundRectCallout">
            <a:avLst>
              <a:gd name="adj1" fmla="val -66236"/>
              <a:gd name="adj2" fmla="val 83856"/>
              <a:gd name="adj3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67080"/>
            <a:ext cx="1981080" cy="1143000"/>
          </a:xfrm>
          <a:prstGeom prst="wedgeRoundRectCallout">
            <a:avLst>
              <a:gd name="adj1" fmla="val 71953"/>
              <a:gd name="adj2" fmla="val 7666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133720"/>
            <a:ext cx="1981080" cy="1143000"/>
          </a:xfrm>
          <a:prstGeom prst="wedgeRoundRectCallout">
            <a:avLst>
              <a:gd name="adj1" fmla="val 71953"/>
              <a:gd name="adj2" fmla="val 76666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419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尽量减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投资时间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343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尽量避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09680" y="144756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优先矩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5364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6" name=""/>
          <p:cNvSpPr/>
          <p:nvPr/>
        </p:nvSpPr>
        <p:spPr>
          <a:xfrm>
            <a:off x="3581280" y="4037400"/>
            <a:ext cx="472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任何特定的群体中，重要的因子通常只占少数，而不重要的因子则占多数，因此只要能控制具有重要性的少数因子即能控制全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80880"/>
            <a:ext cx="6324480" cy="20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cc00"/>
                </a:solidFill>
                <a:uFillTx/>
                <a:latin typeface="Times New Roman"/>
                <a:ea typeface="幼圆"/>
              </a:rPr>
              <a:t>帕雷托 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幼圆"/>
              </a:rPr>
              <a:t>（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  <a:ea typeface="幼圆"/>
              </a:rPr>
              <a:t>Pareto Principle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  <a:ea typeface="幼圆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5410080"/>
            <a:ext cx="2590920" cy="70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20 </a:t>
            </a: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活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-1011600"/>
            <a:ext cx="259092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-325800"/>
            <a:ext cx="259092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410080"/>
            <a:ext cx="2514600" cy="70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80</a:t>
            </a: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00400" y="5257800"/>
            <a:ext cx="1658880" cy="1019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4" name=""/>
          <p:cNvSpPr/>
          <p:nvPr/>
        </p:nvSpPr>
        <p:spPr>
          <a:xfrm>
            <a:off x="6129000" y="419112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2560" y="342900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阅读的书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4720" y="274320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一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29000" y="198108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病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93640" y="114300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销售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4600" y="419112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8640" y="350532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书架的书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4000" y="289548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每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66840" y="213372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员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66840" y="129528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顾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685800"/>
            <a:ext cx="61722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6600"/>
                </a:solidFill>
                <a:uFillTx/>
                <a:latin typeface="Times New Roman"/>
                <a:ea typeface="幼圆"/>
              </a:rPr>
              <a:t>Pareto </a:t>
            </a:r>
            <a:r>
              <a:rPr b="1" lang="zh-CN" sz="6000" spc="-1" strike="noStrike" u="sng">
                <a:solidFill>
                  <a:srgbClr val="996600"/>
                </a:solidFill>
                <a:uFillTx/>
                <a:latin typeface="Times New Roman"/>
                <a:ea typeface="幼圆"/>
              </a:rPr>
              <a:t>原则应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2096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集中精力在能获得最大回报的事情上，而不要花费在对成功无益的事情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424240" cy="438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267080" y="4114800"/>
            <a:ext cx="3886200" cy="1981080"/>
          </a:xfrm>
          <a:prstGeom prst="rect">
            <a:avLst/>
          </a:prstGeom>
        </p:spPr>
        <p:txBody>
          <a:bodyPr wrap="none" lIns="91800" rIns="91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80/20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原则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wipe dir="r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3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52680" y="914400"/>
            <a:ext cx="57913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Times New Roman"/>
              </a:rPr>
              <a:t>No wind favors him who has no destined por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</a:rPr>
              <a:t>风不会偏爱没有目的港的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458800" cy="4496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088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cc"/>
                </a:solidFill>
                <a:latin typeface="Times New Roman"/>
                <a:ea typeface="黑体"/>
              </a:rPr>
              <a:t>目标能唤起你最高尚的才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1401480"/>
            <a:ext cx="2188800" cy="3384720"/>
          </a:xfrm>
          <a:prstGeom prst="wedgeRectCallout">
            <a:avLst>
              <a:gd name="adj1" fmla="val -360240"/>
              <a:gd name="adj2" fmla="val 155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自己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切合实际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书面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可衡量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有时限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平衡和谐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30240" y="685800"/>
            <a:ext cx="4899240" cy="5329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62520" y="2819520"/>
            <a:ext cx="5181480" cy="43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大脑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Impact"/>
                <a:ea typeface="隶书"/>
              </a:rPr>
              <a:t>Mind ma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55627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2971800" y="568152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每日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466740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每周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75768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月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9920" y="274320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季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02360" y="196956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年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447920" y="228600"/>
            <a:ext cx="7238880" cy="1601640"/>
            <a:chOff x="1447920" y="228600"/>
            <a:chExt cx="7238880" cy="160164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1447920" y="228600"/>
              <a:ext cx="7238880" cy="160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84" name=""/>
            <p:cNvSpPr/>
            <p:nvPr/>
          </p:nvSpPr>
          <p:spPr>
            <a:xfrm>
              <a:off x="2383200" y="418680"/>
              <a:ext cx="22424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7c80"/>
                  </a:solidFill>
                  <a:latin typeface="Times New Roman"/>
                  <a:ea typeface="黑体"/>
                </a:rPr>
                <a:t>目标金字塔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95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    </a:t>
            </a: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每日时间计划表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514600"/>
            <a:ext cx="5257800" cy="312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间已具体确定的会谈、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间没有具体确定的待处理事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话、记录等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3033720" cy="31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3120" y="2514600"/>
            <a:ext cx="321624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00920" y="2743200"/>
            <a:ext cx="2514600" cy="266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2666880" y="1981080"/>
            <a:ext cx="5410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一个词描述你现在的工作、生活状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97080" y="0"/>
            <a:ext cx="6046560" cy="1752120"/>
            <a:chOff x="3097080" y="0"/>
            <a:chExt cx="6046560" cy="1752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792480" y="0"/>
              <a:ext cx="2351160" cy="17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097080" y="73080"/>
              <a:ext cx="3490200" cy="1679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752480"/>
            <a:ext cx="6324840" cy="3886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把已确定的会谈、会议安排到日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把待做的事项列表、标明所需时间和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可授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把待做的事项安排到日程表中，注明所需文件出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做完事项勾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15520"/>
            <a:ext cx="7772400" cy="91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808080"/>
                </a:solidFill>
                <a:latin typeface="黑体"/>
                <a:ea typeface="黑体"/>
              </a:rPr>
              <a:t>操作步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133360" cy="323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86200" y="21337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114800"/>
            <a:ext cx="2438280" cy="236232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3623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32763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自我组织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6320" y="30477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优先计划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50120" y="502884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沟通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2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4800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Eras Bk BT"/>
                <a:ea typeface="宋体"/>
              </a:rPr>
              <a:t>自我组织管理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159280" cy="3276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571840" cy="31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81080" y="990720"/>
            <a:ext cx="579132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时间的“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+-</a:t>
            </a:r>
            <a:r>
              <a:rPr b="1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/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2271240"/>
            <a:ext cx="5486400" cy="2804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找出隐藏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少无谓的时间浪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提高工作成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根除浪费时间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168360" cy="334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62160" y="83808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找出隐藏时间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094920"/>
            <a:ext cx="6858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善用等候与空档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创造时间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逆势操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背包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304920"/>
            <a:ext cx="3495600" cy="3085920"/>
            <a:chOff x="304920" y="304920"/>
            <a:chExt cx="3495600" cy="30859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73800" y="1066680"/>
              <a:ext cx="1149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99cc00"/>
                  </a:solidFill>
                  <a:latin typeface="Tahoma"/>
                </a:rPr>
                <a:t>+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038480" y="838080"/>
            <a:ext cx="46483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减少无谓的时间浪费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04920" y="228600"/>
            <a:ext cx="3495600" cy="3085920"/>
            <a:chOff x="304920" y="228600"/>
            <a:chExt cx="3495600" cy="30859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848600" y="990360"/>
              <a:ext cx="12013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-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52480" y="3201120"/>
            <a:ext cx="67057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cccc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分钟：决定目标及课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分钟：思考的扩张及探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分钟：整理思绪，定出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提高工作成效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246840"/>
            <a:ext cx="6248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帕金森定律：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事情增加是为了填满完成工作所需的多余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8600" y="228600"/>
            <a:ext cx="3495600" cy="3085920"/>
            <a:chOff x="228600" y="228600"/>
            <a:chExt cx="3495600" cy="30859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663920" y="990360"/>
              <a:ext cx="1416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4400" spc="-1" strike="noStrike">
                  <a:solidFill>
                    <a:srgbClr val="99cc00"/>
                  </a:solidFill>
                  <a:latin typeface="Monotype Sorts"/>
                  <a:ea typeface="Monotype Sorts"/>
                </a:rPr>
                <a:t>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文件满桌病”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00200" y="3581280"/>
            <a:ext cx="6934320" cy="2146320"/>
            <a:chOff x="1600200" y="3581280"/>
            <a:chExt cx="6934320" cy="21463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600200" y="3581280"/>
              <a:ext cx="2438280" cy="20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943600" y="3657600"/>
              <a:ext cx="259092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4114800" y="3962520"/>
              <a:ext cx="1905120" cy="13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1371600" y="243828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尽其所，物归原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733920" cy="3141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办公桌上的物品摆放原则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每天下班前将办公桌整理就绪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文件处理原则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建立一套文件处置系统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914400"/>
            <a:ext cx="5943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建立有效的工作环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114800" y="762120"/>
            <a:ext cx="50292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根除浪费时间习惯——</a:t>
            </a:r>
            <a:r>
              <a:rPr b="1" lang="zh-CN" sz="4800" spc="-1" strike="noStrike">
                <a:solidFill>
                  <a:srgbClr val="808000"/>
                </a:solidFill>
                <a:latin typeface="Times New Roman"/>
                <a:ea typeface="黑体"/>
              </a:rPr>
              <a:t>拖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04920"/>
            <a:ext cx="3495960" cy="3085920"/>
            <a:chOff x="380880" y="304920"/>
            <a:chExt cx="3495960" cy="308592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80880" y="304920"/>
              <a:ext cx="349596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945440" y="1066680"/>
              <a:ext cx="11588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/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3429360"/>
            <a:ext cx="426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不是从未开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就是从未结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33560" y="12189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ras Bk BT"/>
                <a:ea typeface="宋体"/>
              </a:rPr>
              <a:t>It’s not enough to be  busy.</a:t>
            </a:r>
            <a:endParaRPr b="1" lang="en-US" sz="3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217680" cy="395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2819520" cy="22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86200" y="434340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ras Bk BT"/>
                <a:ea typeface="宋体"/>
              </a:rPr>
              <a:t>The question is what are you busy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352680" y="49528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黑体"/>
              </a:rPr>
              <a:t>现在就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7621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黑体"/>
              </a:rPr>
              <a:t>当机立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213372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有动手，心灵才会启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浪费时间担心害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105000" cy="612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86200" y="21337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4114800"/>
            <a:ext cx="2438280" cy="236232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3623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97080" y="32763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自我组织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6320" y="30477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优先计划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50120" y="502884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沟通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1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4800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Eras Bk BT"/>
                <a:ea typeface="宋体"/>
              </a:rPr>
              <a:t>沟通管理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58920" cy="3276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3886200" cy="212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3643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952880" y="1066680"/>
            <a:ext cx="4191120" cy="4761000"/>
            <a:chOff x="4952880" y="1066680"/>
            <a:chExt cx="4191120" cy="476100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4952880" y="3429000"/>
              <a:ext cx="4191120" cy="23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6629400" y="1066680"/>
              <a:ext cx="198756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990720" y="6094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昆仑粗隶书"/>
              </a:rPr>
              <a:t>懂得说“不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981080"/>
            <a:ext cx="6095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时间结构的暗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肢体暗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附以理由，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供其他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事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3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048120" y="106668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昆仑粗隶书"/>
              </a:rPr>
              <a:t>善用电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2070000" cy="3200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05120" y="2585880"/>
            <a:ext cx="304956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2251"/>
              </a:spcBef>
              <a:buClr>
                <a:srgbClr val="d60093"/>
              </a:buClr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避免开头的题外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d60093"/>
              </a:buClr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尽量将电话集中回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12720" y="228600"/>
            <a:ext cx="17971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7467480" cy="4800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5800" y="2286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昆仑粗隶书"/>
              </a:rPr>
              <a:t>避免会议弊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98108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确定清晰的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尽量减少与会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选择适当开会时间与地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提前准备议程，资料分发与会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避免长时间的会议，对会议加以时间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762280" cy="22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4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9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4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时间管理推荐书目</a:t>
            </a:r>
            <a:endParaRPr b="1" lang="en-US" sz="48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哈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B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经理手册（时间管理、业务管理、谈判能力与技巧）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管理学  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舵手（成功认识的时间管理术）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80/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法则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白领职业教程（工作计划、时间运筹）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34960" y="4572000"/>
            <a:ext cx="195408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371600"/>
            <a:ext cx="71629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</a:rPr>
              <a:t>你可运用的时间就是你全部的时间资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6729120" cy="3718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91120" y="3092400"/>
            <a:ext cx="3887640" cy="37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30640" y="1828800"/>
            <a:ext cx="3505320" cy="4062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3187800" cy="406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28600"/>
            <a:ext cx="2666880" cy="6095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"/>
            <a:ext cx="2590920" cy="6172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3216240" cy="351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18637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34560" y="38088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应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518148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效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209680"/>
            <a:ext cx="2057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制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成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1280" y="45720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制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1280" y="525780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成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808200"/>
            <a:ext cx="4496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幼圆"/>
              </a:rPr>
              <a:t>时间管理的益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959480"/>
            <a:ext cx="5638680" cy="3239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ffffff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轻压力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省时间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加专注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工作质量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e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衡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31804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581280" cy="205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600200" y="2362320"/>
            <a:ext cx="2438280" cy="2361960"/>
            <a:chOff x="1600200" y="2362320"/>
            <a:chExt cx="2438280" cy="2361960"/>
          </a:xfrm>
        </p:grpSpPr>
        <p:sp>
          <p:nvSpPr>
            <p:cNvPr id="78" name=""/>
            <p:cNvSpPr/>
            <p:nvPr/>
          </p:nvSpPr>
          <p:spPr>
            <a:xfrm>
              <a:off x="1600200" y="236232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97080" y="327636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自我组织管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86200" y="2133720"/>
            <a:ext cx="2438280" cy="2361960"/>
            <a:chOff x="3886200" y="2133720"/>
            <a:chExt cx="2438280" cy="2361960"/>
          </a:xfrm>
        </p:grpSpPr>
        <p:sp>
          <p:nvSpPr>
            <p:cNvPr id="81" name=""/>
            <p:cNvSpPr/>
            <p:nvPr/>
          </p:nvSpPr>
          <p:spPr>
            <a:xfrm>
              <a:off x="3886200" y="213372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6320" y="304776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Times New Roman"/>
                </a:rPr>
                <a:t>优先计划管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71800" y="4114800"/>
            <a:ext cx="2438280" cy="2362320"/>
            <a:chOff x="2971800" y="4114800"/>
            <a:chExt cx="2438280" cy="2362320"/>
          </a:xfrm>
        </p:grpSpPr>
        <p:sp>
          <p:nvSpPr>
            <p:cNvPr id="84" name=""/>
            <p:cNvSpPr/>
            <p:nvPr/>
          </p:nvSpPr>
          <p:spPr>
            <a:xfrm>
              <a:off x="2971800" y="4114800"/>
              <a:ext cx="2438280" cy="236232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2320"/>
                <a:gd name="textAreaBottom" fmla="*/ 182304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0120" y="5028840"/>
              <a:ext cx="91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Times New Roman"/>
                </a:rPr>
                <a:t>沟通管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4800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    </a:t>
            </a: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优先计划管理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58920" cy="32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4008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Eras Bk BT"/>
                <a:ea typeface="宋体"/>
              </a:rPr>
              <a:t>时间管理通则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666520"/>
            <a:ext cx="6705720" cy="2971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每天要做的事列一份清单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定优先顺序，从最重要的事情做起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都这么做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133360" cy="201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2819160" cy="24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762120"/>
            <a:ext cx="2895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石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石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429000" y="0"/>
            <a:ext cx="4266720" cy="6172200"/>
            <a:chOff x="3429000" y="0"/>
            <a:chExt cx="4266720" cy="61722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3429000" y="0"/>
              <a:ext cx="27428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190760" y="2209680"/>
              <a:ext cx="350496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时间 管理</cp:keywords>
  <dc:language>en-US</dc:language>
  <cp:lastModifiedBy/>
  <cp:revision>0</cp:revision>
  <dc:subject/>
  <dc:title/>
</cp:coreProperties>
</file>