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23-FE59-40EC-9B1D-50E690E2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9F0-A35B-4173-8409-F2857773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102-5153-4970-A67F-F778F478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50F-FC17-4ED6-BF4B-D91BEED7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94E-A951-4A87-93F2-EAA6234B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B11-DA4F-42EA-847E-2CE7AE88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AC85-786F-419A-AFD1-F96EADB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3015-6DA6-4EE9-B13D-479E6658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F51-FD53-4AB7-9794-49B3A945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BF6-37AF-45F3-9161-4E5488E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BD2F-2A42-4ABC-AC3C-C6AF2A9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171-B1C5-4AD5-B117-1BA9741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188F-69F0-465D-8A78-A214F8D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EBA7-6460-4CF1-8E33-7400C5B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35BC-AAB7-43A2-8B5D-C66784A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3679-A176-4759-A531-B3ADD79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C1F-2EB7-4E4A-AF4A-E7DC47C9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C72-9955-4D0C-86E8-3905F05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BA2-9F47-493C-A730-2677F22D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B50-DEA7-427A-9EE8-FBB6CB14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E73-C39E-4BD4-9DFF-40EAA0C9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712-FD6D-4C9D-AD84-38A4D06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937-9F90-44A9-8786-06AAFBB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BFD-8A9D-4146-82A5-4DA62B9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82DF-2BD8-4897-9E0E-4F32232D4F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024-7A48-494C-AE53-EA69C4B94D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矩形 14"/>
          <p:cNvGrpSpPr/>
          <p:nvPr/>
        </p:nvGrpSpPr>
        <p:grpSpPr>
          <a:xfrm>
            <a:off x="139680" y="646200"/>
            <a:ext cx="8839080" cy="6035760"/>
            <a:chOff x="139680" y="646200"/>
            <a:chExt cx="8839080" cy="6035760"/>
          </a:xfrm>
        </p:grpSpPr>
        <p:pic>
          <p:nvPicPr>
            <p:cNvPr id="83" name="矩形 14" descr=""/>
            <p:cNvPicPr/>
            <p:nvPr/>
          </p:nvPicPr>
          <p:blipFill>
            <a:blip r:embed="rId1"/>
            <a:stretch/>
          </p:blipFill>
          <p:spPr>
            <a:xfrm>
              <a:off x="139680" y="646200"/>
              <a:ext cx="8839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5520" y="662040"/>
              <a:ext cx="8809200" cy="60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Rectangle 3"/>
          <p:cNvGrpSpPr/>
          <p:nvPr/>
        </p:nvGrpSpPr>
        <p:grpSpPr>
          <a:xfrm>
            <a:off x="2693880" y="1670040"/>
            <a:ext cx="3633840" cy="4853160"/>
            <a:chOff x="2693880" y="1670040"/>
            <a:chExt cx="3633840" cy="4853160"/>
          </a:xfrm>
        </p:grpSpPr>
        <p:pic>
          <p:nvPicPr>
            <p:cNvPr id="87" name="Rectangle 3" descr=""/>
            <p:cNvPicPr/>
            <p:nvPr/>
          </p:nvPicPr>
          <p:blipFill>
            <a:blip r:embed="rId2"/>
            <a:stretch/>
          </p:blipFill>
          <p:spPr>
            <a:xfrm>
              <a:off x="2693880" y="1670040"/>
              <a:ext cx="3633840" cy="48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700360" y="1676520"/>
              <a:ext cx="3622680" cy="48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44D2-B7B2-4D57-85DF-7EBA84BFB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2:40Z</dcterms:modified>
  <cp:revision>846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