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992-6518-4724-A123-6F61B873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9B3-6058-4890-9C43-5043DD49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23A-CC0F-4959-9804-2D550613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C28-AC09-4087-A77D-8B79F521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3FCD-0BDC-45FC-B17C-9881763A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B019-33DA-485E-9908-C2552F7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7FC-6143-4DE8-8187-7AC146D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6D70-9466-4597-8BF6-B951A58C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A9AA-F47D-4413-B411-5843CFB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5CEC-8C42-46D1-97D8-773CA489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A206-2B16-42F4-B58C-6642D18E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3CC-A43F-48F4-B1EC-6761C14C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8252-4EAA-4E76-8C16-33C6D40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149F-5A56-4B76-BCFE-5EF30C0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AD8-F7F9-4EB3-B0DB-DD28BA4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697F-8E15-4A41-A52A-0592C1EE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BACF-FC0C-4F72-8D8F-A4B3BC80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C37-50C2-4C78-AD33-12E30E5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172-04E5-4468-85AD-2F6291C3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C8F-3AC5-48A8-8A8B-3CC96C9D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B7F-2C7B-4485-904B-D48D87AF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552-7803-4096-9057-238E74E1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1C1-FBCE-48A3-B63E-F79210D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AEF-18CA-42D5-AC1A-38C5F08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0597-1649-4008-95C2-A4DB3700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9FB-B008-467D-98E3-B1EF64E5E2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58665" t="33198" r="0" b="23753"/>
          <a:stretch/>
        </p:blipFill>
        <p:spPr>
          <a:xfrm>
            <a:off x="5364000" y="2276640"/>
            <a:ext cx="378000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1080" y="6526080"/>
            <a:ext cx="426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548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F68E-87C7-4D75-B130-E67B17F4C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15:39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40:19Z</dcterms:modified>
  <cp:revision>258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