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jpeg" ContentType="image/jpeg"/>
  <Override PartName="/ppt/media/chimes.wav" ContentType="audio/x-wav"/>
  <Override PartName="/ppt/media/projctor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9C8-2E49-4C7C-8CE8-9E6588E9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9D6-98FF-4BC6-80FD-ED07FBE6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4E7-1B24-4A59-9EAD-478FBFF0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F72-B963-474F-AC69-1FACC09B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1D10-35BA-4B93-95BF-A2314E4F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09A9-CCAB-4ABC-955A-4DCE22A5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B396-48C0-493D-93F7-A3C7F726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048F-FF2C-48B3-85FE-D7B33A61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EAB1-F475-498D-BACF-E70E182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7E7E-38F5-4E0F-9324-1AA3F3B2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5AF9-174A-40B9-B99E-52A764D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731-EF5E-4062-9031-9A76432D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DFB4-987D-4E79-888C-FA46C03F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09C3-5FC2-493B-AF0C-6CDEF64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6C91-7D17-4B71-8D59-AB496B0C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168-7D80-4921-B31B-E77EA180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7B1D-9D4B-4882-A678-AF2383A1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27E-AE2B-4C88-8C0F-CF403246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179-D5D2-4C40-A383-E937D8A6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028-2B9B-47B3-AA30-394CA301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31A-7B81-45C4-8B7E-36F3C24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A15-2237-4989-A2F8-3F696976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0D9-7C41-4962-A2F9-80E43B03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179-467B-4C6C-BD39-744671B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6440" y="1881360"/>
            <a:ext cx="1241280" cy="4976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D11A-EF15-4BFF-8DE9-E0BACF78CA9D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4BEB-1672-4ACD-8C8D-4EC4C0B86069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</a:rPr>
              <a:t>商品服务商场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Narrow"/>
                <a:ea typeface="华文细黑"/>
              </a:rPr>
              <a:t>商品服务市场，是商品、服务交易的场所。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581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Narrow"/>
                <a:ea typeface="华文细黑"/>
              </a:rPr>
              <a:t>商品服务市场是由消费品市场、生产资料市场和服务市场构成的。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371600"/>
            <a:ext cx="814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市场是批发、买卖或交易“服务”这种无形的商品的场所，下面属于服务市场范围的是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场、商店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贸市场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染、保健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资调剂市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44600" y="243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3962520"/>
            <a:ext cx="2016000" cy="1844640"/>
          </a:xfrm>
          <a:prstGeom prst="irregularSeal2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533520"/>
          <a:ext cx="8305920" cy="5410080"/>
        </p:xfrm>
        <a:graphic>
          <a:graphicData uri="http://schemas.openxmlformats.org/drawingml/2006/table">
            <a:tbl>
              <a:tblPr/>
              <a:tblGrid>
                <a:gridCol w="1692360"/>
                <a:gridCol w="2117520"/>
                <a:gridCol w="2419560"/>
                <a:gridCol w="2076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消费品市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生产资料市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服务市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变换形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购买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交易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交易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商品阶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438280" y="1135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495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产和消费过程同时进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5720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连接生产和生产性消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最终消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复杂多变、流动性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数少、固定、专业性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复杂多变、门类繁多</a:t>
            </a:r>
            <a:r>
              <a:rPr b="0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97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个人消费者人数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各类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个人消费者人数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68480" y="160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8160" y="160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  <p:sndAc>
      <p:stSnd>
        <p:snd r:embed="rId2" name="chimes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08000" y="692280"/>
            <a:ext cx="68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，从市场的发展来看，商品服务市场是基础市场，是建立和健全社会主义市场经济的必要前提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259092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次，从功能看，它是人们生产、生活所需要的各种商品和服务进行交换的载体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4641840"/>
            <a:ext cx="68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，从再生产的角度看，商品服务市场是社会再生产必需的重要条件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320" y="1573200"/>
            <a:ext cx="1957320" cy="3532320"/>
            <a:chOff x="76320" y="1573200"/>
            <a:chExt cx="1957320" cy="3532320"/>
          </a:xfrm>
        </p:grpSpPr>
        <p:sp>
          <p:nvSpPr>
            <p:cNvPr id="160" name=""/>
            <p:cNvSpPr/>
            <p:nvPr/>
          </p:nvSpPr>
          <p:spPr>
            <a:xfrm>
              <a:off x="76320" y="2503080"/>
              <a:ext cx="1619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商品服务市场的地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3280" y="1573200"/>
              <a:ext cx="360360" cy="35323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91800 h 3532320"/>
                <a:gd name="textAreaBottom" fmla="*/ 3440520 h 35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25146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商品服务市场的内容及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219320"/>
            <a:ext cx="304560" cy="4647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914400"/>
            <a:ext cx="2133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商品服务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场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29718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商品服务市场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981080"/>
            <a:ext cx="304560" cy="30481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d4876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752480"/>
            <a:ext cx="1752480" cy="459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费品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3200400"/>
            <a:ext cx="205740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产资料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5029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商品服务市场的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15238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d487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297180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d487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41972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d487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54280" y="223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1295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2819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3657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175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华文隶书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strips dir="lu"/>
    <p:sndAc>
      <p:stSnd>
        <p:snd r:embed="rId2" name="chimes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黑体"/>
              </a:rPr>
              <a:t>XX</a:t>
            </a: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黑体"/>
              </a:rPr>
              <a:t>电教馆资源中心制作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004.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1125360"/>
            <a:ext cx="1763640" cy="3383280"/>
            <a:chOff x="0" y="1125360"/>
            <a:chExt cx="1763640" cy="3383280"/>
          </a:xfrm>
        </p:grpSpPr>
        <p:sp>
          <p:nvSpPr>
            <p:cNvPr id="86" name=""/>
            <p:cNvSpPr/>
            <p:nvPr/>
          </p:nvSpPr>
          <p:spPr>
            <a:xfrm>
              <a:off x="0" y="2276640"/>
              <a:ext cx="169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消费品市场的含义和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03280" y="1125360"/>
              <a:ext cx="360360" cy="33832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3280"/>
                <a:gd name="textAreaBottom" fmla="*/ 3295080 h 338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763640" y="69228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义：为个人提供最后的、直接的消费品的市场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835280" y="2133720"/>
            <a:ext cx="1368360" cy="3673440"/>
            <a:chOff x="1835280" y="2133720"/>
            <a:chExt cx="1368360" cy="3673440"/>
          </a:xfrm>
        </p:grpSpPr>
        <p:sp>
          <p:nvSpPr>
            <p:cNvPr id="90" name=""/>
            <p:cNvSpPr/>
            <p:nvPr/>
          </p:nvSpPr>
          <p:spPr>
            <a:xfrm>
              <a:off x="1835280" y="3286080"/>
              <a:ext cx="1152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消费品市场的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16360" y="2133720"/>
              <a:ext cx="287280" cy="36734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95760 h 3673440"/>
                <a:gd name="textAreaBottom" fmla="*/ 3577680 h 36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76720" y="17733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人数多、市场广阔、布局分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7097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商品品种繁多，花色多样，规格齐全，并具有一定程度的差异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3080" y="4197240"/>
            <a:ext cx="9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商品交易次数频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94040" y="4773600"/>
            <a:ext cx="9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市场上供求关系复杂多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21000" y="5373720"/>
            <a:ext cx="55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者易受广泛宣传促销活动影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914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含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6858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为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个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提供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最后的、直接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消费品的市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8954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876c"/>
                </a:solidFill>
                <a:latin typeface="Times New Roman"/>
                <a:ea typeface="华文细黑"/>
              </a:rPr>
              <a:t>明确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95480"/>
            <a:ext cx="6248520" cy="52056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华文细黑"/>
              </a:rPr>
              <a:t>一是消费品市场的购买主体是消费者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4419720"/>
            <a:ext cx="6324480" cy="52056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华文细黑"/>
              </a:rPr>
              <a:t>二是市场的客体是最终产品，是直接用于消费的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1484280"/>
            <a:ext cx="83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商品市场中，不但有针头线脑，而且有彩电、冰箱、床上用品等货物。设施齐备，品种齐全，它应属于商品服务市场中的：（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个人提供最后直接的消费品的市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消费品的场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营消费品的场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销售日常生活用品的场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3068640"/>
            <a:ext cx="5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648320"/>
            <a:ext cx="2016000" cy="1844640"/>
          </a:xfrm>
          <a:prstGeom prst="irregularSeal2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0200" y="152388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义：是生产资料流通的场所，是提供生产资料以满足生产需要的市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5229360"/>
            <a:ext cx="67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者一般对商品要求严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697040"/>
            <a:ext cx="1476360" cy="3044880"/>
            <a:chOff x="0" y="1697040"/>
            <a:chExt cx="1476360" cy="3044880"/>
          </a:xfrm>
        </p:grpSpPr>
        <p:sp>
          <p:nvSpPr>
            <p:cNvPr id="108" name=""/>
            <p:cNvSpPr/>
            <p:nvPr/>
          </p:nvSpPr>
          <p:spPr>
            <a:xfrm>
              <a:off x="0" y="1697040"/>
              <a:ext cx="1187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生产资料市场的含义和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16000" y="2060640"/>
              <a:ext cx="360360" cy="26812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9840 h 2681280"/>
                <a:gd name="textAreaBottom" fmla="*/ 2611440 h 26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69120" y="338292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者以各类企业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4292640"/>
            <a:ext cx="66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次数少、使用周期较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403280" y="3645000"/>
            <a:ext cx="1081080" cy="1871640"/>
            <a:chOff x="1403280" y="3645000"/>
            <a:chExt cx="1081080" cy="1871640"/>
          </a:xfrm>
        </p:grpSpPr>
        <p:sp>
          <p:nvSpPr>
            <p:cNvPr id="113" name=""/>
            <p:cNvSpPr/>
            <p:nvPr/>
          </p:nvSpPr>
          <p:spPr>
            <a:xfrm>
              <a:off x="1403280" y="4005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特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50920" y="3645000"/>
              <a:ext cx="433440" cy="1871640"/>
            </a:xfrm>
            <a:custGeom>
              <a:avLst/>
              <a:gdLst>
                <a:gd name="textAreaLeft" fmla="*/ 276840 w 433440"/>
                <a:gd name="textAreaRight" fmla="*/ 433800 w 433440"/>
                <a:gd name="textAreaTop" fmla="*/ 48600 h 1871640"/>
                <a:gd name="textAreaBottom" fmla="*/ 182304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1125360"/>
            <a:ext cx="8748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资料市场中的购买者大都是各类企业，它们购买的生产资料商品的特点是：（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大多受电视广告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购买次数频繁，使用周期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对生产资料商品有严格的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是连接生产和生活消费的纽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7120" y="23623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5013360"/>
            <a:ext cx="2016360" cy="1844640"/>
          </a:xfrm>
          <a:prstGeom prst="irregularSeal2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1886040"/>
            <a:ext cx="1547640" cy="2550960"/>
            <a:chOff x="0" y="1886040"/>
            <a:chExt cx="1547640" cy="2550960"/>
          </a:xfrm>
        </p:grpSpPr>
        <p:sp>
          <p:nvSpPr>
            <p:cNvPr id="119" name=""/>
            <p:cNvSpPr/>
            <p:nvPr/>
          </p:nvSpPr>
          <p:spPr>
            <a:xfrm>
              <a:off x="0" y="1886040"/>
              <a:ext cx="1332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服务市场的含义和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1917720"/>
              <a:ext cx="360360" cy="25192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19280"/>
                <a:gd name="textAreaBottom" fmla="*/ 245376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17760" y="1301760"/>
            <a:ext cx="62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义：买卖 “服务”这种无形商品的场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30400" y="25034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交易的商品是无形的服务性活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5040" y="373860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生产、流通和消费一般是在同一地点、同一过程 进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5600" y="5526000"/>
            <a:ext cx="9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服务功能多样，门类繁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76360" y="3141720"/>
            <a:ext cx="1440000" cy="2448000"/>
            <a:chOff x="1476360" y="3141720"/>
            <a:chExt cx="1440000" cy="2448000"/>
          </a:xfrm>
        </p:grpSpPr>
        <p:sp>
          <p:nvSpPr>
            <p:cNvPr id="126" name=""/>
            <p:cNvSpPr/>
            <p:nvPr/>
          </p:nvSpPr>
          <p:spPr>
            <a:xfrm>
              <a:off x="1476360" y="4011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特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56000" y="3141720"/>
              <a:ext cx="360360" cy="24480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3720 h 2448000"/>
                <a:gd name="textAreaBottom" fmla="*/ 23842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066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  <a:ea typeface="华文细黑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  <a:ea typeface="华文细黑"/>
              </a:rPr>
              <a:t>想一想”，我国的服务市场主要包括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337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主要包括：</a:t>
            </a:r>
            <a:r>
              <a:rPr b="1" lang="zh-CN" sz="2800" spc="-1" strike="noStrike">
                <a:solidFill>
                  <a:srgbClr val="c35d39"/>
                </a:solidFill>
                <a:latin typeface="Times New Roman"/>
                <a:ea typeface="楷体_GB2312"/>
              </a:rPr>
              <a:t>旅馆、理发、美容、照相、娱乐、医疗保健、洗染、浴池、修理、饮食、旅游、殡葬、环卫、水电供应、电报、电话、交通、广告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114800"/>
            <a:ext cx="7162920" cy="1169280"/>
          </a:xfrm>
          <a:prstGeom prst="rect">
            <a:avLst/>
          </a:prstGeom>
          <a:noFill/>
          <a:ln w="889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5d3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35d39"/>
                </a:solidFill>
                <a:latin typeface="Times New Roman"/>
              </a:rPr>
              <a:t>对于提供这些服务的生产者来说，服务就商品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5d39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马克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133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律师事务所和新华书店分别属于什么范围的市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038480"/>
            <a:ext cx="73915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5d39"/>
                </a:solidFill>
                <a:latin typeface="华文细黑"/>
                <a:ea typeface="华文细黑"/>
              </a:rPr>
              <a:t>        </a:t>
            </a:r>
            <a:r>
              <a:rPr b="1" lang="zh-CN" sz="2800" spc="-1" strike="noStrike">
                <a:solidFill>
                  <a:srgbClr val="c35d39"/>
                </a:solidFill>
                <a:latin typeface="华文细黑"/>
                <a:ea typeface="华文细黑"/>
              </a:rPr>
              <a:t>律师事务所由于是为消费者提供服务的无形商品，所以属于服务市场；书店由于是为消费者提供消费品，所属于消费品市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商品 服务 市场</cp:keywords>
  <dc:language>en-US</dc:language>
  <cp:lastModifiedBy/>
  <cp:revision>0</cp:revision>
  <dc:subject/>
  <dc:title/>
</cp:coreProperties>
</file>