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3A8-C526-47A6-92B4-27E396C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115-C45D-46A2-AF06-A9BBA847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F1C-3D09-4684-88DF-6797409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BC4-5FED-49C4-8E33-0F3B511F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6F6-5CBC-4D98-ABCE-5C97355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95D-95E1-4FA8-804E-3C7B6B53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24C-F52C-4180-93D4-ABEDF9A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BEE-4751-425D-9754-70C6A672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742-7557-40DD-97C4-21C4ECFB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E90-A889-45AD-A55A-B129A82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5F5-DE0B-4027-82A3-BB9D762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5E3-2299-473C-89A0-5BE7D1A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9B5E-EBD8-473F-B04C-86D020CAC5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685800"/>
            <a:ext cx="8229600" cy="4406040"/>
            <a:chOff x="533520" y="685800"/>
            <a:chExt cx="8229600" cy="4406040"/>
          </a:xfrm>
        </p:grpSpPr>
        <p:sp>
          <p:nvSpPr>
            <p:cNvPr id="42" name=""/>
            <p:cNvSpPr/>
            <p:nvPr/>
          </p:nvSpPr>
          <p:spPr>
            <a:xfrm>
              <a:off x="533520" y="685800"/>
              <a:ext cx="8229600" cy="121932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隋 唐 文 化</a:t>
              </a:r>
              <a:r>
                <a:rPr b="0" lang="zh-CN" sz="3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5920" y="3048120"/>
              <a:ext cx="3594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、由贵族阶级转移到平民社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二、由宗教方面转移到日常人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3416400"/>
            <a:chOff x="0" y="0"/>
            <a:chExt cx="9144000" cy="34164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1320" y="1089000"/>
              <a:ext cx="281124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俗讲与变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2590920"/>
              <a:ext cx="702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《入唐求法巡礼行记》卷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改开成六年为会昌元年。又敕于左右街七寺开俗讲。左街四处：此资圣寺令云花寺赐紫大德海岸法师讲《花严经》；保寿寺令左街僧录三教讲论赐紫大德体虚法师讲《法花经》；……右街三处：会昌寺令内供奉三教讲论赐紫引驾起居大德文溆法师讲《法花经》——城中俗讲，此法师为第一；……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761000" cy="601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76920" y="3263760"/>
            <a:ext cx="3504960" cy="944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北合流，贴书占上风，碑法几乎失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263760"/>
            <a:ext cx="1067040" cy="944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碑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17640" y="3263760"/>
            <a:ext cx="1092240" cy="944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贴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263760"/>
            <a:ext cx="1574640" cy="944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书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362320"/>
            <a:ext cx="3504960" cy="90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362320"/>
            <a:ext cx="1067040" cy="901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7640" y="2362320"/>
            <a:ext cx="1092240" cy="90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362320"/>
            <a:ext cx="1574640" cy="90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26376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2084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2362320"/>
            <a:ext cx="0" cy="1846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764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2362320"/>
            <a:ext cx="0" cy="18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2362320"/>
            <a:ext cx="0" cy="1846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920" y="1089000"/>
            <a:ext cx="11271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隋唐书画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17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高祖李渊书“师王褒，得其妙，故有梁风格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太宗李世民崇尚王羲之书，亲自为《晋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王羲之传》作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隋唐著名书法家如虞世南、褚遂良、欧阳询等都是南方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745920" y="762120"/>
            <a:ext cx="7845480" cy="5867280"/>
            <a:chOff x="745920" y="762120"/>
            <a:chExt cx="7845480" cy="5867280"/>
          </a:xfrm>
        </p:grpSpPr>
        <p:sp>
          <p:nvSpPr>
            <p:cNvPr id="156" name=""/>
            <p:cNvSpPr/>
            <p:nvPr/>
          </p:nvSpPr>
          <p:spPr>
            <a:xfrm>
              <a:off x="745920" y="1089000"/>
              <a:ext cx="112716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宋体"/>
                </a:rPr>
                <a:t>隋唐书画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33760" y="762120"/>
              <a:ext cx="415764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535840" y="5430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褚遂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《临兰亭序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0" y="838080"/>
            <a:ext cx="8763120" cy="6019920"/>
            <a:chOff x="0" y="838080"/>
            <a:chExt cx="8763120" cy="6019920"/>
          </a:xfrm>
        </p:grpSpPr>
        <p:sp>
          <p:nvSpPr>
            <p:cNvPr id="161" name=""/>
            <p:cNvSpPr/>
            <p:nvPr/>
          </p:nvSpPr>
          <p:spPr>
            <a:xfrm>
              <a:off x="745920" y="1089000"/>
              <a:ext cx="112716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宋体"/>
                </a:rPr>
                <a:t>隋唐书画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267080" y="838080"/>
              <a:ext cx="4496040" cy="37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0" y="2971800"/>
              <a:ext cx="4191120" cy="25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4572000" y="4659480"/>
              <a:ext cx="3992400" cy="21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25760" y="5837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11560" y="1798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232920" y="762120"/>
            <a:ext cx="8760240" cy="5867280"/>
            <a:chOff x="232920" y="762120"/>
            <a:chExt cx="8760240" cy="5867280"/>
          </a:xfrm>
        </p:grpSpPr>
        <p:sp>
          <p:nvSpPr>
            <p:cNvPr id="169" name=""/>
            <p:cNvSpPr/>
            <p:nvPr/>
          </p:nvSpPr>
          <p:spPr>
            <a:xfrm>
              <a:off x="751320" y="1066680"/>
              <a:ext cx="10342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4038480" y="762120"/>
              <a:ext cx="390852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959600" y="4466880"/>
              <a:ext cx="10335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汤用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《隋唐佛教史稿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2590920"/>
              <a:ext cx="29113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统一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国际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自主（独立）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系统性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920" y="2377800"/>
              <a:ext cx="606960" cy="34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隋唐佛教之特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宗教方面到日常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1320" y="1066680"/>
            <a:ext cx="1034280" cy="520560"/>
          </a:xfrm>
          <a:prstGeom prst="rect">
            <a:avLst/>
          </a:prstGeom>
          <a:solidFill>
            <a:srgbClr val="8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隋唐佛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648400"/>
            <a:ext cx="3657600" cy="82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《大日经》、《金刚顶经》、《苏悉地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648400"/>
            <a:ext cx="1828800" cy="820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善无畏、金刚智、不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648400"/>
            <a:ext cx="1828800" cy="820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4971960"/>
            <a:ext cx="3657600" cy="676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《楞伽经》、《金刚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971960"/>
            <a:ext cx="1828800" cy="676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菩提达摩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971960"/>
            <a:ext cx="1828800" cy="676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禅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294080"/>
            <a:ext cx="3657600" cy="67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华严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294080"/>
            <a:ext cx="1828800" cy="677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法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4294080"/>
            <a:ext cx="1828800" cy="677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华严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411360"/>
            <a:ext cx="3657600" cy="88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《无量寿经》、《观无量寿佛经》、《阿弥陀经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411360"/>
            <a:ext cx="1828800" cy="88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善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3411360"/>
            <a:ext cx="1828800" cy="88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净土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735280"/>
            <a:ext cx="3657600" cy="676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成唯识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2735280"/>
            <a:ext cx="1828800" cy="676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玄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735280"/>
            <a:ext cx="1828800" cy="676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法相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057400"/>
            <a:ext cx="3657600" cy="677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法华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057400"/>
            <a:ext cx="1828800" cy="677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智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057400"/>
            <a:ext cx="1828800" cy="677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天台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057400"/>
            <a:ext cx="7315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7352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411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2940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4971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648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6469200"/>
            <a:ext cx="7315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057400"/>
            <a:ext cx="0" cy="441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057400"/>
            <a:ext cx="0" cy="441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057400"/>
            <a:ext cx="0" cy="441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9600" y="2057400"/>
            <a:ext cx="0" cy="441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500720" cy="5638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38640" y="5070600"/>
            <a:ext cx="8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唐  李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《不空金刚像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990720" y="1066680"/>
            <a:ext cx="7559640" cy="4802760"/>
            <a:chOff x="990720" y="1066680"/>
            <a:chExt cx="7559640" cy="4802760"/>
          </a:xfrm>
        </p:grpSpPr>
        <p:sp>
          <p:nvSpPr>
            <p:cNvPr id="214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2438280"/>
              <a:ext cx="5181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神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身是菩提树，心如明镜台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时勤拂拭，勿使惹尘埃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9000" y="4495680"/>
              <a:ext cx="5121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慧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菩提本无树、明镜亦非台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本来无一物，何处惹尘埃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0"/>
            <a:ext cx="9144000" cy="3690360"/>
            <a:chOff x="0" y="0"/>
            <a:chExt cx="9144000" cy="3690360"/>
          </a:xfrm>
        </p:grpSpPr>
        <p:sp>
          <p:nvSpPr>
            <p:cNvPr id="222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80" y="27432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慧能被尊为禅宗六祖，《六祖坛经》为慧能语录，为禅宗重要经典。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华文仿宋"/>
                </a:rPr>
                <a:t>慧能以下参禅主顿悟，以为“一切万法，尽在自身中”，“本性是佛，离性别无佛”，故觉悟不假外求。主张不立文字，教外别传，直指人心，顿悟成佛，实则是将复杂的宗教理论简单化、世俗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515280"/>
            <a:chOff x="0" y="0"/>
            <a:chExt cx="9144000" cy="651528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09480" y="838080"/>
              <a:ext cx="4048200" cy="56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269400" y="4876920"/>
              <a:ext cx="61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钱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《中国文化史导论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4411800"/>
            <a:chOff x="0" y="0"/>
            <a:chExt cx="9144000" cy="441180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2611440"/>
              <a:ext cx="7620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禅宗的精神，完全要在现实人生之日常生活中认取，他们一片天机，自由自在，正是从宗教束缚中解放而重新回到现实人生来的第一声。……中国此后文学艺术一切活泼自然空灵脱洒的境界，论其意趣理致，几乎完全与禅宗的精神发生内在而很深微的关系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                                                                  —— 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钱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3360600"/>
            <a:chOff x="0" y="0"/>
            <a:chExt cx="9144000" cy="3360600"/>
          </a:xfrm>
        </p:grpSpPr>
        <p:sp>
          <p:nvSpPr>
            <p:cNvPr id="238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宗教方面到日常生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8480" y="1066680"/>
              <a:ext cx="289656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佛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禅宗和净土宗的盛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32080" y="2840040"/>
              <a:ext cx="64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以念佛为基本修行方法，每日念万声至十万声，死后即可得佛接引，前往西方净土。 净土宗没有繁琐的教义和高深的理论，修行方法简单易行。因此净土信仰不论在上层还是民间，都得到广泛流行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467480" cy="5367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156520" y="399564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敦煌莫高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341960" cy="5715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029200" y="537516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莫高窟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窟内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303800" cy="5562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973760" y="990720"/>
            <a:ext cx="400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380880" y="1143000"/>
            <a:ext cx="8016840" cy="4924440"/>
            <a:chOff x="380880" y="1143000"/>
            <a:chExt cx="8016840" cy="492444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380880" y="1143000"/>
              <a:ext cx="716292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51600" y="3614760"/>
              <a:ext cx="54612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莫高窟经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宗教方面到日常生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533520" y="762120"/>
            <a:ext cx="7848360" cy="5790960"/>
            <a:chOff x="533520" y="762120"/>
            <a:chExt cx="7848360" cy="579096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533520" y="762120"/>
              <a:ext cx="409572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136200" y="49528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葛兆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中国思想史》第二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11430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知识的世俗化——盛世的平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6638760"/>
            <a:chOff x="0" y="0"/>
            <a:chExt cx="9144000" cy="663876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3680" y="1089000"/>
              <a:ext cx="19576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现存唐诗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5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万余首，作者达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2200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余人。唐诗体裁众多，风格各异。内容丰富多彩，是唐代社会的生活写照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952880" y="914400"/>
              <a:ext cx="3943440" cy="57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52080" y="5638680"/>
              <a:ext cx="125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陈尚君  辑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全唐诗补编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867280" y="685800"/>
            <a:ext cx="3276720" cy="6172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5867280" cy="617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858000"/>
            <a:ext cx="586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8580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贵族阶层到平民社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51320" y="1066680"/>
            <a:ext cx="6792480" cy="5519520"/>
            <a:chOff x="751320" y="1066680"/>
            <a:chExt cx="6792480" cy="5519520"/>
          </a:xfrm>
        </p:grpSpPr>
        <p:sp>
          <p:nvSpPr>
            <p:cNvPr id="75" name=""/>
            <p:cNvSpPr/>
            <p:nvPr/>
          </p:nvSpPr>
          <p:spPr>
            <a:xfrm>
              <a:off x="751320" y="1066680"/>
              <a:ext cx="103428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1676520"/>
              <a:ext cx="5410080" cy="49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杜陵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白居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杜陵叟，杜陵居，岁种薄田一顷余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月无雨旱风起，麦苗不秀多黄死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九月降霜秋早寒，禾穗未熟皆青干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长吏明知不申破，急敛暴征求考课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典桑卖地纳官租，明年衣食将何如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剥我身上帛，夺我口中粟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虐人害物即豺狼，何必钩爪锯牙食人肉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不知何人奏皇帝，帝心恻隐知人弊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白麻纸上书德音，京畿尽放今年税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昨日里胥方到门，手持尺牒牓乡村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十家租税九家毕，虚受吾君蠲免恩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867280" y="685800"/>
            <a:ext cx="3276720" cy="6172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5800"/>
            <a:ext cx="5867280" cy="617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2120" rIns="762120" tIns="46800" bIns="46800" anchor="ctr">
            <a:norm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858000"/>
            <a:ext cx="586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0" y="685800"/>
            <a:ext cx="0" cy="617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858000"/>
            <a:ext cx="327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隋唐文化            贵族阶层到平民社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0" y="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28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王梵志诗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·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贫穷田舍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贫穷田舍汉，菴子极孤栖。两共前生种，今世作夫妻。妇即客舂捣，夫即客扶犁。黄昏到家里，无米复无柴。男女空饿肚，状似一食斋。里正催庸调，村头共相催。幞头巾子露，衫破肚皮开。体上无禈绔，足下复无鞋。丑妇来恶骂，啾唧搦头灰。里正被脚蹴，村头被拳搓。驱将见明府，打脊趁回来。租调无处出，还需里正倍。门前见债主，入户见贫妻。舍漏儿啼哭，重重逢苦灾。如此硬穷汉，村村一两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320" y="1066680"/>
            <a:ext cx="1034280" cy="520560"/>
          </a:xfrm>
          <a:prstGeom prst="rect">
            <a:avLst/>
          </a:prstGeom>
          <a:solidFill>
            <a:srgbClr val="8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隋唐文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629400"/>
            <a:chOff x="0" y="0"/>
            <a:chExt cx="9144000" cy="6629400"/>
          </a:xfrm>
        </p:grpSpPr>
        <p:sp>
          <p:nvSpPr>
            <p:cNvPr id="92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41608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579640" y="5257800"/>
              <a:ext cx="122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项楚    校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王梵志诗校注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1600200"/>
              <a:ext cx="397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仿宋"/>
                </a:rPr>
                <a:t>王梵志白话诗的出现，标志着中国白话通俗文学的崛起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397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0" y="0"/>
            <a:ext cx="0" cy="639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6840" y="1066680"/>
              <a:ext cx="268308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小说的兴起和繁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880" y="2743200"/>
              <a:ext cx="381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仿宋"/>
                </a:rPr>
                <a:t>唐代各式各样的人物成为了小说的主角，叙事情节生动，人物性格鲜明，描绘了唐代城市和农村生活的广阔画面，反映了时代的变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869000" y="990720"/>
              <a:ext cx="38941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667240" y="5715000"/>
              <a:ext cx="141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宋  李昉  等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太平广记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39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隋唐文化            贵族阶层到平民社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33520" y="762120"/>
            <a:ext cx="7489800" cy="5819760"/>
            <a:chOff x="533520" y="762120"/>
            <a:chExt cx="7489800" cy="5819760"/>
          </a:xfrm>
        </p:grpSpPr>
        <p:sp>
          <p:nvSpPr>
            <p:cNvPr id="112" name=""/>
            <p:cNvSpPr/>
            <p:nvPr/>
          </p:nvSpPr>
          <p:spPr>
            <a:xfrm>
              <a:off x="5340240" y="990720"/>
              <a:ext cx="2683080" cy="9471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小说的兴起和繁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533520" y="762120"/>
              <a:ext cx="3990960" cy="58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491440" y="5334120"/>
              <a:ext cx="125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李时人  编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Times New Roman"/>
                </a:rPr>
                <a:t>《全唐五代小说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4000" cy="639720"/>
            <a:chOff x="0" y="0"/>
            <a:chExt cx="9144000" cy="63972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9144000" cy="63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隋唐文化            贵族阶层到平民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11320" y="1089000"/>
            <a:ext cx="7194600" cy="1869840"/>
            <a:chOff x="1111320" y="1089000"/>
            <a:chExt cx="7194600" cy="1869840"/>
          </a:xfrm>
        </p:grpSpPr>
        <p:sp>
          <p:nvSpPr>
            <p:cNvPr id="122" name=""/>
            <p:cNvSpPr/>
            <p:nvPr/>
          </p:nvSpPr>
          <p:spPr>
            <a:xfrm>
              <a:off x="1111320" y="1089000"/>
              <a:ext cx="2811240" cy="52056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隋唐文学——俗讲与变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43000" y="243828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仿宋"/>
                  <a:ea typeface="华文仿宋"/>
                </a:rPr>
                <a:t>佛教进入中国后，为了宣扬自身的教义，很早就有了讲经的制度。在对下层百姓进行宣传时，为了做到通俗易懂，往往根据听众的口味，增加其中的故事情节，这种讲经叫做“俗讲”。唐朝中叶后，讲唱活动从寺院走向大街小巷，开始说唱中国传统民间故事，讲经文向变文演化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教育 隋唐文化</cp:keywords>
  <dc:language>en-US</dc:language>
  <cp:lastModifiedBy/>
  <cp:revision>0</cp:revision>
  <dc:subject/>
  <dc:title/>
</cp:coreProperties>
</file>