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jpeg" ContentType="image/jpeg"/>
  <Override PartName="/ppt/media/CAMERA.WAV" ContentType="audio/x-wav"/>
  <Override PartName="/ppt/media/LASER.WAV" ContentType="audio/x-wav"/>
  <Override PartName="/ppt/media/TYPE.WAV" ContentType="audio/x-wav"/>
  <Override PartName="/ppt/media/image6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011-6D56-4A08-8C43-78B47179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F81-E3BE-4A73-BCAA-D34FCB7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D3B-1AB7-41EE-8E33-456FE86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1FE-8C3E-4B54-BBE9-6851F746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90B-1708-451E-9E26-881039F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46F-2D18-4453-BD61-76DED5AA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47F-E884-47E1-A0AC-424E35A3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522-61D3-4CA2-9686-C1DEE8F4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253-2F80-4864-83C1-37C537CD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E00-31EF-4C36-8F3E-A25A1D3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E56-00F6-48B1-A51C-2B1D9BF8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463-5E48-469F-80AE-0984E88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04C-9846-4EC0-898C-F3E3AAA82C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WHOOSH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生态系统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989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5200" y="2438280"/>
            <a:ext cx="1399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生态系统的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06600" y="2438280"/>
            <a:ext cx="1399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食物链和食物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（一）生态系统的成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937040" cy="403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6095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池塘生态系统图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67652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、非生物物质中有没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有机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38560" y="3200400"/>
            <a:ext cx="41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、除绿色植物外，还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哪些生物是生产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38560" y="4648320"/>
            <a:ext cx="41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、为什么池塘的底泥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以用作肥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0480" y="2209680"/>
            <a:ext cx="79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447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观察与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非生物的物质和能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523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生产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057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消费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590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分解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小结：生态系统的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3276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生产者、消费者和分解者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1000" y="329256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分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86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生产者、消费者和分解者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02920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生产者、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者和分解者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联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4419360" cy="28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573120" cy="44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828720" cy="54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00800" y="4191120"/>
            <a:ext cx="382680" cy="31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086600" y="5410080"/>
            <a:ext cx="146160" cy="19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105520" y="5715000"/>
            <a:ext cx="1431720" cy="7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21960" y="609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（二）食物链和食物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038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、营养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9720" y="1981080"/>
            <a:ext cx="10335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青草—植食昆虫—青蛙—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25880" y="1905120"/>
            <a:ext cx="1033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一级  —  二级 — 三级—四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、食物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生物之间由于食物关系而形成的一种联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572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食物链上的每一个环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2362320"/>
            <a:ext cx="903240" cy="125280"/>
          </a:xfrm>
          <a:prstGeom prst="rightArrow">
            <a:avLst>
              <a:gd name="adj1" fmla="val 50000"/>
              <a:gd name="adj2" fmla="val 1802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3581280"/>
            <a:ext cx="976320" cy="108000"/>
          </a:xfrm>
          <a:prstGeom prst="rightArrow">
            <a:avLst>
              <a:gd name="adj1" fmla="val 50000"/>
              <a:gd name="adj2" fmla="val 226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029200"/>
            <a:ext cx="976320" cy="125280"/>
          </a:xfrm>
          <a:prstGeom prst="rightArrow">
            <a:avLst>
              <a:gd name="adj1" fmla="val 50000"/>
              <a:gd name="adj2" fmla="val 194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5943600"/>
            <a:ext cx="976320" cy="125280"/>
          </a:xfrm>
          <a:prstGeom prst="rightArrow">
            <a:avLst>
              <a:gd name="adj1" fmla="val 50000"/>
              <a:gd name="adj2" fmla="val 194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12000" y="1371600"/>
            <a:ext cx="223200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7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、食物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6781680" cy="423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35640" y="60199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Times New Roman"/>
              </a:rPr>
              <a:t>温带草原生态系统的食物网简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35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838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许多食物链相互交错连结的复杂营养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19360" y="1905120"/>
            <a:ext cx="91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食物网中共有多少条食物链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51600" y="1905120"/>
            <a:ext cx="546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最长的食物链是哪一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95480" y="1905120"/>
            <a:ext cx="91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哪些动物占有两个以上营养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52680" y="1905120"/>
            <a:ext cx="91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第三营养级的动物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7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总结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295280"/>
            <a:ext cx="6705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生态系统的结构的含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组成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营养结构：食物链和食物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42900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对营养级的再认识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食物网中同一环节上所有生物的总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800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、食物链和食物网是生态系统能量流动和物质循环的渠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 系统 结构</cp:keywords>
  <dc:language>en-US</dc:language>
  <cp:lastModifiedBy/>
  <cp:revision>0</cp:revision>
  <dc:subject/>
  <dc:title/>
</cp:coreProperties>
</file>