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E431-9BAD-4F88-862E-2448588C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735E-70C4-4E6E-B4A1-29DDDE8C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A82C-6573-4C7F-B072-3536D67B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471E-A8EC-4F92-A8B3-F0867879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F390-8FA2-4BB4-B1ED-B40554DA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374F-A6FF-4A4D-9827-C832E797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C235-1EC6-460B-8DFF-655DA9FE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CFA1-B4AE-4398-96F2-83BEF63A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E66E-4F0F-4ADB-84EA-24D87F10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1845-DD36-466D-B6DC-199A1357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77AC-59FA-4644-8CDB-02203A7A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211A-01EA-4610-8CAF-716EC430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6434-E08C-4400-AAC0-9BDE6E6C45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09600" y="3657600"/>
            <a:ext cx="47570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隶书"/>
                <a:ea typeface="隶书"/>
              </a:rPr>
              <a:t>生态系统的物质循环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21000" y="457200"/>
            <a:ext cx="563472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能量流动和物质循环的关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生态系统的存在是靠物质循环和能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动来维持的。生态系统的能量流动和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质循环都是通过食物键和食物网的渠道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现的，二者相互伴随进行，又相辅相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密不可分的统一整体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89280" y="1066680"/>
            <a:ext cx="1556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识图作答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5748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8305920" cy="3787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2200" y="152280"/>
            <a:ext cx="1708920" cy="702000"/>
          </a:xfrm>
          <a:prstGeom prst="rect">
            <a:avLst/>
          </a:prstGeom>
          <a:solidFill>
            <a:srgbClr val="00cc99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堂练习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31840" y="314280"/>
            <a:ext cx="698184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写出①②③④的生理过程及⑤产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方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        ②____         ③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         ⑤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碳在无机环境与生物群落之间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式进行循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碳循环中最简单的循环途径是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大气之间的循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69560" y="1828800"/>
            <a:ext cx="140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光合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31880" y="1752480"/>
            <a:ext cx="140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呼吸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03360" y="1854360"/>
            <a:ext cx="1771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微生物分解作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45880" y="2438280"/>
            <a:ext cx="140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呼吸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74360" y="2438280"/>
            <a:ext cx="852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燃烧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71320" y="3200400"/>
            <a:ext cx="999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O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4080" y="5257800"/>
            <a:ext cx="1160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绿色植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920000" y="6167520"/>
            <a:ext cx="7844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60360" y="1187280"/>
            <a:ext cx="2367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物质循环的概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20240" y="1936800"/>
            <a:ext cx="704448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组成生物体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化学元素，不断进行着从无机环境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生物群落，又从生物群落回到无机环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循环过程，这就是生态系统的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物质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36600" y="485640"/>
            <a:ext cx="84265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生物圈是地球上最大的生态系统，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物质循环带有全球性，这种物质循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又叫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生物地化循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66600" y="2590920"/>
            <a:ext cx="551556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生态系统的物质循环反复出现，循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动，不会消失，生物可反复利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42320" y="1066680"/>
            <a:ext cx="588096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碳循环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碳元素约占生物体干重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％，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有机化合物的“骨架”，没有碳就没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生命。碳在无机环境与生物群落之间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进行循环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106200"/>
            <a:ext cx="8915400" cy="6751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7680" y="9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3080" y="149400"/>
            <a:ext cx="1949760" cy="641160"/>
          </a:xfrm>
          <a:prstGeom prst="rect">
            <a:avLst/>
          </a:prstGeom>
          <a:solidFill>
            <a:srgbClr val="00cc99"/>
          </a:solidFill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碳的循环过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11840" y="1981080"/>
            <a:ext cx="471852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碳在无机自然环境中存在的形式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CO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和碳酸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石灰岩、珊瑚礁）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式存在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17664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925040" cy="1352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074320" y="2317680"/>
            <a:ext cx="50461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还有一部分生物遗体没有被分解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解，转变成为地下的石油和煤，这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暂时脱离循环，一经开采运到地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燃烧，仍可产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再返回碳循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47644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066680"/>
            <a:ext cx="89154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绿色植物的光合作用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进入生物群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循环                                          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有机物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植物的呼吸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进入无机环境     微生物的分解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燃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1981080"/>
            <a:ext cx="230040" cy="1981440"/>
          </a:xfrm>
          <a:custGeom>
            <a:avLst/>
            <a:gdLst/>
            <a:ahLst/>
            <a:rect l="l" t="t" r="r" b="b"/>
            <a:pathLst>
              <a:path w="145" h="1248">
                <a:moveTo>
                  <a:pt x="144" y="0"/>
                </a:moveTo>
                <a:lnTo>
                  <a:pt x="137" y="0"/>
                </a:lnTo>
                <a:lnTo>
                  <a:pt x="129" y="2"/>
                </a:lnTo>
                <a:lnTo>
                  <a:pt x="122" y="4"/>
                </a:lnTo>
                <a:lnTo>
                  <a:pt x="116" y="8"/>
                </a:lnTo>
                <a:lnTo>
                  <a:pt x="110" y="12"/>
                </a:lnTo>
                <a:lnTo>
                  <a:pt x="104" y="18"/>
                </a:lnTo>
                <a:lnTo>
                  <a:pt x="98" y="24"/>
                </a:lnTo>
                <a:lnTo>
                  <a:pt x="93" y="32"/>
                </a:lnTo>
                <a:lnTo>
                  <a:pt x="88" y="38"/>
                </a:lnTo>
                <a:lnTo>
                  <a:pt x="84" y="46"/>
                </a:lnTo>
                <a:lnTo>
                  <a:pt x="81" y="56"/>
                </a:lnTo>
                <a:lnTo>
                  <a:pt x="77" y="64"/>
                </a:lnTo>
                <a:lnTo>
                  <a:pt x="75" y="74"/>
                </a:lnTo>
                <a:lnTo>
                  <a:pt x="73" y="84"/>
                </a:lnTo>
                <a:lnTo>
                  <a:pt x="72" y="94"/>
                </a:lnTo>
                <a:lnTo>
                  <a:pt x="72" y="104"/>
                </a:lnTo>
                <a:lnTo>
                  <a:pt x="72" y="520"/>
                </a:lnTo>
                <a:lnTo>
                  <a:pt x="71" y="530"/>
                </a:lnTo>
                <a:lnTo>
                  <a:pt x="71" y="542"/>
                </a:lnTo>
                <a:lnTo>
                  <a:pt x="69" y="552"/>
                </a:lnTo>
                <a:lnTo>
                  <a:pt x="66" y="560"/>
                </a:lnTo>
                <a:lnTo>
                  <a:pt x="63" y="570"/>
                </a:lnTo>
                <a:lnTo>
                  <a:pt x="60" y="578"/>
                </a:lnTo>
                <a:lnTo>
                  <a:pt x="55" y="586"/>
                </a:lnTo>
                <a:lnTo>
                  <a:pt x="51" y="594"/>
                </a:lnTo>
                <a:lnTo>
                  <a:pt x="46" y="600"/>
                </a:lnTo>
                <a:lnTo>
                  <a:pt x="40" y="606"/>
                </a:lnTo>
                <a:lnTo>
                  <a:pt x="34" y="612"/>
                </a:lnTo>
                <a:lnTo>
                  <a:pt x="28" y="616"/>
                </a:lnTo>
                <a:lnTo>
                  <a:pt x="22" y="620"/>
                </a:lnTo>
                <a:lnTo>
                  <a:pt x="15" y="622"/>
                </a:lnTo>
                <a:lnTo>
                  <a:pt x="7" y="624"/>
                </a:lnTo>
                <a:lnTo>
                  <a:pt x="0" y="624"/>
                </a:lnTo>
                <a:lnTo>
                  <a:pt x="7" y="624"/>
                </a:lnTo>
                <a:lnTo>
                  <a:pt x="15" y="625"/>
                </a:lnTo>
                <a:lnTo>
                  <a:pt x="22" y="627"/>
                </a:lnTo>
                <a:lnTo>
                  <a:pt x="28" y="631"/>
                </a:lnTo>
                <a:lnTo>
                  <a:pt x="34" y="635"/>
                </a:lnTo>
                <a:lnTo>
                  <a:pt x="40" y="641"/>
                </a:lnTo>
                <a:lnTo>
                  <a:pt x="46" y="647"/>
                </a:lnTo>
                <a:lnTo>
                  <a:pt x="51" y="655"/>
                </a:lnTo>
                <a:lnTo>
                  <a:pt x="55" y="661"/>
                </a:lnTo>
                <a:lnTo>
                  <a:pt x="60" y="669"/>
                </a:lnTo>
                <a:lnTo>
                  <a:pt x="63" y="679"/>
                </a:lnTo>
                <a:lnTo>
                  <a:pt x="66" y="687"/>
                </a:lnTo>
                <a:lnTo>
                  <a:pt x="69" y="697"/>
                </a:lnTo>
                <a:lnTo>
                  <a:pt x="71" y="707"/>
                </a:lnTo>
                <a:lnTo>
                  <a:pt x="71" y="717"/>
                </a:lnTo>
                <a:lnTo>
                  <a:pt x="72" y="727"/>
                </a:lnTo>
                <a:lnTo>
                  <a:pt x="72" y="1143"/>
                </a:lnTo>
                <a:lnTo>
                  <a:pt x="72" y="1153"/>
                </a:lnTo>
                <a:lnTo>
                  <a:pt x="73" y="1165"/>
                </a:lnTo>
                <a:lnTo>
                  <a:pt x="75" y="1175"/>
                </a:lnTo>
                <a:lnTo>
                  <a:pt x="77" y="1183"/>
                </a:lnTo>
                <a:lnTo>
                  <a:pt x="81" y="1193"/>
                </a:lnTo>
                <a:lnTo>
                  <a:pt x="84" y="1201"/>
                </a:lnTo>
                <a:lnTo>
                  <a:pt x="88" y="1209"/>
                </a:lnTo>
                <a:lnTo>
                  <a:pt x="93" y="1217"/>
                </a:lnTo>
                <a:lnTo>
                  <a:pt x="98" y="1223"/>
                </a:lnTo>
                <a:lnTo>
                  <a:pt x="104" y="1229"/>
                </a:lnTo>
                <a:lnTo>
                  <a:pt x="110" y="1235"/>
                </a:lnTo>
                <a:lnTo>
                  <a:pt x="116" y="1239"/>
                </a:lnTo>
                <a:lnTo>
                  <a:pt x="122" y="1243"/>
                </a:lnTo>
                <a:lnTo>
                  <a:pt x="129" y="1245"/>
                </a:lnTo>
                <a:lnTo>
                  <a:pt x="137" y="1247"/>
                </a:lnTo>
                <a:lnTo>
                  <a:pt x="144" y="1247"/>
                </a:lnTo>
              </a:path>
            </a:pathLst>
          </a:custGeom>
          <a:noFill/>
          <a:ln cap="rnd"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1523880"/>
            <a:ext cx="153720" cy="1068480"/>
          </a:xfrm>
          <a:custGeom>
            <a:avLst/>
            <a:gdLst/>
            <a:ahLst/>
            <a:rect l="l" t="t" r="r" b="b"/>
            <a:pathLst>
              <a:path w="97" h="673">
                <a:moveTo>
                  <a:pt x="96" y="0"/>
                </a:moveTo>
                <a:lnTo>
                  <a:pt x="91" y="0"/>
                </a:lnTo>
                <a:lnTo>
                  <a:pt x="86" y="1"/>
                </a:lnTo>
                <a:lnTo>
                  <a:pt x="82" y="2"/>
                </a:lnTo>
                <a:lnTo>
                  <a:pt x="77" y="4"/>
                </a:lnTo>
                <a:lnTo>
                  <a:pt x="73" y="6"/>
                </a:lnTo>
                <a:lnTo>
                  <a:pt x="69" y="10"/>
                </a:lnTo>
                <a:lnTo>
                  <a:pt x="65" y="13"/>
                </a:lnTo>
                <a:lnTo>
                  <a:pt x="62" y="16"/>
                </a:lnTo>
                <a:lnTo>
                  <a:pt x="59" y="20"/>
                </a:lnTo>
                <a:lnTo>
                  <a:pt x="56" y="25"/>
                </a:lnTo>
                <a:lnTo>
                  <a:pt x="54" y="29"/>
                </a:lnTo>
                <a:lnTo>
                  <a:pt x="52" y="34"/>
                </a:lnTo>
                <a:lnTo>
                  <a:pt x="50" y="39"/>
                </a:lnTo>
                <a:lnTo>
                  <a:pt x="49" y="44"/>
                </a:lnTo>
                <a:lnTo>
                  <a:pt x="48" y="51"/>
                </a:lnTo>
                <a:lnTo>
                  <a:pt x="48" y="56"/>
                </a:lnTo>
                <a:lnTo>
                  <a:pt x="48" y="280"/>
                </a:lnTo>
                <a:lnTo>
                  <a:pt x="48" y="285"/>
                </a:lnTo>
                <a:lnTo>
                  <a:pt x="47" y="292"/>
                </a:lnTo>
                <a:lnTo>
                  <a:pt x="46" y="297"/>
                </a:lnTo>
                <a:lnTo>
                  <a:pt x="44" y="302"/>
                </a:lnTo>
                <a:lnTo>
                  <a:pt x="42" y="307"/>
                </a:lnTo>
                <a:lnTo>
                  <a:pt x="40" y="311"/>
                </a:lnTo>
                <a:lnTo>
                  <a:pt x="37" y="316"/>
                </a:lnTo>
                <a:lnTo>
                  <a:pt x="34" y="320"/>
                </a:lnTo>
                <a:lnTo>
                  <a:pt x="31" y="323"/>
                </a:lnTo>
                <a:lnTo>
                  <a:pt x="27" y="326"/>
                </a:lnTo>
                <a:lnTo>
                  <a:pt x="23" y="330"/>
                </a:lnTo>
                <a:lnTo>
                  <a:pt x="19" y="332"/>
                </a:lnTo>
                <a:lnTo>
                  <a:pt x="14" y="334"/>
                </a:lnTo>
                <a:lnTo>
                  <a:pt x="10" y="335"/>
                </a:lnTo>
                <a:lnTo>
                  <a:pt x="5" y="336"/>
                </a:lnTo>
                <a:lnTo>
                  <a:pt x="0" y="336"/>
                </a:lnTo>
                <a:lnTo>
                  <a:pt x="5" y="336"/>
                </a:lnTo>
                <a:lnTo>
                  <a:pt x="10" y="337"/>
                </a:lnTo>
                <a:lnTo>
                  <a:pt x="14" y="338"/>
                </a:lnTo>
                <a:lnTo>
                  <a:pt x="19" y="340"/>
                </a:lnTo>
                <a:lnTo>
                  <a:pt x="23" y="342"/>
                </a:lnTo>
                <a:lnTo>
                  <a:pt x="27" y="346"/>
                </a:lnTo>
                <a:lnTo>
                  <a:pt x="31" y="349"/>
                </a:lnTo>
                <a:lnTo>
                  <a:pt x="34" y="352"/>
                </a:lnTo>
                <a:lnTo>
                  <a:pt x="37" y="356"/>
                </a:lnTo>
                <a:lnTo>
                  <a:pt x="40" y="361"/>
                </a:lnTo>
                <a:lnTo>
                  <a:pt x="42" y="365"/>
                </a:lnTo>
                <a:lnTo>
                  <a:pt x="44" y="370"/>
                </a:lnTo>
                <a:lnTo>
                  <a:pt x="46" y="375"/>
                </a:lnTo>
                <a:lnTo>
                  <a:pt x="47" y="380"/>
                </a:lnTo>
                <a:lnTo>
                  <a:pt x="48" y="387"/>
                </a:lnTo>
                <a:lnTo>
                  <a:pt x="48" y="392"/>
                </a:lnTo>
                <a:lnTo>
                  <a:pt x="48" y="616"/>
                </a:lnTo>
                <a:lnTo>
                  <a:pt x="48" y="621"/>
                </a:lnTo>
                <a:lnTo>
                  <a:pt x="49" y="628"/>
                </a:lnTo>
                <a:lnTo>
                  <a:pt x="50" y="633"/>
                </a:lnTo>
                <a:lnTo>
                  <a:pt x="52" y="637"/>
                </a:lnTo>
                <a:lnTo>
                  <a:pt x="54" y="643"/>
                </a:lnTo>
                <a:lnTo>
                  <a:pt x="56" y="647"/>
                </a:lnTo>
                <a:lnTo>
                  <a:pt x="59" y="651"/>
                </a:lnTo>
                <a:lnTo>
                  <a:pt x="62" y="656"/>
                </a:lnTo>
                <a:lnTo>
                  <a:pt x="65" y="659"/>
                </a:lnTo>
                <a:lnTo>
                  <a:pt x="69" y="662"/>
                </a:lnTo>
                <a:lnTo>
                  <a:pt x="73" y="665"/>
                </a:lnTo>
                <a:lnTo>
                  <a:pt x="77" y="668"/>
                </a:lnTo>
                <a:lnTo>
                  <a:pt x="82" y="670"/>
                </a:lnTo>
                <a:lnTo>
                  <a:pt x="86" y="671"/>
                </a:lnTo>
                <a:lnTo>
                  <a:pt x="91" y="672"/>
                </a:lnTo>
                <a:lnTo>
                  <a:pt x="96" y="672"/>
                </a:lnTo>
              </a:path>
            </a:pathLst>
          </a:custGeom>
          <a:noFill/>
          <a:ln cap="rnd"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3581280"/>
            <a:ext cx="228600" cy="1068480"/>
          </a:xfrm>
          <a:custGeom>
            <a:avLst/>
            <a:gdLst/>
            <a:ahLst/>
            <a:rect l="l" t="t" r="r" b="b"/>
            <a:pathLst>
              <a:path w="97" h="673">
                <a:moveTo>
                  <a:pt x="96" y="0"/>
                </a:moveTo>
                <a:lnTo>
                  <a:pt x="91" y="0"/>
                </a:lnTo>
                <a:lnTo>
                  <a:pt x="86" y="1"/>
                </a:lnTo>
                <a:lnTo>
                  <a:pt x="82" y="2"/>
                </a:lnTo>
                <a:lnTo>
                  <a:pt x="77" y="4"/>
                </a:lnTo>
                <a:lnTo>
                  <a:pt x="73" y="6"/>
                </a:lnTo>
                <a:lnTo>
                  <a:pt x="69" y="10"/>
                </a:lnTo>
                <a:lnTo>
                  <a:pt x="65" y="13"/>
                </a:lnTo>
                <a:lnTo>
                  <a:pt x="62" y="16"/>
                </a:lnTo>
                <a:lnTo>
                  <a:pt x="59" y="20"/>
                </a:lnTo>
                <a:lnTo>
                  <a:pt x="56" y="25"/>
                </a:lnTo>
                <a:lnTo>
                  <a:pt x="54" y="29"/>
                </a:lnTo>
                <a:lnTo>
                  <a:pt x="52" y="34"/>
                </a:lnTo>
                <a:lnTo>
                  <a:pt x="50" y="39"/>
                </a:lnTo>
                <a:lnTo>
                  <a:pt x="49" y="44"/>
                </a:lnTo>
                <a:lnTo>
                  <a:pt x="48" y="51"/>
                </a:lnTo>
                <a:lnTo>
                  <a:pt x="48" y="56"/>
                </a:lnTo>
                <a:lnTo>
                  <a:pt x="48" y="280"/>
                </a:lnTo>
                <a:lnTo>
                  <a:pt x="48" y="285"/>
                </a:lnTo>
                <a:lnTo>
                  <a:pt x="47" y="292"/>
                </a:lnTo>
                <a:lnTo>
                  <a:pt x="46" y="297"/>
                </a:lnTo>
                <a:lnTo>
                  <a:pt x="44" y="302"/>
                </a:lnTo>
                <a:lnTo>
                  <a:pt x="42" y="307"/>
                </a:lnTo>
                <a:lnTo>
                  <a:pt x="40" y="311"/>
                </a:lnTo>
                <a:lnTo>
                  <a:pt x="37" y="316"/>
                </a:lnTo>
                <a:lnTo>
                  <a:pt x="34" y="320"/>
                </a:lnTo>
                <a:lnTo>
                  <a:pt x="31" y="323"/>
                </a:lnTo>
                <a:lnTo>
                  <a:pt x="27" y="326"/>
                </a:lnTo>
                <a:lnTo>
                  <a:pt x="23" y="330"/>
                </a:lnTo>
                <a:lnTo>
                  <a:pt x="19" y="332"/>
                </a:lnTo>
                <a:lnTo>
                  <a:pt x="14" y="334"/>
                </a:lnTo>
                <a:lnTo>
                  <a:pt x="10" y="335"/>
                </a:lnTo>
                <a:lnTo>
                  <a:pt x="5" y="336"/>
                </a:lnTo>
                <a:lnTo>
                  <a:pt x="0" y="336"/>
                </a:lnTo>
                <a:lnTo>
                  <a:pt x="5" y="336"/>
                </a:lnTo>
                <a:lnTo>
                  <a:pt x="10" y="337"/>
                </a:lnTo>
                <a:lnTo>
                  <a:pt x="14" y="338"/>
                </a:lnTo>
                <a:lnTo>
                  <a:pt x="19" y="340"/>
                </a:lnTo>
                <a:lnTo>
                  <a:pt x="23" y="342"/>
                </a:lnTo>
                <a:lnTo>
                  <a:pt x="27" y="346"/>
                </a:lnTo>
                <a:lnTo>
                  <a:pt x="31" y="349"/>
                </a:lnTo>
                <a:lnTo>
                  <a:pt x="34" y="352"/>
                </a:lnTo>
                <a:lnTo>
                  <a:pt x="37" y="356"/>
                </a:lnTo>
                <a:lnTo>
                  <a:pt x="40" y="361"/>
                </a:lnTo>
                <a:lnTo>
                  <a:pt x="42" y="365"/>
                </a:lnTo>
                <a:lnTo>
                  <a:pt x="44" y="370"/>
                </a:lnTo>
                <a:lnTo>
                  <a:pt x="46" y="375"/>
                </a:lnTo>
                <a:lnTo>
                  <a:pt x="47" y="380"/>
                </a:lnTo>
                <a:lnTo>
                  <a:pt x="48" y="387"/>
                </a:lnTo>
                <a:lnTo>
                  <a:pt x="48" y="392"/>
                </a:lnTo>
                <a:lnTo>
                  <a:pt x="48" y="616"/>
                </a:lnTo>
                <a:lnTo>
                  <a:pt x="48" y="621"/>
                </a:lnTo>
                <a:lnTo>
                  <a:pt x="49" y="628"/>
                </a:lnTo>
                <a:lnTo>
                  <a:pt x="50" y="633"/>
                </a:lnTo>
                <a:lnTo>
                  <a:pt x="52" y="637"/>
                </a:lnTo>
                <a:lnTo>
                  <a:pt x="54" y="643"/>
                </a:lnTo>
                <a:lnTo>
                  <a:pt x="56" y="647"/>
                </a:lnTo>
                <a:lnTo>
                  <a:pt x="59" y="651"/>
                </a:lnTo>
                <a:lnTo>
                  <a:pt x="62" y="656"/>
                </a:lnTo>
                <a:lnTo>
                  <a:pt x="65" y="659"/>
                </a:lnTo>
                <a:lnTo>
                  <a:pt x="69" y="662"/>
                </a:lnTo>
                <a:lnTo>
                  <a:pt x="73" y="665"/>
                </a:lnTo>
                <a:lnTo>
                  <a:pt x="77" y="668"/>
                </a:lnTo>
                <a:lnTo>
                  <a:pt x="82" y="670"/>
                </a:lnTo>
                <a:lnTo>
                  <a:pt x="86" y="671"/>
                </a:lnTo>
                <a:lnTo>
                  <a:pt x="91" y="672"/>
                </a:lnTo>
                <a:lnTo>
                  <a:pt x="96" y="672"/>
                </a:lnTo>
              </a:path>
            </a:pathLst>
          </a:custGeom>
          <a:noFill/>
          <a:ln cap="rnd"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01000" y="228600"/>
            <a:ext cx="1099440" cy="702000"/>
          </a:xfrm>
          <a:prstGeom prst="rect">
            <a:avLst/>
          </a:prstGeom>
          <a:solidFill>
            <a:srgbClr val="00cc99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38960" y="1295280"/>
            <a:ext cx="399708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碳循环的形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碳在自然界中的存在形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碳在生物体内的存在形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碳进入生物体的途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碳在生物体之间传递途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碳进入大气的途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65600" y="1371600"/>
            <a:ext cx="1341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75000" y="1981080"/>
            <a:ext cx="2316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CO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和碳酸盐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2590920"/>
            <a:ext cx="394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含碳有机物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08160" y="3200400"/>
            <a:ext cx="2623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绿色植物的光合作用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62680" y="3809880"/>
            <a:ext cx="1160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食物链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83360" y="4343400"/>
            <a:ext cx="257760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生物的呼吸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分解者有分解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化石燃料的燃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生态系统 物质循环</cp:keywords>
  <dc:language>en-US</dc:language>
  <cp:lastModifiedBy/>
  <cp:revision>0</cp:revision>
  <dc:subject/>
  <dc:title/>
</cp:coreProperties>
</file>