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2.wmf" ContentType="image/x-wmf"/>
  <Override PartName="/ppt/media/image7.png" ContentType="image/png"/>
  <Override PartName="/ppt/media/image9.png" ContentType="image/png"/>
  <Override PartName="/ppt/media/image11.png" ContentType="image/png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00CF-0EF9-4C74-8B2C-1758BD6E1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752120" y="456192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C8C0-CC01-43F5-9F46-36CF2FAFC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DA1D4E-3A38-4F3F-AB5C-FEBF1B201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147ADE-7AF7-4BA0-A7E9-5F6DFDA51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685800" y="856800"/>
            <a:ext cx="7772400" cy="105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53E2CF-B249-4721-AAEF-D34CD1953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495B47-2E9A-4F54-B282-1A6838392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2484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5393BD6-DE4D-4D2C-AC96-7771386C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4A268FB-1571-4118-8A72-C7F0A202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1752120" y="456192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92A7CB-C654-4B56-A84B-6CA5D88CC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2484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574436-BC53-483A-BB97-0FFEAEC60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58164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41116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175212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58164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541116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883F3D-470D-4D63-A0A4-7AECEAB06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FBC9BFF-BCA5-4712-87E9-77AF1D92C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2484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F84C-BB64-4296-BDCA-1C2E3AB1C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95EA3CE-8EE8-4EAA-8128-FAABB428E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8C310C1-2FAB-4772-BB9F-E43C3E7FE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AC31153-4FAD-49A2-AF71-649DC11D2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D1B66A0-AC45-4526-8FEA-545C91075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685800" y="856800"/>
            <a:ext cx="7772400" cy="105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E97ACFF-4878-446F-987C-EB7AC2FAD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9EF4A51-8E51-4F9D-9BE1-E3CFFF428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2484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046C16-5190-4718-82AF-DB48D98C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2960A1-B00E-4C9B-8455-65E5C1D8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1752120" y="456192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70628BB-6483-4D47-B147-455836D19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52484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9EF219D-E059-4CC9-AF78-1269E625F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8164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41116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75212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8164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41116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B553-DDCB-48D8-BDB4-C61B22CB6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58164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541116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175212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58164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541116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30D0EA6-68CD-488F-AA16-646D4EB5D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215ADF0-DF3E-4585-B9D9-DFC187B3E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4D35989-19BC-4BF2-9EB3-1DA1396F5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6314ABC-B499-4363-B76F-023894C8D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468F934-6397-4E8B-B1D9-284F4686D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037B42F-13A3-41C5-8F00-7DD66D665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ubTitle"/>
          </p:nvPr>
        </p:nvSpPr>
        <p:spPr>
          <a:xfrm>
            <a:off x="685800" y="856800"/>
            <a:ext cx="7772400" cy="105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756EC5D-FE51-42AE-880C-ADD5E7937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0305C4C-F729-432A-9D50-A75686F50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2484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70DB93E-01DB-412B-8F9E-17F01141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0C569DB-B2B9-476E-A92B-86A5BAAC4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42E6E-7D38-4875-8828-5ACD7356E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1752120" y="456192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9A7DDE4-08CA-4D20-928C-1A5F366EE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52484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FF5BA8F-2A78-4281-B459-E014D85E4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358164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541116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175212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6"/>
          <p:cNvSpPr>
            <a:spLocks noGrp="1"/>
          </p:cNvSpPr>
          <p:nvPr>
            <p:ph/>
          </p:nvPr>
        </p:nvSpPr>
        <p:spPr>
          <a:xfrm>
            <a:off x="358164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7"/>
          <p:cNvSpPr>
            <a:spLocks noGrp="1"/>
          </p:cNvSpPr>
          <p:nvPr>
            <p:ph/>
          </p:nvPr>
        </p:nvSpPr>
        <p:spPr>
          <a:xfrm>
            <a:off x="541116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9F50DFC-5D21-458A-8BE4-1730C3784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2E23F62-B49B-4D2F-8E9B-D1199E76D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06AABD7-DBAA-4578-8010-02E97AA5A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88DE6C7-5296-4767-896D-3288E3F3A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AAD9F05-32CE-47E2-AED9-2AD9AA611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4A52548-C8BC-4ED0-996C-7ACA0D3F0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ubTitle"/>
          </p:nvPr>
        </p:nvSpPr>
        <p:spPr>
          <a:xfrm>
            <a:off x="685800" y="856800"/>
            <a:ext cx="7772400" cy="105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8254654-27B9-41F7-B7FE-58D595A6D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B7E14D2-C47D-42D0-94E3-19E3B88F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275F7-714B-44B7-A4E8-224D0E7E1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2484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F074013-9013-476D-BF6C-409A5BC7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2AB9CFE-1159-4AB5-9D21-7F9941DF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1752120" y="456192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DCA5673-A2FE-4849-B45B-830B7CD39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52484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062F92C-775C-4EC7-8A50-6CCE4A2DD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358164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541116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175212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6"/>
          <p:cNvSpPr>
            <a:spLocks noGrp="1"/>
          </p:cNvSpPr>
          <p:nvPr>
            <p:ph/>
          </p:nvPr>
        </p:nvSpPr>
        <p:spPr>
          <a:xfrm>
            <a:off x="358164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7"/>
          <p:cNvSpPr>
            <a:spLocks noGrp="1"/>
          </p:cNvSpPr>
          <p:nvPr>
            <p:ph/>
          </p:nvPr>
        </p:nvSpPr>
        <p:spPr>
          <a:xfrm>
            <a:off x="541116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AEB61B5-1EAD-49D5-BD89-6976B5CA4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FCE42-2A96-4447-97EC-A8BDD7DCC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ubTitle"/>
          </p:nvPr>
        </p:nvSpPr>
        <p:spPr>
          <a:xfrm>
            <a:off x="685800" y="856800"/>
            <a:ext cx="7772400" cy="105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52484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1752120" y="456192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2484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358164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541116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175212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6"/>
          <p:cNvSpPr>
            <a:spLocks noGrp="1"/>
          </p:cNvSpPr>
          <p:nvPr>
            <p:ph/>
          </p:nvPr>
        </p:nvSpPr>
        <p:spPr>
          <a:xfrm>
            <a:off x="358164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7"/>
          <p:cNvSpPr>
            <a:spLocks noGrp="1"/>
          </p:cNvSpPr>
          <p:nvPr>
            <p:ph/>
          </p:nvPr>
        </p:nvSpPr>
        <p:spPr>
          <a:xfrm>
            <a:off x="541116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4C0C6-8775-4172-969E-74235A44F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685800" y="856800"/>
            <a:ext cx="7772400" cy="105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2484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1752120" y="456192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2484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58164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541116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175212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58164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541116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8908209-E628-4671-BB7C-11348E0BC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C4CD5-D00A-431C-AFE4-D4F273DBB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E84254D-E6E3-4048-8C93-3306FF0E9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D537F9D-E6B7-4960-9A6D-D4C3B4D22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0246132-9516-414A-B501-2D54C1A2E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8F6D771-FDAE-418F-A3F3-8269715AC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ubTitle"/>
          </p:nvPr>
        </p:nvSpPr>
        <p:spPr>
          <a:xfrm>
            <a:off x="685800" y="856800"/>
            <a:ext cx="7772400" cy="105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6188B03-0FE3-4D40-A42D-CE6B3059C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C980660-4EBE-48B0-B01D-847B9F2D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52484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A35A627-A3C7-4DB2-B597-6A104541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828427B-ABE6-4783-AAA0-6E1F84B1E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1752120" y="456192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DEB48AB-BD67-4DC2-A63E-01AAF001F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452484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C586A4E-5B79-4DE2-8A10-E6DDDB089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856800"/>
            <a:ext cx="7772400" cy="105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6FF6F-AA0E-43A7-B5B5-BF9EB256F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358164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541116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175212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6"/>
          <p:cNvSpPr>
            <a:spLocks noGrp="1"/>
          </p:cNvSpPr>
          <p:nvPr>
            <p:ph/>
          </p:nvPr>
        </p:nvSpPr>
        <p:spPr>
          <a:xfrm>
            <a:off x="358164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7"/>
          <p:cNvSpPr>
            <a:spLocks noGrp="1"/>
          </p:cNvSpPr>
          <p:nvPr>
            <p:ph/>
          </p:nvPr>
        </p:nvSpPr>
        <p:spPr>
          <a:xfrm>
            <a:off x="541116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D90AEA9-F605-4E68-99BB-C8CA30C7E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9DEB396-D725-44FB-8616-0090AB825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BC96D95-887C-4492-880D-648A25CC3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934D3C2-3C83-484A-AED0-8C9984E5A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C33A145-7BF4-4D1F-9A49-F4B228D80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EC01C28-8586-4BE9-88FC-B9C051282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subTitle"/>
          </p:nvPr>
        </p:nvSpPr>
        <p:spPr>
          <a:xfrm>
            <a:off x="685800" y="856800"/>
            <a:ext cx="7772400" cy="105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8ADBEB3-483A-4E67-BCF6-DC8E41762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3C29351-2A66-4477-824F-DFEAF389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2484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93E1140-DB1C-4778-B26F-10EDFABB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EE2EAF4-AC11-4A5C-AA6B-7AEE6BC58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8E07F-93DD-4E27-B2E2-F80EC86F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1752120" y="456192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D6ED679-FBD1-4F1B-8D8A-28118937E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5"/>
          <p:cNvSpPr>
            <a:spLocks noGrp="1"/>
          </p:cNvSpPr>
          <p:nvPr>
            <p:ph/>
          </p:nvPr>
        </p:nvSpPr>
        <p:spPr>
          <a:xfrm>
            <a:off x="452484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2F276B5-105C-4AEC-8002-AADE28B98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358164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541116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/>
          </p:nvPr>
        </p:nvSpPr>
        <p:spPr>
          <a:xfrm>
            <a:off x="175212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6"/>
          <p:cNvSpPr>
            <a:spLocks noGrp="1"/>
          </p:cNvSpPr>
          <p:nvPr>
            <p:ph/>
          </p:nvPr>
        </p:nvSpPr>
        <p:spPr>
          <a:xfrm>
            <a:off x="358164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7"/>
          <p:cNvSpPr>
            <a:spLocks noGrp="1"/>
          </p:cNvSpPr>
          <p:nvPr>
            <p:ph/>
          </p:nvPr>
        </p:nvSpPr>
        <p:spPr>
          <a:xfrm>
            <a:off x="541116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D010332-AF37-4A66-9F1A-C36FD17DB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C15E2D2-540E-4D27-A4DB-A66378C58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55939F3-2AE8-4712-8A25-3BC5CE6D7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C99702D-E17D-4825-B820-26AC808FB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82207EF-87E3-4F78-B4BE-DA954F537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F8DACF8-8A2C-44AF-B5FC-C22E551B2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ubTitle"/>
          </p:nvPr>
        </p:nvSpPr>
        <p:spPr>
          <a:xfrm>
            <a:off x="685800" y="856800"/>
            <a:ext cx="7772400" cy="105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06CF833-660E-45E3-8383-FB76B70B2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9EDBF64-95AA-44AC-8B93-326122F3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5365-13AC-46A6-A0AF-4FD9A879C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2484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9BB35-4D25-42C3-AEA1-805F00AA8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52484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4A8C138-35CD-48CD-BDE7-A538246B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80FB0BF-D7CA-443B-B73F-79128454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1752120" y="456192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C0ED1AA-B7AB-46E5-8252-4BE6BC3B9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2484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4A86F7D-4474-429D-B1BF-767F2CBF3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358164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541116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/>
          </p:nvPr>
        </p:nvSpPr>
        <p:spPr>
          <a:xfrm>
            <a:off x="175212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6"/>
          <p:cNvSpPr>
            <a:spLocks noGrp="1"/>
          </p:cNvSpPr>
          <p:nvPr>
            <p:ph/>
          </p:nvPr>
        </p:nvSpPr>
        <p:spPr>
          <a:xfrm>
            <a:off x="358164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7"/>
          <p:cNvSpPr>
            <a:spLocks noGrp="1"/>
          </p:cNvSpPr>
          <p:nvPr>
            <p:ph/>
          </p:nvPr>
        </p:nvSpPr>
        <p:spPr>
          <a:xfrm>
            <a:off x="541116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5985293-A1FA-4313-AEA8-976C95046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0F7285F-2C90-4123-8BC0-ED5B31FA9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654B8F9-BB3D-4627-B238-36A3F4221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9F7651E-FD9E-45AB-82F1-DBF53945E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C3D09FB-626F-4011-8886-B78B7F6F2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BB5D6CB-91FB-448B-8887-465F1E29A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4E12C-7646-41D5-94D1-B815E0531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subTitle"/>
          </p:nvPr>
        </p:nvSpPr>
        <p:spPr>
          <a:xfrm>
            <a:off x="685800" y="856800"/>
            <a:ext cx="7772400" cy="105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DC8AC9C-CB44-41EC-B7E2-3DC040DAB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B012CD4-D6D7-4168-88E4-8F131877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452484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9B5F1E6-F7FF-40B7-B620-E07BA61F6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272020E-9824-44B6-A6FB-937143F2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1752120" y="456192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6867399-B1A6-428A-935B-AB10AC209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/>
          </p:nvPr>
        </p:nvSpPr>
        <p:spPr>
          <a:xfrm>
            <a:off x="452484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A041D47-E71F-47DA-9318-D4429F3BE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358164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541116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5"/>
          <p:cNvSpPr>
            <a:spLocks noGrp="1"/>
          </p:cNvSpPr>
          <p:nvPr>
            <p:ph/>
          </p:nvPr>
        </p:nvSpPr>
        <p:spPr>
          <a:xfrm>
            <a:off x="175212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6"/>
          <p:cNvSpPr>
            <a:spLocks noGrp="1"/>
          </p:cNvSpPr>
          <p:nvPr>
            <p:ph/>
          </p:nvPr>
        </p:nvSpPr>
        <p:spPr>
          <a:xfrm>
            <a:off x="358164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7"/>
          <p:cNvSpPr>
            <a:spLocks noGrp="1"/>
          </p:cNvSpPr>
          <p:nvPr>
            <p:ph/>
          </p:nvPr>
        </p:nvSpPr>
        <p:spPr>
          <a:xfrm>
            <a:off x="541116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DF66D80-0404-423E-AD64-B3BCFB008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BB782AF-9EAB-4307-93BB-7318D4CF8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B7F5FD2-5118-425F-8900-746C6993C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445BB53-457F-44C9-BB16-ADB9F5E52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752120" y="456192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4D637-30ED-40A7-A3CF-8B2CB9698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5A9FE20-7D5D-4AC7-8BBB-595C7BE0D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5BF627B-1FFD-4F7A-94E5-68F8363D4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subTitle"/>
          </p:nvPr>
        </p:nvSpPr>
        <p:spPr>
          <a:xfrm>
            <a:off x="685800" y="856800"/>
            <a:ext cx="7772400" cy="105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0FB1FFB-21C4-4441-BF9D-5E04735CE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97A7034-A163-402A-B198-1F4F781C8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452484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BED7B1F-DAB7-4209-A38D-99A1FEB0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73D1273-6C8D-4DFC-87B9-7D827DB60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1752120" y="456192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8CECB9C-6EF2-46B7-8966-BB1C80BE5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5"/>
          <p:cNvSpPr>
            <a:spLocks noGrp="1"/>
          </p:cNvSpPr>
          <p:nvPr>
            <p:ph/>
          </p:nvPr>
        </p:nvSpPr>
        <p:spPr>
          <a:xfrm>
            <a:off x="452484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2218E46-804B-46A4-9560-39238C978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358164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541116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5"/>
          <p:cNvSpPr>
            <a:spLocks noGrp="1"/>
          </p:cNvSpPr>
          <p:nvPr>
            <p:ph/>
          </p:nvPr>
        </p:nvSpPr>
        <p:spPr>
          <a:xfrm>
            <a:off x="175212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6"/>
          <p:cNvSpPr>
            <a:spLocks noGrp="1"/>
          </p:cNvSpPr>
          <p:nvPr>
            <p:ph/>
          </p:nvPr>
        </p:nvSpPr>
        <p:spPr>
          <a:xfrm>
            <a:off x="358164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7"/>
          <p:cNvSpPr>
            <a:spLocks noGrp="1"/>
          </p:cNvSpPr>
          <p:nvPr>
            <p:ph/>
          </p:nvPr>
        </p:nvSpPr>
        <p:spPr>
          <a:xfrm>
            <a:off x="541116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A7C2CB6-4A58-4864-BE87-AB9EADE59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F6010FB-9BB3-49D5-977A-4480F8CCB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2484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FB639-5B4E-440B-AC4A-77CBE6096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2225EB9-27E7-4437-A437-6765AF806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79A5296-BF7D-4E81-BC60-CF5B67FA5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FF438E5-10F2-439E-A387-7CCED35B2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8CF0340-594D-4085-BBB1-CC6835CEE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subTitle"/>
          </p:nvPr>
        </p:nvSpPr>
        <p:spPr>
          <a:xfrm>
            <a:off x="685800" y="856800"/>
            <a:ext cx="7772400" cy="105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A2D2EC4-6E18-4FDF-83F5-A376157F0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D952F7C-3FAE-4769-B4DE-F774E56A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452484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DC333D1-99C9-4765-B497-3D31FFFB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5F8615F-9BB0-4D17-B548-CB5F91A8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1752120" y="456192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A8D6EE0-85E5-4F75-8119-54BB7E788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5"/>
          <p:cNvSpPr>
            <a:spLocks noGrp="1"/>
          </p:cNvSpPr>
          <p:nvPr>
            <p:ph/>
          </p:nvPr>
        </p:nvSpPr>
        <p:spPr>
          <a:xfrm>
            <a:off x="452484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204D9D8-165C-48E2-9753-CC6E60462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8164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41116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75212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8164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41116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C56AC-9686-4F94-B758-4A862AE35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358164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41116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5"/>
          <p:cNvSpPr>
            <a:spLocks noGrp="1"/>
          </p:cNvSpPr>
          <p:nvPr>
            <p:ph/>
          </p:nvPr>
        </p:nvSpPr>
        <p:spPr>
          <a:xfrm>
            <a:off x="175212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6"/>
          <p:cNvSpPr>
            <a:spLocks noGrp="1"/>
          </p:cNvSpPr>
          <p:nvPr>
            <p:ph/>
          </p:nvPr>
        </p:nvSpPr>
        <p:spPr>
          <a:xfrm>
            <a:off x="358164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7"/>
          <p:cNvSpPr>
            <a:spLocks noGrp="1"/>
          </p:cNvSpPr>
          <p:nvPr>
            <p:ph/>
          </p:nvPr>
        </p:nvSpPr>
        <p:spPr>
          <a:xfrm>
            <a:off x="541116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7002EFA-BB6C-43E3-AAE4-4AF2DE4F5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1901C7-2A6B-450B-B587-55C4964B084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50B049-3E1E-481E-B8B7-71BAE3AA7F4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D4DAAA-4CBC-41F3-99D0-3FDC97E30F7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62805F-DF21-4A19-BAA0-8FD7A157644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2750C8-789E-4228-9CED-9E4B73E338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7C43-991F-4793-9983-2D4BB27F9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85800" y="856800"/>
            <a:ext cx="7772400" cy="105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9CBAB7-EBF1-4688-BF65-4EE65208DBE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FFB252-30AA-4ACD-8206-FE489E65D85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2484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A02589-CD0A-473D-B440-8781AAA71A4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C7B3D4-35E0-4573-96F1-428A3064ACD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52120" y="456192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B82F5E-FF70-43D2-BC3C-9D32D8946C2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2484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99F753-93A3-4A23-A881-CA225BAC0E0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8164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41116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175212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8164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541116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9C18D4-16D7-4E27-A24F-35DBB77F742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AA4D13-C45F-42C9-A2BD-0AFCCB9E519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F9AD6B-140E-4ADF-B8AB-C26C79E2227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75673D-8650-472A-A559-D53DE177A0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546D-74A2-4420-9367-16575563F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A68500-BBCC-4F3D-B865-800FB9BD5CF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09D803-8927-4479-85B6-B366AFB3618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685800" y="856800"/>
            <a:ext cx="7772400" cy="105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AD086A-9105-4F5B-92E2-CAF0232DA30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5AC20E-209A-4D8B-B65D-ADEE4121F02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2484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5496F4-7B7E-4D34-880D-F7DF72E6B40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49340B-D007-4DC1-A610-D4E07D11075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1752120" y="456192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855435-6E06-4C96-B756-F6CD2923009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2484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B3BE56-C03F-4D33-9D3F-698DC69244E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58164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41116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175212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58164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541116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C7C40E-E86A-491A-B808-F3D1551E365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FC80E3-E834-4B4D-A00D-A170695D7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6AE1-2674-44CA-B47C-ABB2B0F63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966C36-9164-42AA-AB3E-BD441842F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A9ED8D-E5F3-44F1-A814-059C6E44E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D0769A-532A-4B1E-96B4-4C062BEED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0E8211-4869-4E71-A05A-BEEC026FC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685800" y="856800"/>
            <a:ext cx="7772400" cy="105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E90AB4-BF71-4F6D-B157-0C36D17FF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46720C-4F5D-4F58-8AAA-14047C33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2484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8563ED-6A20-48CF-B862-D4A756D4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19EDD1-E05E-4C2C-A2E6-369F3398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1752120" y="456192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56925F-6AFB-4947-A801-70E2136C0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2484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2DBBEA-5D98-4B9C-BD4C-025021A13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856800"/>
            <a:ext cx="7772400" cy="105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9334-7071-40BF-8C82-21D1DC8E3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58164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41116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175212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58164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541116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A361CB-395F-405B-B560-929BC963B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43F835-F115-4BBA-B2BE-2D37452FA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6DDF60-E4C4-4F63-9AEB-FF796D894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7FB2D6-CF64-4D66-B63A-68F0BEA20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A099AF-13DC-428F-9BBA-17CAD26C9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7463BE-E791-449B-AD1A-8B5DE8C29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685800" y="856800"/>
            <a:ext cx="7772400" cy="105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ECEEC3-793A-40D1-8E32-73D6C5536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8AAC24-8B84-40CA-A8CB-F3F822B5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2484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58DE62-A5D1-4949-A06D-24449323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A482A5-6824-4B30-A034-6E538F237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B8F7-B9AF-4995-A7CD-BED26F18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1752120" y="456192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797D42-6D99-4390-9859-F96CA9225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2484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4064DF-D3B4-45A6-83A5-A26BDF695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58164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41116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175212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58164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541116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F363AB-E952-42E9-A2A2-D40866A7F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45EFC5-661A-4295-AAC8-92F93A625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C3D956-6261-427F-B6C2-E289639C5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D04C32-DAB4-4F8B-AEFC-0B025A761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F7E377-1595-4D2C-9DD4-D9C3F474E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8CB0C0-F1D9-4E86-BCB1-6E8E18BB1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685800" y="856800"/>
            <a:ext cx="7772400" cy="105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77BF13-5610-4EF9-AC17-4F98FAEDE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11DD41-4E35-4E13-8DA6-9FC30388E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2484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777A-DD9A-43EE-A198-9FB492C02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2484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D19377-0A0B-40D6-9595-E4A4DFC7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215C74-7418-48A6-8904-88A128A65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1752120" y="456192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E10FE9-749D-4078-B6F9-1A5DBE91A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52484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B3D86F-3405-48F7-9B6C-D3483A35F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58164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41116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175212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58164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541116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608C64-0012-42BF-B4BF-9A1B9034A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74CC77-EA2E-4E84-9A14-6B217710E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83AECD-8A03-457B-B619-F1A28CF65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77A992-6D30-4BDF-AA9F-B16779331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9D480C-6691-4167-880A-4A57B4438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C9643A-F697-473B-B2E2-85FA0A6CF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C3F9-3812-4CD1-951D-4C1CBA901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685800" y="856800"/>
            <a:ext cx="7772400" cy="105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263940-10C6-4FFF-8B33-163E930AF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99923F-A166-4094-9BB1-43C67496B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2484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876B27-2223-47FD-B660-DA459BFB3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232A6F-6CFC-4C75-9ABD-F1072A14C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1752120" y="456192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8E37E3-E521-4BD6-AE11-4061BB361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52484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C1E407-3D9B-44FF-8FD2-E264EAEEA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58164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541116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175212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58164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541116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0DBBF5-7307-4178-A1F5-0E89F9515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21C4B2-3241-44C1-BD52-9E948BDB7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98FA0C-A9F8-4A67-BEF1-D2384E810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0201542-B493-409D-8626-FFB4F4E94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C066A-D01D-4422-82FE-E0A529381766}" type="slidenum"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9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570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3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574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7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98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599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04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dt" idx="2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3901E-B041-4C56-A7F4-FBE7C5D0DAB4}" type="slidenum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99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0000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000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9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193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dt" idx="2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ahoma"/>
                <a:ea typeface="宋体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ftr" idx="2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ahoma"/>
                <a:ea typeface="宋体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 type="sldNum" idx="2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D190F-B785-4701-B6A9-32FDF1C72476}" type="slidenum">
              <a:rPr b="0" lang="zh-CN" sz="14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4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695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696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ff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98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699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99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99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01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0000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0000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9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dt" idx="3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94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94"/>
                </a:solidFill>
                <a:latin typeface="Tahoma"/>
                <a:ea typeface="宋体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 type="ftr" idx="3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94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94"/>
                </a:solidFill>
                <a:latin typeface="Tahoma"/>
                <a:ea typeface="宋体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 type="sldNum" idx="3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94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C2E1A-9C4E-4CC6-951F-CA8BA66C7F0D}" type="slidenum">
              <a:rPr b="0" lang="zh-CN" sz="1400" spc="-1" strike="noStrike">
                <a:solidFill>
                  <a:srgbClr val="000094"/>
                </a:solidFill>
                <a:latin typeface="Tahoma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4" name="" descr=""/>
          <p:cNvPicPr/>
          <p:nvPr/>
        </p:nvPicPr>
        <p:blipFill>
          <a:blip r:embed="rId3"/>
          <a:srcRect l="0" t="15170" r="0" b="0"/>
          <a:stretch/>
        </p:blipFill>
        <p:spPr>
          <a:xfrm>
            <a:off x="0" y="0"/>
            <a:ext cx="9148680" cy="13683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455760" y="229536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 fontScale="69000"/>
          </a:bodyPr>
          <a:p>
            <a:pPr marL="199440" indent="-199440">
              <a:lnSpc>
                <a:spcPct val="95000"/>
              </a:lnSpc>
              <a:spcBef>
                <a:spcPts val="2126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389880">
              <a:lnSpc>
                <a:spcPct val="95000"/>
              </a:lnSpc>
              <a:spcBef>
                <a:spcPts val="212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590400">
              <a:lnSpc>
                <a:spcPct val="95000"/>
              </a:lnSpc>
              <a:spcBef>
                <a:spcPts val="2126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780840">
              <a:lnSpc>
                <a:spcPct val="95000"/>
              </a:lnSpc>
              <a:spcBef>
                <a:spcPts val="212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980280">
              <a:lnSpc>
                <a:spcPct val="95000"/>
              </a:lnSpc>
              <a:spcBef>
                <a:spcPts val="2126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980280">
              <a:lnSpc>
                <a:spcPct val="95000"/>
              </a:lnSpc>
              <a:spcBef>
                <a:spcPts val="2126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980280">
              <a:lnSpc>
                <a:spcPct val="95000"/>
              </a:lnSpc>
              <a:spcBef>
                <a:spcPts val="2126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0D048AFB-61E7-4E24-942C-29842571BD80}" type="slidenum">
              <a:rPr b="0" lang="zh-CN" sz="900" spc="-1" strike="noStrike">
                <a:solidFill>
                  <a:srgbClr val="808080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50480" cy="6862680"/>
          </a:xfrm>
          <a:prstGeom prst="rect">
            <a:avLst/>
          </a:prstGeom>
          <a:ln w="0">
            <a:noFill/>
          </a:ln>
        </p:spPr>
      </p:pic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766440" y="2657520"/>
            <a:ext cx="7799400" cy="1114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6819A13C-F115-4B4F-BED7-D0EE56AB9024}" type="slidenum">
              <a:rPr b="0" lang="zh-CN" sz="900" spc="-1" strike="noStrike">
                <a:solidFill>
                  <a:srgbClr val="808080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079640" y="6634080"/>
            <a:ext cx="1348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Arial"/>
                <a:ea typeface="宋体"/>
              </a:rPr>
              <a:t>© 2000, Cisco Systems, Inc.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29520" y="6603480"/>
            <a:ext cx="103356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宋体"/>
              </a:rPr>
              <a:t>Networkers 260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51a07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f4b4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551a07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6666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 type="dt" idx="33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 type="ftr" idx="34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 type="sldNum" idx="35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161E7-FDBF-4625-8115-099CA18AEC4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831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551a07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dt" idx="36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 type="ftr" idx="37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 type="sldNum" idx="38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7697E-6520-455C-BE42-9A417C7B604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51a07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99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3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914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acac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15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916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e3e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e3e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bd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bd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3d3d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3d3d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bd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e3e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41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942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7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958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0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961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0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eaea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eaea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dt" idx="39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 type="ftr" idx="40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 type="sldNum" idx="41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31D61-19BF-4F56-AD4C-0FAC62D06177}" type="slidenum">
              <a: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9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20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acac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1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22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e3e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e3e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bd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bd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3d3d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3d3d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bd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e3e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47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048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3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064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6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067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6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eaea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eaea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dt" idx="42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 type="ftr" idx="43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 type="sldNum" idx="44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18B5D-D00E-4978-AB10-9180F06B9404}" type="slidenum">
              <a: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4" name=""/>
          <p:cNvGrpSpPr/>
          <p:nvPr/>
        </p:nvGrpSpPr>
        <p:grpSpPr>
          <a:xfrm>
            <a:off x="0" y="0"/>
            <a:ext cx="2484000" cy="6858000"/>
            <a:chOff x="0" y="0"/>
            <a:chExt cx="2484000" cy="6858000"/>
          </a:xfrm>
        </p:grpSpPr>
        <p:sp>
          <p:nvSpPr>
            <p:cNvPr id="1125" name=""/>
            <p:cNvSpPr/>
            <p:nvPr/>
          </p:nvSpPr>
          <p:spPr>
            <a:xfrm>
              <a:off x="1845360" y="0"/>
              <a:ext cx="63864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26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99332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2268360" y="228240"/>
            <a:ext cx="6570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2268360" y="1600200"/>
            <a:ext cx="6570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 type="dt" idx="45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 type="ftr" idx="4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 type="sldNum" idx="47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39D1C-FCD7-4AE8-8F37-45C4F1EDEC71}" type="slidenum">
              <a: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2ECA4-E07D-4FF7-B853-4FE6FFE2EA24}" type="slidenum"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169" name="PlaceHolder 1"/>
          <p:cNvSpPr>
            <a:spLocks noGrp="1"/>
          </p:cNvSpPr>
          <p:nvPr>
            <p:ph type="dt" idx="48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 type="ftr" idx="4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 type="sldNum" idx="5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DEA20-BF6F-4E55-8ACB-8785262403E9}" type="slidenum">
              <a: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380880" y="190476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4000"/>
          </a:bodyPr>
          <a:p>
            <a:pPr marL="317520" indent="-317520">
              <a:spcBef>
                <a:spcPts val="1049"/>
              </a:spcBef>
              <a:spcAft>
                <a:spcPts val="150"/>
              </a:spcAft>
              <a:buClr>
                <a:srgbClr val="003399"/>
              </a:buClr>
              <a:buSzPct val="90000"/>
              <a:buFont typeface="Wingdings" charset="2"/>
              <a:buChar char=""/>
              <a:tabLst>
                <a:tab algn="l" pos="736560"/>
                <a:tab algn="l" pos="1104840"/>
                <a:tab algn="l" pos="1473120"/>
                <a:tab algn="l" pos="1841400"/>
                <a:tab algn="l" pos="2209680"/>
                <a:tab algn="l" pos="2577960"/>
                <a:tab algn="l" pos="2946240"/>
                <a:tab algn="l" pos="3314880"/>
                <a:tab algn="l" pos="3683160"/>
                <a:tab algn="l" pos="4051440"/>
                <a:tab algn="l" pos="4419720"/>
                <a:tab algn="l" pos="4788000"/>
                <a:tab algn="l" pos="5156280"/>
                <a:tab algn="l" pos="5524560"/>
                <a:tab algn="l" pos="5892840"/>
                <a:tab algn="l" pos="6261120"/>
                <a:tab algn="l" pos="6629400"/>
                <a:tab algn="l" pos="6997680"/>
                <a:tab algn="l" pos="7365960"/>
                <a:tab algn="l" pos="7734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2680" indent="-264960">
              <a:spcBef>
                <a:spcPts val="1049"/>
              </a:spcBef>
              <a:spcAft>
                <a:spcPts val="150"/>
              </a:spcAft>
              <a:buClr>
                <a:srgbClr val="003399"/>
              </a:buClr>
              <a:buSzPct val="80000"/>
              <a:buFont typeface="Wingdings" charset="2"/>
              <a:buChar char=""/>
              <a:tabLst>
                <a:tab algn="l" pos="736560"/>
                <a:tab algn="l" pos="1104840"/>
                <a:tab algn="l" pos="1473120"/>
                <a:tab algn="l" pos="1841400"/>
                <a:tab algn="l" pos="2209680"/>
                <a:tab algn="l" pos="2577960"/>
                <a:tab algn="l" pos="2946240"/>
                <a:tab algn="l" pos="3314880"/>
                <a:tab algn="l" pos="3683160"/>
                <a:tab algn="l" pos="4051440"/>
                <a:tab algn="l" pos="4419720"/>
                <a:tab algn="l" pos="4788000"/>
                <a:tab algn="l" pos="5156280"/>
                <a:tab algn="l" pos="5524560"/>
                <a:tab algn="l" pos="5892840"/>
                <a:tab algn="l" pos="6261120"/>
                <a:tab algn="l" pos="6629400"/>
                <a:tab algn="l" pos="6997680"/>
                <a:tab algn="l" pos="7365960"/>
                <a:tab algn="l" pos="7734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6000" indent="-213480">
              <a:spcBef>
                <a:spcPts val="1049"/>
              </a:spcBef>
              <a:spcAft>
                <a:spcPts val="150"/>
              </a:spcAft>
              <a:buClr>
                <a:srgbClr val="003399"/>
              </a:buClr>
              <a:buSzPct val="80000"/>
              <a:buFont typeface="Wingdings" charset="2"/>
              <a:buChar char=""/>
              <a:tabLst>
                <a:tab algn="l" pos="736560"/>
                <a:tab algn="l" pos="1104840"/>
                <a:tab algn="l" pos="1473120"/>
                <a:tab algn="l" pos="1841400"/>
                <a:tab algn="l" pos="2209680"/>
                <a:tab algn="l" pos="2577960"/>
                <a:tab algn="l" pos="2946240"/>
                <a:tab algn="l" pos="3314880"/>
                <a:tab algn="l" pos="3683160"/>
                <a:tab algn="l" pos="4051440"/>
                <a:tab algn="l" pos="4419720"/>
                <a:tab algn="l" pos="4788000"/>
                <a:tab algn="l" pos="5156280"/>
                <a:tab algn="l" pos="5524560"/>
                <a:tab algn="l" pos="5892840"/>
                <a:tab algn="l" pos="6261120"/>
                <a:tab algn="l" pos="6629400"/>
                <a:tab algn="l" pos="6997680"/>
                <a:tab algn="l" pos="7365960"/>
                <a:tab algn="l" pos="7734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89400" indent="3637800">
              <a:spcBef>
                <a:spcPts val="1049"/>
              </a:spcBef>
              <a:spcAft>
                <a:spcPts val="150"/>
              </a:spcAft>
              <a:buClr>
                <a:srgbClr val="000000"/>
              </a:buClr>
              <a:buFont typeface="Times New Roman"/>
              <a:buChar char="–"/>
              <a:tabLst>
                <a:tab algn="l" pos="736560"/>
                <a:tab algn="l" pos="1104840"/>
                <a:tab algn="l" pos="1473120"/>
                <a:tab algn="l" pos="1841400"/>
                <a:tab algn="l" pos="2209680"/>
                <a:tab algn="l" pos="2577960"/>
                <a:tab algn="l" pos="2946240"/>
                <a:tab algn="l" pos="3314880"/>
                <a:tab algn="l" pos="3683160"/>
                <a:tab algn="l" pos="4051440"/>
                <a:tab algn="l" pos="4419720"/>
                <a:tab algn="l" pos="4788000"/>
                <a:tab algn="l" pos="5156280"/>
                <a:tab algn="l" pos="5524560"/>
                <a:tab algn="l" pos="5892840"/>
                <a:tab algn="l" pos="6261120"/>
                <a:tab algn="l" pos="6629400"/>
                <a:tab algn="l" pos="6997680"/>
                <a:tab algn="l" pos="7365960"/>
                <a:tab algn="l" pos="7734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5675400" indent="-142560">
              <a:spcBef>
                <a:spcPts val="1049"/>
              </a:spcBef>
              <a:spcAft>
                <a:spcPts val="150"/>
              </a:spcAft>
              <a:buClr>
                <a:srgbClr val="000000"/>
              </a:buClr>
              <a:buFont typeface="Times New Roman"/>
              <a:buChar char="»"/>
              <a:tabLst>
                <a:tab algn="l" pos="736560"/>
                <a:tab algn="l" pos="1104840"/>
                <a:tab algn="l" pos="1473120"/>
                <a:tab algn="l" pos="1841400"/>
                <a:tab algn="l" pos="2209680"/>
                <a:tab algn="l" pos="2577960"/>
                <a:tab algn="l" pos="2946240"/>
                <a:tab algn="l" pos="3314880"/>
                <a:tab algn="l" pos="3683160"/>
                <a:tab algn="l" pos="4051440"/>
                <a:tab algn="l" pos="4419720"/>
                <a:tab algn="l" pos="4788000"/>
                <a:tab algn="l" pos="5156280"/>
                <a:tab algn="l" pos="5524560"/>
                <a:tab algn="l" pos="5892840"/>
                <a:tab algn="l" pos="6261120"/>
                <a:tab algn="l" pos="6629400"/>
                <a:tab algn="l" pos="6997680"/>
                <a:tab algn="l" pos="7365960"/>
                <a:tab algn="l" pos="7734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5675400" indent="-142560">
              <a:spcBef>
                <a:spcPts val="1049"/>
              </a:spcBef>
              <a:spcAft>
                <a:spcPts val="150"/>
              </a:spcAft>
              <a:buClr>
                <a:srgbClr val="000000"/>
              </a:buClr>
              <a:buFont typeface="Times New Roman"/>
              <a:buChar char="»"/>
              <a:tabLst>
                <a:tab algn="l" pos="736560"/>
                <a:tab algn="l" pos="1104840"/>
                <a:tab algn="l" pos="1473120"/>
                <a:tab algn="l" pos="1841400"/>
                <a:tab algn="l" pos="2209680"/>
                <a:tab algn="l" pos="2577960"/>
                <a:tab algn="l" pos="2946240"/>
                <a:tab algn="l" pos="3314880"/>
                <a:tab algn="l" pos="3683160"/>
                <a:tab algn="l" pos="4051440"/>
                <a:tab algn="l" pos="4419720"/>
                <a:tab algn="l" pos="4788000"/>
                <a:tab algn="l" pos="5156280"/>
                <a:tab algn="l" pos="5524560"/>
                <a:tab algn="l" pos="5892840"/>
                <a:tab algn="l" pos="6261120"/>
                <a:tab algn="l" pos="6629400"/>
                <a:tab algn="l" pos="6997680"/>
                <a:tab algn="l" pos="7365960"/>
                <a:tab algn="l" pos="7734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5675400" indent="-142560">
              <a:spcBef>
                <a:spcPts val="1049"/>
              </a:spcBef>
              <a:spcAft>
                <a:spcPts val="150"/>
              </a:spcAft>
              <a:buClr>
                <a:srgbClr val="000000"/>
              </a:buClr>
              <a:buFont typeface="Times New Roman"/>
              <a:buChar char="»"/>
              <a:tabLst>
                <a:tab algn="l" pos="736560"/>
                <a:tab algn="l" pos="1104840"/>
                <a:tab algn="l" pos="1473120"/>
                <a:tab algn="l" pos="1841400"/>
                <a:tab algn="l" pos="2209680"/>
                <a:tab algn="l" pos="2577960"/>
                <a:tab algn="l" pos="2946240"/>
                <a:tab algn="l" pos="3314880"/>
                <a:tab algn="l" pos="3683160"/>
                <a:tab algn="l" pos="4051440"/>
                <a:tab algn="l" pos="4419720"/>
                <a:tab algn="l" pos="4788000"/>
                <a:tab algn="l" pos="5156280"/>
                <a:tab algn="l" pos="5524560"/>
                <a:tab algn="l" pos="5892840"/>
                <a:tab algn="l" pos="6261120"/>
                <a:tab algn="l" pos="6629400"/>
                <a:tab algn="l" pos="6997680"/>
                <a:tab algn="l" pos="7365960"/>
                <a:tab algn="l" pos="7734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380880" y="647640"/>
            <a:ext cx="8382240" cy="10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1600200"/>
            <a:ext cx="8763120" cy="0"/>
          </a:xfrm>
          <a:prstGeom prst="line">
            <a:avLst/>
          </a:prstGeom>
          <a:ln w="9360">
            <a:solidFill>
              <a:srgbClr val="0052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8991360" y="1600200"/>
            <a:ext cx="152280" cy="2546280"/>
            <a:chOff x="8991360" y="1600200"/>
            <a:chExt cx="152280" cy="2546280"/>
          </a:xfrm>
        </p:grpSpPr>
        <p:sp>
          <p:nvSpPr>
            <p:cNvPr id="92" name=""/>
            <p:cNvSpPr/>
            <p:nvPr/>
          </p:nvSpPr>
          <p:spPr>
            <a:xfrm rot="5400000">
              <a:off x="8586360" y="3589200"/>
              <a:ext cx="961920" cy="152280"/>
            </a:xfrm>
            <a:prstGeom prst="rect">
              <a:avLst/>
            </a:prstGeom>
            <a:solidFill>
              <a:srgbClr val="b3cc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rot="5400000">
              <a:off x="8586360" y="3030480"/>
              <a:ext cx="961920" cy="152280"/>
            </a:xfrm>
            <a:prstGeom prst="rect">
              <a:avLst/>
            </a:prstGeom>
            <a:solidFill>
              <a:srgbClr val="7faa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rot="5400000">
              <a:off x="8586360" y="2585880"/>
              <a:ext cx="961920" cy="152280"/>
            </a:xfrm>
            <a:prstGeom prst="rect">
              <a:avLst/>
            </a:prstGeom>
            <a:solidFill>
              <a:srgbClr val="5084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rot="5400000">
              <a:off x="8569080" y="2022480"/>
              <a:ext cx="996840" cy="152280"/>
            </a:xfrm>
            <a:prstGeom prst="rect">
              <a:avLst/>
            </a:prstGeom>
            <a:solidFill>
              <a:srgbClr val="0251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-360" y="0"/>
            <a:ext cx="2972160" cy="6858000"/>
            <a:chOff x="-360" y="0"/>
            <a:chExt cx="2972160" cy="6858000"/>
          </a:xfrm>
        </p:grpSpPr>
        <p:sp>
          <p:nvSpPr>
            <p:cNvPr id="97" name=""/>
            <p:cNvSpPr/>
            <p:nvPr/>
          </p:nvSpPr>
          <p:spPr>
            <a:xfrm rot="5400000">
              <a:off x="-3238920" y="3467160"/>
              <a:ext cx="6629400" cy="15228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0" y="0"/>
              <a:ext cx="2971800" cy="304920"/>
              <a:chOff x="0" y="0"/>
              <a:chExt cx="2971800" cy="304920"/>
            </a:xfrm>
          </p:grpSpPr>
          <p:sp>
            <p:nvSpPr>
              <p:cNvPr id="99" name=""/>
              <p:cNvSpPr/>
              <p:nvPr/>
            </p:nvSpPr>
            <p:spPr>
              <a:xfrm>
                <a:off x="0" y="0"/>
                <a:ext cx="2971800" cy="228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0" y="152280"/>
                <a:ext cx="1940040" cy="152640"/>
              </a:xfrm>
              <a:prstGeom prst="rect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1" name="PlaceHolder 3"/>
          <p:cNvSpPr>
            <a:spLocks noGrp="1"/>
          </p:cNvSpPr>
          <p:nvPr>
            <p:ph type="sldNum" idx="7"/>
          </p:nvPr>
        </p:nvSpPr>
        <p:spPr>
          <a:xfrm>
            <a:off x="8759880" y="6578280"/>
            <a:ext cx="3808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8088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38088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028A9-ED64-4EC4-AD7D-E768488878B2}" type="slidenum">
              <a:rPr b="1" lang="zh-TW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80880" y="3124080"/>
            <a:ext cx="8763120" cy="2546280"/>
            <a:chOff x="380880" y="3124080"/>
            <a:chExt cx="8763120" cy="2546280"/>
          </a:xfrm>
        </p:grpSpPr>
        <p:grpSp>
          <p:nvGrpSpPr>
            <p:cNvPr id="140" name=""/>
            <p:cNvGrpSpPr/>
            <p:nvPr/>
          </p:nvGrpSpPr>
          <p:grpSpPr>
            <a:xfrm>
              <a:off x="8991360" y="3124080"/>
              <a:ext cx="152280" cy="2546280"/>
              <a:chOff x="8991360" y="3124080"/>
              <a:chExt cx="152280" cy="2546280"/>
            </a:xfrm>
          </p:grpSpPr>
          <p:sp>
            <p:nvSpPr>
              <p:cNvPr id="141" name=""/>
              <p:cNvSpPr/>
              <p:nvPr/>
            </p:nvSpPr>
            <p:spPr>
              <a:xfrm rot="5400000">
                <a:off x="8586360" y="5113080"/>
                <a:ext cx="961920" cy="152280"/>
              </a:xfrm>
              <a:prstGeom prst="rect">
                <a:avLst/>
              </a:prstGeom>
              <a:solidFill>
                <a:srgbClr val="b3cc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5400000">
                <a:off x="8586360" y="4554360"/>
                <a:ext cx="961920" cy="152280"/>
              </a:xfrm>
              <a:prstGeom prst="rect">
                <a:avLst/>
              </a:prstGeom>
              <a:solidFill>
                <a:srgbClr val="7fa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5400000">
                <a:off x="8586360" y="4109760"/>
                <a:ext cx="961920" cy="152280"/>
              </a:xfrm>
              <a:prstGeom prst="rect">
                <a:avLst/>
              </a:prstGeom>
              <a:solidFill>
                <a:srgbClr val="5084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5400000">
                <a:off x="8569080" y="3546360"/>
                <a:ext cx="996840" cy="152280"/>
              </a:xfrm>
              <a:prstGeom prst="rect">
                <a:avLst/>
              </a:prstGeom>
              <a:solidFill>
                <a:srgbClr val="0251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380880" y="3124080"/>
              <a:ext cx="8763120" cy="0"/>
            </a:xfrm>
            <a:prstGeom prst="line">
              <a:avLst/>
            </a:prstGeom>
            <a:ln w="9360">
              <a:solidFill>
                <a:srgbClr val="0251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-360" y="0"/>
            <a:ext cx="2972160" cy="6858000"/>
            <a:chOff x="-360" y="0"/>
            <a:chExt cx="2972160" cy="6858000"/>
          </a:xfrm>
        </p:grpSpPr>
        <p:sp>
          <p:nvSpPr>
            <p:cNvPr id="147" name=""/>
            <p:cNvSpPr/>
            <p:nvPr/>
          </p:nvSpPr>
          <p:spPr>
            <a:xfrm rot="5400000">
              <a:off x="-3238920" y="3467160"/>
              <a:ext cx="6629400" cy="15228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0"/>
              <a:ext cx="2971800" cy="304920"/>
              <a:chOff x="0" y="0"/>
              <a:chExt cx="2971800" cy="30492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0"/>
                <a:ext cx="2971800" cy="228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152280"/>
                <a:ext cx="1940040" cy="152640"/>
              </a:xfrm>
              <a:prstGeom prst="rect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2"/>
          <p:cNvSpPr>
            <a:spLocks noGrp="1"/>
          </p:cNvSpPr>
          <p:nvPr>
            <p:ph type="sldNum" idx="8"/>
          </p:nvPr>
        </p:nvSpPr>
        <p:spPr>
          <a:xfrm>
            <a:off x="8759880" y="6578280"/>
            <a:ext cx="3808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8088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38088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B3F07-6CBC-4354-86BD-E05F790C2FF6}" type="slidenum">
              <a:rPr b="1" lang="zh-TW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5410080" y="152280"/>
            <a:ext cx="3581640" cy="731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Comic Sans MS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Comic Sans MS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A0EF4-E8EB-4A56-9D72-CE4EABF63A62}" type="slidenum"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98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7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08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2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24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25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28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29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0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31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9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cc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dt" idx="1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Comic Sans MS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Comic Sans MS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sldNum" idx="1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928FE-DC5E-4C70-941C-3E6F1FCFEA26}" type="slidenum"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82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86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91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92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5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96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01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1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Comic Sans MS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1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Comic Sans MS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1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F6B59-D8C4-49C1-97CB-1E00424A1AF2}" type="slidenum"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4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5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6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7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7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7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38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8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38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9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cc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dt" idx="1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Comic Sans MS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Comic Sans MS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sldNum" idx="2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0002C-945F-4F2A-B67B-D592FAC68224}" type="slidenum"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43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43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4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44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44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5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1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492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5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496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9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0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521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26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dt" idx="2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ftr" idx="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7A79B-C7F6-43C5-8BA3-A8A1E777F6B1}" type="slidenum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9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86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2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9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9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9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1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1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"/>
          <p:cNvSpPr/>
          <p:nvPr/>
        </p:nvSpPr>
        <p:spPr>
          <a:xfrm>
            <a:off x="0" y="27082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00"/>
                </a:solidFill>
                <a:latin typeface="Arial"/>
                <a:ea typeface="宋体"/>
              </a:rPr>
              <a:t>行銷業務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9" name=""/>
          <p:cNvGrpSpPr/>
          <p:nvPr/>
        </p:nvGrpSpPr>
        <p:grpSpPr>
          <a:xfrm>
            <a:off x="682560" y="1197000"/>
            <a:ext cx="7705440" cy="5472000"/>
            <a:chOff x="682560" y="1197000"/>
            <a:chExt cx="7705440" cy="5472000"/>
          </a:xfrm>
        </p:grpSpPr>
        <p:pic>
          <p:nvPicPr>
            <p:cNvPr id="1330" name="" descr=""/>
            <p:cNvPicPr/>
            <p:nvPr/>
          </p:nvPicPr>
          <p:blipFill>
            <a:blip r:embed="rId2"/>
            <a:stretch/>
          </p:blipFill>
          <p:spPr>
            <a:xfrm>
              <a:off x="682560" y="1197000"/>
              <a:ext cx="7705440" cy="5472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31" name=""/>
            <p:cNvGrpSpPr/>
            <p:nvPr/>
          </p:nvGrpSpPr>
          <p:grpSpPr>
            <a:xfrm>
              <a:off x="1041120" y="1557360"/>
              <a:ext cx="6912000" cy="4852440"/>
              <a:chOff x="1041120" y="1557360"/>
              <a:chExt cx="6912000" cy="4852440"/>
            </a:xfrm>
          </p:grpSpPr>
          <p:sp>
            <p:nvSpPr>
              <p:cNvPr id="1332" name=""/>
              <p:cNvSpPr/>
              <p:nvPr/>
            </p:nvSpPr>
            <p:spPr>
              <a:xfrm>
                <a:off x="1041120" y="3716280"/>
                <a:ext cx="649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低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4209840" y="5950080"/>
                <a:ext cx="649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低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4282920" y="1557360"/>
                <a:ext cx="50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高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7449840" y="3716280"/>
                <a:ext cx="50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高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市場定位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grpSp>
        <p:nvGrpSpPr>
          <p:cNvPr id="1337" name=""/>
          <p:cNvGrpSpPr/>
          <p:nvPr/>
        </p:nvGrpSpPr>
        <p:grpSpPr>
          <a:xfrm>
            <a:off x="5219640" y="1341360"/>
            <a:ext cx="3600000" cy="2376360"/>
            <a:chOff x="5219640" y="1341360"/>
            <a:chExt cx="3600000" cy="2376360"/>
          </a:xfrm>
        </p:grpSpPr>
        <p:pic>
          <p:nvPicPr>
            <p:cNvPr id="1338" name="" descr=""/>
            <p:cNvPicPr/>
            <p:nvPr/>
          </p:nvPicPr>
          <p:blipFill>
            <a:blip r:embed="rId3"/>
            <a:stretch/>
          </p:blipFill>
          <p:spPr>
            <a:xfrm>
              <a:off x="5219640" y="1341360"/>
              <a:ext cx="3600000" cy="23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9" name=""/>
            <p:cNvSpPr/>
            <p:nvPr/>
          </p:nvSpPr>
          <p:spPr>
            <a:xfrm>
              <a:off x="5357160" y="1996560"/>
              <a:ext cx="34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6600ff"/>
                  </a:solidFill>
                  <a:latin typeface="Arial"/>
                  <a:ea typeface="宋体"/>
                </a:rPr>
                <a:t>說明文字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40" name=""/>
          <p:cNvGrpSpPr/>
          <p:nvPr/>
        </p:nvGrpSpPr>
        <p:grpSpPr>
          <a:xfrm>
            <a:off x="5292720" y="4508640"/>
            <a:ext cx="3528720" cy="2376000"/>
            <a:chOff x="5292720" y="4508640"/>
            <a:chExt cx="3528720" cy="2376000"/>
          </a:xfrm>
        </p:grpSpPr>
        <p:pic>
          <p:nvPicPr>
            <p:cNvPr id="1341" name="" descr=""/>
            <p:cNvPicPr/>
            <p:nvPr/>
          </p:nvPicPr>
          <p:blipFill>
            <a:blip r:embed="rId4"/>
            <a:stretch/>
          </p:blipFill>
          <p:spPr>
            <a:xfrm>
              <a:off x="5292720" y="4508640"/>
              <a:ext cx="3528720" cy="23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2" name=""/>
            <p:cNvSpPr/>
            <p:nvPr/>
          </p:nvSpPr>
          <p:spPr>
            <a:xfrm>
              <a:off x="5427720" y="5163480"/>
              <a:ext cx="339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6600ff"/>
                  </a:solidFill>
                  <a:latin typeface="Arial"/>
                  <a:ea typeface="宋体"/>
                </a:rPr>
                <a:t>說明文字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43" name=""/>
          <p:cNvGrpSpPr/>
          <p:nvPr/>
        </p:nvGrpSpPr>
        <p:grpSpPr>
          <a:xfrm>
            <a:off x="611280" y="4581360"/>
            <a:ext cx="3239640" cy="2376360"/>
            <a:chOff x="611280" y="4581360"/>
            <a:chExt cx="3239640" cy="2376360"/>
          </a:xfrm>
        </p:grpSpPr>
        <p:pic>
          <p:nvPicPr>
            <p:cNvPr id="1344" name="" descr=""/>
            <p:cNvPicPr/>
            <p:nvPr/>
          </p:nvPicPr>
          <p:blipFill>
            <a:blip r:embed="rId5"/>
            <a:stretch/>
          </p:blipFill>
          <p:spPr>
            <a:xfrm>
              <a:off x="611280" y="4581360"/>
              <a:ext cx="3239640" cy="23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5" name=""/>
            <p:cNvSpPr/>
            <p:nvPr/>
          </p:nvSpPr>
          <p:spPr>
            <a:xfrm>
              <a:off x="735120" y="5236560"/>
              <a:ext cx="311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6600ff"/>
                  </a:solidFill>
                  <a:latin typeface="Arial"/>
                  <a:ea typeface="宋体"/>
                </a:rPr>
                <a:t>說明文字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46" name=""/>
          <p:cNvGrpSpPr/>
          <p:nvPr/>
        </p:nvGrpSpPr>
        <p:grpSpPr>
          <a:xfrm>
            <a:off x="611280" y="1341360"/>
            <a:ext cx="3312720" cy="2376360"/>
            <a:chOff x="611280" y="1341360"/>
            <a:chExt cx="3312720" cy="2376360"/>
          </a:xfrm>
        </p:grpSpPr>
        <p:pic>
          <p:nvPicPr>
            <p:cNvPr id="1347" name="" descr=""/>
            <p:cNvPicPr/>
            <p:nvPr/>
          </p:nvPicPr>
          <p:blipFill>
            <a:blip r:embed="rId6"/>
            <a:stretch/>
          </p:blipFill>
          <p:spPr>
            <a:xfrm>
              <a:off x="611280" y="1341360"/>
              <a:ext cx="3312720" cy="23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8" name=""/>
            <p:cNvSpPr/>
            <p:nvPr/>
          </p:nvSpPr>
          <p:spPr>
            <a:xfrm>
              <a:off x="738000" y="1996560"/>
              <a:ext cx="31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6600ff"/>
                  </a:solidFill>
                  <a:latin typeface="Arial"/>
                  <a:ea typeface="宋体"/>
                </a:rPr>
                <a:t>說明文字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77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1" dur="770" fill="hold"/>
                                        <p:tgtEl>
                                          <p:spTgt spid="13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3" dur="770" fill="hold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5" dur="770" fill="hold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77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2" dur="770" fill="hold"/>
                                        <p:tgtEl>
                                          <p:spTgt spid="13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4" dur="77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6" dur="77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77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3" dur="770" fill="hold"/>
                                        <p:tgtEl>
                                          <p:spTgt spid="13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5" dur="770" fill="hold"/>
                                        <p:tgtEl>
                                          <p:spTgt spid="1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7" dur="770" fill="hold"/>
                                        <p:tgtEl>
                                          <p:spTgt spid="1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77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4" dur="770" fill="hold"/>
                                        <p:tgtEl>
                                          <p:spTgt spid="13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6" dur="770" fill="hold"/>
                                        <p:tgtEl>
                                          <p:spTgt spid="1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8" dur="770" fill="hold"/>
                                        <p:tgtEl>
                                          <p:spTgt spid="1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20858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流程圖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0" name=""/>
          <p:cNvSpPr/>
          <p:nvPr/>
        </p:nvSpPr>
        <p:spPr>
          <a:xfrm>
            <a:off x="3132000" y="549360"/>
            <a:ext cx="1871640" cy="720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說明文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4067280" y="126828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3033720" y="2225520"/>
            <a:ext cx="2089080" cy="648000"/>
          </a:xfrm>
          <a:prstGeom prst="flowChartDecisi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判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53" name=""/>
          <p:cNvGrpSpPr/>
          <p:nvPr/>
        </p:nvGrpSpPr>
        <p:grpSpPr>
          <a:xfrm>
            <a:off x="5122800" y="1773360"/>
            <a:ext cx="673200" cy="1511280"/>
            <a:chOff x="5122800" y="1773360"/>
            <a:chExt cx="673200" cy="1511280"/>
          </a:xfrm>
        </p:grpSpPr>
        <p:sp>
          <p:nvSpPr>
            <p:cNvPr id="1354" name=""/>
            <p:cNvSpPr/>
            <p:nvPr/>
          </p:nvSpPr>
          <p:spPr>
            <a:xfrm>
              <a:off x="5580000" y="1773360"/>
              <a:ext cx="216000" cy="1511280"/>
            </a:xfrm>
            <a:custGeom>
              <a:avLst/>
              <a:gdLst>
                <a:gd name="textAreaLeft" fmla="*/ 63360 w 216000"/>
                <a:gd name="textAreaRight" fmla="*/ 216360 w 216000"/>
                <a:gd name="textAreaTop" fmla="*/ 62640 h 1511280"/>
                <a:gd name="textAreaBottom" fmla="*/ 1448640 h 151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5122800" y="2543040"/>
              <a:ext cx="4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56" name=""/>
          <p:cNvSpPr/>
          <p:nvPr/>
        </p:nvSpPr>
        <p:spPr>
          <a:xfrm>
            <a:off x="5872320" y="1557360"/>
            <a:ext cx="1081080" cy="431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條件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5867280" y="3068640"/>
            <a:ext cx="1081080" cy="431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條件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4067280" y="285264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3132000" y="3789360"/>
            <a:ext cx="1871640" cy="720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說明文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4067280" y="450864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3249720" y="5407200"/>
            <a:ext cx="1657080" cy="576000"/>
          </a:xfrm>
          <a:prstGeom prst="flowChartTerminator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結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5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5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"/>
          <p:cNvSpPr/>
          <p:nvPr/>
        </p:nvSpPr>
        <p:spPr>
          <a:xfrm>
            <a:off x="468360" y="1773360"/>
            <a:ext cx="1511280" cy="50846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屬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380880" y="404640"/>
            <a:ext cx="8382240" cy="10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產品比較</a:t>
            </a:r>
            <a:endParaRPr b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1364" name=""/>
          <p:cNvGrpSpPr/>
          <p:nvPr/>
        </p:nvGrpSpPr>
        <p:grpSpPr>
          <a:xfrm>
            <a:off x="2195640" y="1752480"/>
            <a:ext cx="3095640" cy="5105520"/>
            <a:chOff x="2195640" y="1752480"/>
            <a:chExt cx="3095640" cy="5105520"/>
          </a:xfrm>
        </p:grpSpPr>
        <p:sp>
          <p:nvSpPr>
            <p:cNvPr id="1365" name=""/>
            <p:cNvSpPr/>
            <p:nvPr/>
          </p:nvSpPr>
          <p:spPr>
            <a:xfrm>
              <a:off x="2195640" y="1752480"/>
              <a:ext cx="3095640" cy="510552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195640" y="1935000"/>
              <a:ext cx="309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00"/>
                </a:spcBef>
                <a:spcAft>
                  <a:spcPts val="201"/>
                </a:spcAft>
                <a:tabLst>
                  <a:tab algn="l" pos="0"/>
                  <a:tab algn="l" pos="3770280"/>
                  <a:tab algn="l" pos="5884920"/>
                  <a:tab algn="l" pos="6811920"/>
                  <a:tab algn="l" pos="7785000"/>
                  <a:tab algn="l" pos="8758080"/>
                  <a:tab algn="l" pos="9731520"/>
                  <a:tab algn="l" pos="107046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Arial"/>
                  <a:ea typeface="宋体"/>
                </a:rPr>
                <a:t>產品</a:t>
              </a:r>
              <a:r>
                <a:rPr b="1" lang="en-US" sz="3200" spc="-1" strike="noStrike">
                  <a:solidFill>
                    <a:srgbClr val="ffff00"/>
                  </a:solidFill>
                  <a:latin typeface="Arial"/>
                  <a:ea typeface="宋体"/>
                </a:rPr>
                <a:t>1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67" name=""/>
          <p:cNvGrpSpPr/>
          <p:nvPr/>
        </p:nvGrpSpPr>
        <p:grpSpPr>
          <a:xfrm>
            <a:off x="5508720" y="1752480"/>
            <a:ext cx="3240000" cy="5105520"/>
            <a:chOff x="5508720" y="1752480"/>
            <a:chExt cx="3240000" cy="5105520"/>
          </a:xfrm>
        </p:grpSpPr>
        <p:sp>
          <p:nvSpPr>
            <p:cNvPr id="1368" name=""/>
            <p:cNvSpPr/>
            <p:nvPr/>
          </p:nvSpPr>
          <p:spPr>
            <a:xfrm>
              <a:off x="5508720" y="1752480"/>
              <a:ext cx="3240000" cy="510552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867280" y="1916280"/>
              <a:ext cx="2133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00"/>
                </a:spcBef>
                <a:spcAft>
                  <a:spcPts val="201"/>
                </a:spcAft>
                <a:tabLst>
                  <a:tab algn="l" pos="0"/>
                  <a:tab algn="l" pos="3770280"/>
                  <a:tab algn="l" pos="5884920"/>
                  <a:tab algn="l" pos="6811920"/>
                  <a:tab algn="l" pos="7785000"/>
                  <a:tab algn="l" pos="8758080"/>
                  <a:tab algn="l" pos="9731520"/>
                  <a:tab algn="l" pos="107046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Arial"/>
                  <a:ea typeface="宋体"/>
                </a:rPr>
                <a:t>產品</a:t>
              </a:r>
              <a:r>
                <a:rPr b="1" lang="en-US" sz="3200" spc="-1" strike="noStrike">
                  <a:solidFill>
                    <a:srgbClr val="ffff00"/>
                  </a:solidFill>
                  <a:latin typeface="Arial"/>
                  <a:ea typeface="宋体"/>
                </a:rPr>
                <a:t>2</a:t>
              </a:r>
              <a:br>
                <a:rPr sz="3200"/>
              </a:b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70" name=""/>
          <p:cNvSpPr/>
          <p:nvPr/>
        </p:nvSpPr>
        <p:spPr>
          <a:xfrm>
            <a:off x="-181080" y="2565360"/>
            <a:ext cx="986652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-396720" y="5445000"/>
            <a:ext cx="993744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324000" y="2708280"/>
            <a:ext cx="8640720" cy="79200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100000">
                <a:srgbClr val="ffff00">
                  <a:alpha val="8039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324000" y="3573360"/>
            <a:ext cx="8640720" cy="79236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100000">
                <a:srgbClr val="0099ff">
                  <a:alpha val="8039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324000" y="4508640"/>
            <a:ext cx="8640720" cy="79200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>
                  <a:alpha val="8039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539640" y="3789360"/>
            <a:ext cx="136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76" name=""/>
          <p:cNvGrpSpPr/>
          <p:nvPr/>
        </p:nvGrpSpPr>
        <p:grpSpPr>
          <a:xfrm>
            <a:off x="611280" y="2708280"/>
            <a:ext cx="7850160" cy="696600"/>
            <a:chOff x="611280" y="2708280"/>
            <a:chExt cx="7850160" cy="696600"/>
          </a:xfrm>
        </p:grpSpPr>
        <p:sp>
          <p:nvSpPr>
            <p:cNvPr id="1377" name=""/>
            <p:cNvSpPr/>
            <p:nvPr/>
          </p:nvSpPr>
          <p:spPr>
            <a:xfrm>
              <a:off x="611280" y="285264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說明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2340000" y="2773440"/>
              <a:ext cx="273672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說明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**************************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說明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**************************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5724360" y="2708280"/>
              <a:ext cx="273708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說明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**************************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說明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**************************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80" name=""/>
          <p:cNvGrpSpPr/>
          <p:nvPr/>
        </p:nvGrpSpPr>
        <p:grpSpPr>
          <a:xfrm>
            <a:off x="611280" y="3573360"/>
            <a:ext cx="7921440" cy="631440"/>
            <a:chOff x="611280" y="3573360"/>
            <a:chExt cx="7921440" cy="631440"/>
          </a:xfrm>
        </p:grpSpPr>
        <p:sp>
          <p:nvSpPr>
            <p:cNvPr id="1381" name=""/>
            <p:cNvSpPr/>
            <p:nvPr/>
          </p:nvSpPr>
          <p:spPr>
            <a:xfrm>
              <a:off x="611280" y="371628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說明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2340000" y="3573360"/>
              <a:ext cx="273672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說明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**************************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說明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**************************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5796000" y="3573360"/>
              <a:ext cx="273672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說明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**************************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說明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**************************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84" name=""/>
          <p:cNvGrpSpPr/>
          <p:nvPr/>
        </p:nvGrpSpPr>
        <p:grpSpPr>
          <a:xfrm>
            <a:off x="539640" y="4508640"/>
            <a:ext cx="8064720" cy="631440"/>
            <a:chOff x="539640" y="4508640"/>
            <a:chExt cx="8064720" cy="631440"/>
          </a:xfrm>
        </p:grpSpPr>
        <p:sp>
          <p:nvSpPr>
            <p:cNvPr id="1385" name=""/>
            <p:cNvSpPr/>
            <p:nvPr/>
          </p:nvSpPr>
          <p:spPr>
            <a:xfrm>
              <a:off x="539640" y="465300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說明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411280" y="4508640"/>
              <a:ext cx="273708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說明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**************************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說明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**************************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867280" y="4508640"/>
              <a:ext cx="273708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說明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**************************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說明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**************************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88" name=""/>
          <p:cNvSpPr/>
          <p:nvPr/>
        </p:nvSpPr>
        <p:spPr>
          <a:xfrm>
            <a:off x="324000" y="5734080"/>
            <a:ext cx="8640720" cy="792000"/>
          </a:xfrm>
          <a:prstGeom prst="rect">
            <a:avLst/>
          </a:prstGeom>
          <a:gradFill rotWithShape="0">
            <a:gsLst>
              <a:gs pos="0">
                <a:srgbClr val="6a2b00"/>
              </a:gs>
              <a:gs pos="100000">
                <a:srgbClr val="e85e00">
                  <a:alpha val="8039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9" name=""/>
          <p:cNvGrpSpPr/>
          <p:nvPr/>
        </p:nvGrpSpPr>
        <p:grpSpPr>
          <a:xfrm>
            <a:off x="611280" y="5726160"/>
            <a:ext cx="7921440" cy="639360"/>
            <a:chOff x="611280" y="5726160"/>
            <a:chExt cx="7921440" cy="639360"/>
          </a:xfrm>
        </p:grpSpPr>
        <p:sp>
          <p:nvSpPr>
            <p:cNvPr id="1390" name=""/>
            <p:cNvSpPr/>
            <p:nvPr/>
          </p:nvSpPr>
          <p:spPr>
            <a:xfrm>
              <a:off x="611280" y="587700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結論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2340000" y="5726160"/>
              <a:ext cx="273672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說明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**************************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說明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**************************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796000" y="5734080"/>
              <a:ext cx="273672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說明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**************************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說明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**************************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wipe dir="r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4" dur="5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9" dur="5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4" dur="5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9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4" dur="5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9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4" dur="5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9" dur="5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3" name=""/>
          <p:cNvGrpSpPr/>
          <p:nvPr/>
        </p:nvGrpSpPr>
        <p:grpSpPr>
          <a:xfrm>
            <a:off x="1474920" y="1339920"/>
            <a:ext cx="6481800" cy="4392720"/>
            <a:chOff x="1474920" y="1339920"/>
            <a:chExt cx="6481800" cy="4392720"/>
          </a:xfrm>
        </p:grpSpPr>
        <p:grpSp>
          <p:nvGrpSpPr>
            <p:cNvPr id="1394" name=""/>
            <p:cNvGrpSpPr/>
            <p:nvPr/>
          </p:nvGrpSpPr>
          <p:grpSpPr>
            <a:xfrm>
              <a:off x="1474920" y="1339920"/>
              <a:ext cx="5041800" cy="4392720"/>
              <a:chOff x="1474920" y="1339920"/>
              <a:chExt cx="5041800" cy="4392720"/>
            </a:xfrm>
          </p:grpSpPr>
          <p:sp>
            <p:nvSpPr>
              <p:cNvPr id="1395" name=""/>
              <p:cNvSpPr/>
              <p:nvPr/>
            </p:nvSpPr>
            <p:spPr>
              <a:xfrm>
                <a:off x="1474920" y="1339920"/>
                <a:ext cx="504720" cy="4392720"/>
              </a:xfrm>
              <a:prstGeom prst="rect">
                <a:avLst/>
              </a:prstGeom>
              <a:gradFill rotWithShape="0">
                <a:gsLst>
                  <a:gs pos="0">
                    <a:srgbClr val="5e5e75"/>
                  </a:gs>
                  <a:gs pos="50000">
                    <a:srgbClr val="ccccff"/>
                  </a:gs>
                  <a:gs pos="100000">
                    <a:srgbClr val="5e5e75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2987640" y="1339920"/>
                <a:ext cx="504720" cy="4392720"/>
              </a:xfrm>
              <a:prstGeom prst="rect">
                <a:avLst/>
              </a:prstGeom>
              <a:gradFill rotWithShape="0">
                <a:gsLst>
                  <a:gs pos="0">
                    <a:srgbClr val="5e5e75"/>
                  </a:gs>
                  <a:gs pos="50000">
                    <a:srgbClr val="ccccff"/>
                  </a:gs>
                  <a:gs pos="100000">
                    <a:srgbClr val="5e5e75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4500720" y="1339920"/>
                <a:ext cx="504720" cy="4392720"/>
              </a:xfrm>
              <a:prstGeom prst="rect">
                <a:avLst/>
              </a:prstGeom>
              <a:gradFill rotWithShape="0">
                <a:gsLst>
                  <a:gs pos="0">
                    <a:srgbClr val="5e5e75"/>
                  </a:gs>
                  <a:gs pos="50000">
                    <a:srgbClr val="ccccff"/>
                  </a:gs>
                  <a:gs pos="100000">
                    <a:srgbClr val="5e5e75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6012000" y="1339920"/>
                <a:ext cx="504720" cy="4392720"/>
              </a:xfrm>
              <a:prstGeom prst="rect">
                <a:avLst/>
              </a:prstGeom>
              <a:gradFill rotWithShape="0">
                <a:gsLst>
                  <a:gs pos="0">
                    <a:srgbClr val="5e5e75"/>
                  </a:gs>
                  <a:gs pos="50000">
                    <a:srgbClr val="ccccff"/>
                  </a:gs>
                  <a:gs pos="100000">
                    <a:srgbClr val="5e5e75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99" name=""/>
            <p:cNvSpPr/>
            <p:nvPr/>
          </p:nvSpPr>
          <p:spPr>
            <a:xfrm>
              <a:off x="7451640" y="1339920"/>
              <a:ext cx="505080" cy="4392720"/>
            </a:xfrm>
            <a:prstGeom prst="rect">
              <a:avLst/>
            </a:prstGeom>
            <a:gradFill rotWithShape="0">
              <a:gsLst>
                <a:gs pos="0">
                  <a:srgbClr val="5e5e75"/>
                </a:gs>
                <a:gs pos="50000">
                  <a:srgbClr val="ccccff"/>
                </a:gs>
                <a:gs pos="100000">
                  <a:srgbClr val="5e5e75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00" name=""/>
          <p:cNvSpPr/>
          <p:nvPr/>
        </p:nvSpPr>
        <p:spPr>
          <a:xfrm>
            <a:off x="1474920" y="2997360"/>
            <a:ext cx="504720" cy="2735280"/>
          </a:xfrm>
          <a:prstGeom prst="rect">
            <a:avLst/>
          </a:prstGeom>
          <a:gradFill rotWithShape="0">
            <a:gsLst>
              <a:gs pos="0">
                <a:srgbClr val="5e7517"/>
              </a:gs>
              <a:gs pos="50000">
                <a:srgbClr val="ccff33"/>
              </a:gs>
              <a:gs pos="100000">
                <a:srgbClr val="5e75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2987640" y="1989000"/>
            <a:ext cx="504720" cy="374364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4500720" y="2494080"/>
            <a:ext cx="504720" cy="323856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6012000" y="4076640"/>
            <a:ext cx="504720" cy="1656000"/>
          </a:xfrm>
          <a:prstGeom prst="rect">
            <a:avLst/>
          </a:prstGeom>
          <a:gradFill rotWithShape="0">
            <a:gsLst>
              <a:gs pos="0">
                <a:srgbClr val="00755e"/>
              </a:gs>
              <a:gs pos="50000">
                <a:srgbClr val="00ffcc"/>
              </a:gs>
              <a:gs pos="100000">
                <a:srgbClr val="0075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7451640" y="1341360"/>
            <a:ext cx="505080" cy="439128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289080" y="5950080"/>
            <a:ext cx="824364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 flipV="1">
            <a:off x="1044720" y="1052640"/>
            <a:ext cx="0" cy="54007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07" name=""/>
          <p:cNvGrpSpPr/>
          <p:nvPr/>
        </p:nvGrpSpPr>
        <p:grpSpPr>
          <a:xfrm>
            <a:off x="324000" y="1268280"/>
            <a:ext cx="792000" cy="3795120"/>
            <a:chOff x="324000" y="1268280"/>
            <a:chExt cx="792000" cy="3795120"/>
          </a:xfrm>
        </p:grpSpPr>
        <p:sp>
          <p:nvSpPr>
            <p:cNvPr id="1408" name=""/>
            <p:cNvSpPr/>
            <p:nvPr/>
          </p:nvSpPr>
          <p:spPr>
            <a:xfrm>
              <a:off x="360360" y="1268280"/>
              <a:ext cx="75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00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360360" y="3429000"/>
              <a:ext cx="75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50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360360" y="4726080"/>
              <a:ext cx="75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324000" y="2421000"/>
              <a:ext cx="75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7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12" name=""/>
          <p:cNvGrpSpPr/>
          <p:nvPr/>
        </p:nvGrpSpPr>
        <p:grpSpPr>
          <a:xfrm>
            <a:off x="1260360" y="6094440"/>
            <a:ext cx="6912000" cy="337320"/>
            <a:chOff x="1260360" y="6094440"/>
            <a:chExt cx="6912000" cy="337320"/>
          </a:xfrm>
        </p:grpSpPr>
        <p:sp>
          <p:nvSpPr>
            <p:cNvPr id="1413" name=""/>
            <p:cNvSpPr/>
            <p:nvPr/>
          </p:nvSpPr>
          <p:spPr>
            <a:xfrm>
              <a:off x="1260360" y="6094440"/>
              <a:ext cx="863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一月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2844720" y="6094440"/>
              <a:ext cx="863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二月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4284720" y="6094440"/>
              <a:ext cx="863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三月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5869080" y="6094440"/>
              <a:ext cx="863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四月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7308720" y="6094440"/>
              <a:ext cx="863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五月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18" name=""/>
          <p:cNvSpPr/>
          <p:nvPr/>
        </p:nvSpPr>
        <p:spPr>
          <a:xfrm>
            <a:off x="1187280" y="30780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標題文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1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500"/>
                            </p:stCondLst>
                            <p:childTnLst>
                              <p:par>
                                <p:cTn id="46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71" dur="5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6" dur="5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20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20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20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6" dur="20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20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"/>
          <p:cNvSpPr/>
          <p:nvPr/>
        </p:nvSpPr>
        <p:spPr>
          <a:xfrm>
            <a:off x="755640" y="979560"/>
            <a:ext cx="1152360" cy="439272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50000">
                <a:srgbClr val="ccccff"/>
              </a:gs>
              <a:gs pos="100000">
                <a:srgbClr val="5e5e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755640" y="2637000"/>
            <a:ext cx="1152360" cy="2735280"/>
          </a:xfrm>
          <a:prstGeom prst="rect">
            <a:avLst/>
          </a:prstGeom>
          <a:gradFill rotWithShape="0">
            <a:gsLst>
              <a:gs pos="0">
                <a:srgbClr val="5e7517"/>
              </a:gs>
              <a:gs pos="50000">
                <a:srgbClr val="ccff33"/>
              </a:gs>
              <a:gs pos="100000">
                <a:srgbClr val="5e75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1" name="" descr=""/>
          <p:cNvPicPr/>
          <p:nvPr/>
        </p:nvPicPr>
        <p:blipFill>
          <a:blip r:embed="rId2"/>
          <a:stretch/>
        </p:blipFill>
        <p:spPr>
          <a:xfrm>
            <a:off x="755640" y="5445000"/>
            <a:ext cx="1152360" cy="577800"/>
          </a:xfrm>
          <a:prstGeom prst="rect">
            <a:avLst/>
          </a:prstGeom>
          <a:ln w="0">
            <a:noFill/>
          </a:ln>
        </p:spPr>
      </p:pic>
      <p:sp>
        <p:nvSpPr>
          <p:cNvPr id="1422" name=""/>
          <p:cNvSpPr/>
          <p:nvPr/>
        </p:nvSpPr>
        <p:spPr>
          <a:xfrm>
            <a:off x="2268360" y="979560"/>
            <a:ext cx="1152720" cy="439272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50000">
                <a:srgbClr val="ccccff"/>
              </a:gs>
              <a:gs pos="100000">
                <a:srgbClr val="5e5e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2268360" y="1628640"/>
            <a:ext cx="1152720" cy="374364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4" name="" descr=""/>
          <p:cNvPicPr/>
          <p:nvPr/>
        </p:nvPicPr>
        <p:blipFill>
          <a:blip r:embed="rId3"/>
          <a:stretch/>
        </p:blipFill>
        <p:spPr>
          <a:xfrm>
            <a:off x="2268360" y="5445000"/>
            <a:ext cx="1152720" cy="577800"/>
          </a:xfrm>
          <a:prstGeom prst="rect">
            <a:avLst/>
          </a:prstGeom>
          <a:ln w="0">
            <a:noFill/>
          </a:ln>
        </p:spPr>
      </p:pic>
      <p:sp>
        <p:nvSpPr>
          <p:cNvPr id="1425" name=""/>
          <p:cNvSpPr/>
          <p:nvPr/>
        </p:nvSpPr>
        <p:spPr>
          <a:xfrm>
            <a:off x="3781440" y="979560"/>
            <a:ext cx="1152360" cy="439272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50000">
                <a:srgbClr val="ccccff"/>
              </a:gs>
              <a:gs pos="100000">
                <a:srgbClr val="5e5e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3781440" y="2133720"/>
            <a:ext cx="1152360" cy="323856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7" name="" descr=""/>
          <p:cNvPicPr/>
          <p:nvPr/>
        </p:nvPicPr>
        <p:blipFill>
          <a:blip r:embed="rId4"/>
          <a:stretch/>
        </p:blipFill>
        <p:spPr>
          <a:xfrm>
            <a:off x="3781440" y="5445000"/>
            <a:ext cx="1152360" cy="577800"/>
          </a:xfrm>
          <a:prstGeom prst="rect">
            <a:avLst/>
          </a:prstGeom>
          <a:ln w="0">
            <a:noFill/>
          </a:ln>
        </p:spPr>
      </p:pic>
      <p:sp>
        <p:nvSpPr>
          <p:cNvPr id="1428" name=""/>
          <p:cNvSpPr/>
          <p:nvPr/>
        </p:nvSpPr>
        <p:spPr>
          <a:xfrm>
            <a:off x="5292720" y="979560"/>
            <a:ext cx="1152360" cy="439272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50000">
                <a:srgbClr val="ccccff"/>
              </a:gs>
              <a:gs pos="100000">
                <a:srgbClr val="5e5e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5292720" y="3284640"/>
            <a:ext cx="1152360" cy="2087640"/>
          </a:xfrm>
          <a:prstGeom prst="rect">
            <a:avLst/>
          </a:prstGeom>
          <a:gradFill rotWithShape="0">
            <a:gsLst>
              <a:gs pos="0">
                <a:srgbClr val="00755e"/>
              </a:gs>
              <a:gs pos="50000">
                <a:srgbClr val="00ffcc"/>
              </a:gs>
              <a:gs pos="100000">
                <a:srgbClr val="0075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0" name="" descr=""/>
          <p:cNvPicPr/>
          <p:nvPr/>
        </p:nvPicPr>
        <p:blipFill>
          <a:blip r:embed="rId5"/>
          <a:stretch/>
        </p:blipFill>
        <p:spPr>
          <a:xfrm>
            <a:off x="5292720" y="5445000"/>
            <a:ext cx="1152360" cy="577800"/>
          </a:xfrm>
          <a:prstGeom prst="rect">
            <a:avLst/>
          </a:prstGeom>
          <a:ln w="0">
            <a:noFill/>
          </a:ln>
        </p:spPr>
      </p:pic>
      <p:sp>
        <p:nvSpPr>
          <p:cNvPr id="1431" name=""/>
          <p:cNvSpPr/>
          <p:nvPr/>
        </p:nvSpPr>
        <p:spPr>
          <a:xfrm>
            <a:off x="6732720" y="979560"/>
            <a:ext cx="1152360" cy="439272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50000">
                <a:srgbClr val="ccccff"/>
              </a:gs>
              <a:gs pos="100000">
                <a:srgbClr val="5e5e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6732720" y="981000"/>
            <a:ext cx="1152360" cy="439128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3" name="" descr=""/>
          <p:cNvPicPr/>
          <p:nvPr/>
        </p:nvPicPr>
        <p:blipFill>
          <a:blip r:embed="rId6"/>
          <a:stretch/>
        </p:blipFill>
        <p:spPr>
          <a:xfrm>
            <a:off x="6732720" y="5445000"/>
            <a:ext cx="115236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restart="whenNotActive" nodeType="interactiveSeq" fill="hold">
                <p:stCondLst>
                  <p:cond evt="onClick">
                    <p:tgtEl>
                      <p:spTgt spid="1421"/>
                    </p:tgtEl>
                  </p:cond>
                </p:stCondLst>
                <p:childTnLst>
                  <p:par>
                    <p:cTn id="504" fill="hold">
                      <p:stCondLst>
                        <p:cond evt="onClick">
                          <p:tgtEl>
                            <p:spTgt spid="1421"/>
                          </p:tgtEl>
                        </p:cond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8" dur="20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9" restart="whenNotActive" nodeType="interactiveSeq" fill="hold">
                <p:stCondLst>
                  <p:cond evt="onClick">
                    <p:tgtEl>
                      <p:spTgt spid="1424"/>
                    </p:tgtEl>
                  </p:cond>
                </p:stCondLst>
                <p:childTnLst>
                  <p:par>
                    <p:cTn id="510" fill="hold">
                      <p:stCondLst>
                        <p:cond evt="onClick">
                          <p:tgtEl>
                            <p:spTgt spid="1424"/>
                          </p:tgtEl>
                        </p:cond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4" dur="20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5" restart="whenNotActive" nodeType="interactiveSeq" fill="hold">
                <p:stCondLst>
                  <p:cond evt="onClick">
                    <p:tgtEl>
                      <p:spTgt spid="1427"/>
                    </p:tgtEl>
                  </p:cond>
                </p:stCondLst>
                <p:childTnLst>
                  <p:par>
                    <p:cTn id="516" fill="hold">
                      <p:stCondLst>
                        <p:cond evt="onClick">
                          <p:tgtEl>
                            <p:spTgt spid="1427"/>
                          </p:tgtEl>
                        </p:cond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0" dur="20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1" restart="whenNotActive" nodeType="interactiveSeq" fill="hold">
                <p:stCondLst>
                  <p:cond evt="onClick">
                    <p:tgtEl>
                      <p:spTgt spid="1430"/>
                    </p:tgtEl>
                  </p:cond>
                </p:stCondLst>
                <p:childTnLst>
                  <p:par>
                    <p:cTn id="522" fill="hold">
                      <p:stCondLst>
                        <p:cond evt="onClick">
                          <p:tgtEl>
                            <p:spTgt spid="1430"/>
                          </p:tgtEl>
                        </p:cond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6" dur="2000"/>
                                        <p:tgtEl>
                                          <p:spTgt spid="1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7" restart="whenNotActive" nodeType="interactiveSeq" fill="hold">
                <p:stCondLst>
                  <p:cond evt="onClick">
                    <p:tgtEl>
                      <p:spTgt spid="1433"/>
                    </p:tgtEl>
                  </p:cond>
                </p:stCondLst>
                <p:childTnLst>
                  <p:par>
                    <p:cTn id="528" fill="hold">
                      <p:stCondLst>
                        <p:cond evt="onClick">
                          <p:tgtEl>
                            <p:spTgt spid="1433"/>
                          </p:tgtEl>
                        </p:cond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2" dur="2000"/>
                                        <p:tgtEl>
                                          <p:spTgt spid="1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標準曲線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539640" y="1628640"/>
            <a:ext cx="3095640" cy="648000"/>
          </a:xfrm>
          <a:prstGeom prst="rect">
            <a:avLst/>
          </a:prstGeom>
          <a:gradFill rotWithShape="0">
            <a:gsLst>
              <a:gs pos="0">
                <a:srgbClr val="2f7575"/>
              </a:gs>
              <a:gs pos="100000">
                <a:srgbClr val="66ffff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宋体"/>
              </a:rPr>
              <a:t>標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539640" y="2565360"/>
            <a:ext cx="8072640" cy="339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501480" y="2565360"/>
            <a:ext cx="8072640" cy="3397320"/>
          </a:xfrm>
          <a:custGeom>
            <a:avLst/>
            <a:gdLst/>
            <a:ahLst/>
            <a:rect l="l" t="t" r="r" b="b"/>
            <a:pathLst>
              <a:path w="5085" h="2140">
                <a:moveTo>
                  <a:pt x="0" y="1988"/>
                </a:moveTo>
                <a:lnTo>
                  <a:pt x="5085" y="1988"/>
                </a:lnTo>
                <a:moveTo>
                  <a:pt x="0" y="2140"/>
                </a:moveTo>
                <a:lnTo>
                  <a:pt x="5085" y="2140"/>
                </a:lnTo>
                <a:lnTo>
                  <a:pt x="5085" y="0"/>
                </a:lnTo>
                <a:lnTo>
                  <a:pt x="0" y="0"/>
                </a:lnTo>
                <a:lnTo>
                  <a:pt x="0" y="2140"/>
                </a:lnTo>
              </a:path>
            </a:pathLst>
          </a:custGeom>
          <a:noFill/>
          <a:ln cap="rnd" w="158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501480" y="3705120"/>
            <a:ext cx="8072640" cy="2008440"/>
          </a:xfrm>
          <a:custGeom>
            <a:avLst/>
            <a:gdLst/>
            <a:ahLst/>
            <a:rect l="l" t="t" r="r" b="b"/>
            <a:pathLst>
              <a:path w="5085" h="1265">
                <a:moveTo>
                  <a:pt x="5085" y="1265"/>
                </a:moveTo>
                <a:lnTo>
                  <a:pt x="4817" y="1250"/>
                </a:lnTo>
                <a:lnTo>
                  <a:pt x="4683" y="1236"/>
                </a:lnTo>
                <a:lnTo>
                  <a:pt x="4550" y="1215"/>
                </a:lnTo>
                <a:lnTo>
                  <a:pt x="4416" y="1186"/>
                </a:lnTo>
                <a:lnTo>
                  <a:pt x="4282" y="1147"/>
                </a:lnTo>
                <a:lnTo>
                  <a:pt x="4148" y="1095"/>
                </a:lnTo>
                <a:lnTo>
                  <a:pt x="3880" y="948"/>
                </a:lnTo>
                <a:lnTo>
                  <a:pt x="3613" y="741"/>
                </a:lnTo>
                <a:lnTo>
                  <a:pt x="3345" y="493"/>
                </a:lnTo>
                <a:lnTo>
                  <a:pt x="3212" y="367"/>
                </a:lnTo>
                <a:lnTo>
                  <a:pt x="3078" y="249"/>
                </a:lnTo>
                <a:lnTo>
                  <a:pt x="2944" y="147"/>
                </a:lnTo>
                <a:lnTo>
                  <a:pt x="2810" y="67"/>
                </a:lnTo>
                <a:lnTo>
                  <a:pt x="2676" y="17"/>
                </a:lnTo>
                <a:lnTo>
                  <a:pt x="2542" y="0"/>
                </a:lnTo>
                <a:moveTo>
                  <a:pt x="0" y="1265"/>
                </a:moveTo>
                <a:lnTo>
                  <a:pt x="268" y="1250"/>
                </a:lnTo>
                <a:lnTo>
                  <a:pt x="402" y="1236"/>
                </a:lnTo>
                <a:lnTo>
                  <a:pt x="535" y="1215"/>
                </a:lnTo>
                <a:lnTo>
                  <a:pt x="669" y="1186"/>
                </a:lnTo>
                <a:lnTo>
                  <a:pt x="803" y="1147"/>
                </a:lnTo>
                <a:lnTo>
                  <a:pt x="937" y="1095"/>
                </a:lnTo>
                <a:lnTo>
                  <a:pt x="1205" y="948"/>
                </a:lnTo>
                <a:lnTo>
                  <a:pt x="1472" y="741"/>
                </a:lnTo>
                <a:lnTo>
                  <a:pt x="1740" y="493"/>
                </a:lnTo>
                <a:lnTo>
                  <a:pt x="1873" y="367"/>
                </a:lnTo>
                <a:lnTo>
                  <a:pt x="2007" y="249"/>
                </a:lnTo>
                <a:lnTo>
                  <a:pt x="2141" y="147"/>
                </a:lnTo>
                <a:lnTo>
                  <a:pt x="2275" y="67"/>
                </a:lnTo>
                <a:lnTo>
                  <a:pt x="2409" y="17"/>
                </a:lnTo>
                <a:lnTo>
                  <a:pt x="2542" y="0"/>
                </a:lnTo>
              </a:path>
            </a:pathLst>
          </a:custGeom>
          <a:noFill/>
          <a:ln cap="rnd" w="1584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 flipH="1">
            <a:off x="3192120" y="2575080"/>
            <a:ext cx="4680" cy="3138480"/>
          </a:xfrm>
          <a:prstGeom prst="line">
            <a:avLst/>
          </a:prstGeom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1060560" y="270972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80"/>
                </a:solidFill>
                <a:latin typeface="宋体"/>
                <a:ea typeface="宋体"/>
              </a:rPr>
              <a:t>文字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2398680" y="270972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80"/>
                </a:solidFill>
                <a:latin typeface="宋体"/>
                <a:ea typeface="宋体"/>
              </a:rPr>
              <a:t>文字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3754440" y="270972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80"/>
                </a:solidFill>
                <a:latin typeface="宋体"/>
                <a:ea typeface="宋体"/>
              </a:rPr>
              <a:t>文字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5092560" y="270972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80"/>
                </a:solidFill>
                <a:latin typeface="宋体"/>
                <a:ea typeface="宋体"/>
              </a:rPr>
              <a:t>文字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6429240" y="270972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80"/>
                </a:solidFill>
                <a:latin typeface="宋体"/>
                <a:ea typeface="宋体"/>
              </a:rPr>
              <a:t>文字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7786800" y="270972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80"/>
                </a:solidFill>
                <a:latin typeface="宋体"/>
                <a:ea typeface="宋体"/>
              </a:rPr>
              <a:t>文字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1841400" y="2565360"/>
            <a:ext cx="1800" cy="3132000"/>
          </a:xfrm>
          <a:prstGeom prst="line">
            <a:avLst/>
          </a:prstGeom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 flipH="1">
            <a:off x="4532040" y="2575080"/>
            <a:ext cx="4680" cy="3138480"/>
          </a:xfrm>
          <a:prstGeom prst="line">
            <a:avLst/>
          </a:prstGeom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 flipH="1">
            <a:off x="5871960" y="2575080"/>
            <a:ext cx="6120" cy="3138480"/>
          </a:xfrm>
          <a:prstGeom prst="line">
            <a:avLst/>
          </a:prstGeom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 flipH="1">
            <a:off x="7227720" y="2575080"/>
            <a:ext cx="6480" cy="3138480"/>
          </a:xfrm>
          <a:prstGeom prst="line">
            <a:avLst/>
          </a:prstGeom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1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"/>
          <p:cNvSpPr/>
          <p:nvPr/>
        </p:nvSpPr>
        <p:spPr>
          <a:xfrm>
            <a:off x="757080" y="2349360"/>
            <a:ext cx="2016360" cy="3167280"/>
          </a:xfrm>
          <a:prstGeom prst="rect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進入階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2773440" y="2349360"/>
            <a:ext cx="2016000" cy="3167280"/>
          </a:xfrm>
          <a:prstGeom prst="rect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成長階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4789440" y="2349360"/>
            <a:ext cx="2016000" cy="3167280"/>
          </a:xfrm>
          <a:prstGeom prst="rect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成熟階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6805440" y="2349360"/>
            <a:ext cx="2016360" cy="3167280"/>
          </a:xfrm>
          <a:prstGeom prst="rect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衰退階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539640" y="5516640"/>
            <a:ext cx="8569440" cy="0"/>
          </a:xfrm>
          <a:prstGeom prst="line">
            <a:avLst/>
          </a:prstGeom>
          <a:ln w="5724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PLC </a:t>
            </a:r>
            <a:r>
              <a:rPr b="0" lang="zh-CN" sz="4400" spc="-1" strike="noStrike">
                <a:solidFill>
                  <a:srgbClr val="ffff00"/>
                </a:solidFill>
                <a:latin typeface="Tahoma"/>
              </a:rPr>
              <a:t>分析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6" name=""/>
          <p:cNvSpPr/>
          <p:nvPr/>
        </p:nvSpPr>
        <p:spPr>
          <a:xfrm>
            <a:off x="1332000" y="3141720"/>
            <a:ext cx="6307200" cy="2355840"/>
          </a:xfrm>
          <a:custGeom>
            <a:avLst/>
            <a:gdLst/>
            <a:ahLst/>
            <a:rect l="l" t="t" r="r" b="b"/>
            <a:pathLst>
              <a:path w="3973" h="1484">
                <a:moveTo>
                  <a:pt x="3973" y="579"/>
                </a:moveTo>
                <a:lnTo>
                  <a:pt x="3814" y="431"/>
                </a:lnTo>
                <a:lnTo>
                  <a:pt x="3655" y="292"/>
                </a:lnTo>
                <a:lnTo>
                  <a:pt x="3496" y="173"/>
                </a:lnTo>
                <a:lnTo>
                  <a:pt x="3338" y="79"/>
                </a:lnTo>
                <a:lnTo>
                  <a:pt x="3178" y="20"/>
                </a:lnTo>
                <a:lnTo>
                  <a:pt x="3019" y="0"/>
                </a:lnTo>
                <a:moveTo>
                  <a:pt x="0" y="1484"/>
                </a:moveTo>
                <a:lnTo>
                  <a:pt x="317" y="1465"/>
                </a:lnTo>
                <a:lnTo>
                  <a:pt x="477" y="1449"/>
                </a:lnTo>
                <a:lnTo>
                  <a:pt x="635" y="1425"/>
                </a:lnTo>
                <a:lnTo>
                  <a:pt x="794" y="1391"/>
                </a:lnTo>
                <a:lnTo>
                  <a:pt x="953" y="1345"/>
                </a:lnTo>
                <a:lnTo>
                  <a:pt x="1112" y="1284"/>
                </a:lnTo>
                <a:lnTo>
                  <a:pt x="1430" y="1112"/>
                </a:lnTo>
                <a:lnTo>
                  <a:pt x="1748" y="869"/>
                </a:lnTo>
                <a:lnTo>
                  <a:pt x="2066" y="579"/>
                </a:lnTo>
                <a:lnTo>
                  <a:pt x="2224" y="431"/>
                </a:lnTo>
                <a:lnTo>
                  <a:pt x="2383" y="292"/>
                </a:lnTo>
                <a:lnTo>
                  <a:pt x="2543" y="173"/>
                </a:lnTo>
                <a:lnTo>
                  <a:pt x="2701" y="79"/>
                </a:lnTo>
                <a:lnTo>
                  <a:pt x="2860" y="20"/>
                </a:lnTo>
                <a:lnTo>
                  <a:pt x="3019" y="0"/>
                </a:lnTo>
              </a:path>
            </a:pathLst>
          </a:custGeom>
          <a:noFill/>
          <a:ln cap="rnd" w="381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7" name=""/>
          <p:cNvGrpSpPr/>
          <p:nvPr/>
        </p:nvGrpSpPr>
        <p:grpSpPr>
          <a:xfrm>
            <a:off x="7963200" y="4017960"/>
            <a:ext cx="389520" cy="789840"/>
            <a:chOff x="7963200" y="4017960"/>
            <a:chExt cx="389520" cy="789840"/>
          </a:xfrm>
        </p:grpSpPr>
        <p:sp>
          <p:nvSpPr>
            <p:cNvPr id="1458" name=""/>
            <p:cNvSpPr/>
            <p:nvPr/>
          </p:nvSpPr>
          <p:spPr>
            <a:xfrm>
              <a:off x="8089920" y="4017960"/>
              <a:ext cx="130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000080"/>
                  </a:solidFill>
                  <a:latin typeface="宋体"/>
                  <a:ea typeface="宋体"/>
                </a:rPr>
                <a:t>總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8026560" y="4272120"/>
              <a:ext cx="259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000080"/>
                  </a:solidFill>
                  <a:latin typeface="宋体"/>
                  <a:ea typeface="宋体"/>
                </a:rPr>
                <a:t>市場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7963200" y="4548240"/>
              <a:ext cx="38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000080"/>
                  </a:solidFill>
                  <a:latin typeface="宋体"/>
                  <a:ea typeface="宋体"/>
                </a:rPr>
                <a:t>銷售額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1" name=""/>
          <p:cNvSpPr/>
          <p:nvPr/>
        </p:nvSpPr>
        <p:spPr>
          <a:xfrm>
            <a:off x="4813560" y="5568840"/>
            <a:ext cx="2599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ffff00"/>
                </a:solidFill>
                <a:latin typeface="宋体"/>
                <a:ea typeface="宋体"/>
              </a:rPr>
              <a:t>時間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1258920" y="5300640"/>
            <a:ext cx="217440" cy="216000"/>
          </a:xfrm>
          <a:prstGeom prst="ellipse">
            <a:avLst/>
          </a:prstGeom>
          <a:gradFill rotWithShape="0">
            <a:gsLst>
              <a:gs pos="0">
                <a:srgbClr val="00ff00">
                  <a:alpha val="80392"/>
                </a:srgbClr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45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0.01111 C 0.01164 0.01458 0.02414 0.01805 0.04375 0.01458 C 0.06354 0.01111 0.09966 -0.00232 0.11702 -0.00857 C 0.13438 -0.01459 0.14358 -0.01921 0.14914 -0.02107 E">
                                      <p:cBhvr>
                                        <p:cTn id="553" dur="2000" fill="hold"/>
                                        <p:tgtEl>
                                          <p:spTgt spid="14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5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6" dur="1000" fill="hold"/>
                                        <p:tgtEl>
                                          <p:spTgt spid="14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557" dur="1000" fill="hold"/>
                                        <p:tgtEl>
                                          <p:spTgt spid="14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913 -0.02106 C 0.15191 -0.02198 0.15469 -0.02291 0.16996 -0.03217 C 0.18524 -0.04143 0.21875 -0.05786 0.2408 -0.07661 C 0.26285 -0.09536 0.28264 -0.12106 0.30226 -0.14467 C 0.32187 -0.16828 0.34687 -0.20254 0.35851 -0.21828 C 0.37014 -0.23402 0.37101 -0.23657 0.37205 -0.23911 E">
                                      <p:cBhvr>
                                        <p:cTn id="561" dur="2000" fill="hold"/>
                                        <p:tgtEl>
                                          <p:spTgt spid="14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4" dur="1000" fill="hold"/>
                                        <p:tgtEl>
                                          <p:spTgt spid="14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6600"/>
                                      </p:to>
                                    </p:animClr>
                                    <p:set>
                                      <p:cBhvr>
                                        <p:cTn id="565" dur="1000" fill="hold"/>
                                        <p:tgtEl>
                                          <p:spTgt spid="14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7205 -0.23912 C 0.37743 -0.24583 0.38281 -0.25231 0.3908 -0.26134 C 0.39878 -0.27037 0.40989 -0.2831 0.41996 -0.29328 C 0.43003 -0.30347 0.43976 -0.31481 0.45121 -0.32245 C 0.46267 -0.33009 0.47517 -0.33587 0.48871 -0.33912 C 0.50226 -0.34236 0.52014 -0.34305 0.53246 -0.34189 C 0.54479 -0.34074 0.55382 -0.33634 0.56267 -0.33217 C 0.57153 -0.328 0.58055 -0.3206 0.58559 -0.31689 C 0.59062 -0.31319 0.59166 -0.31157 0.59288 -0.30995 E">
                                      <p:cBhvr>
                                        <p:cTn id="569" dur="2000" fill="hold"/>
                                        <p:tgtEl>
                                          <p:spTgt spid="14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2000"/>
                            </p:stCondLst>
                            <p:childTnLst>
                              <p:par>
                                <p:cTn id="571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2" dur="10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573" dur="10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9288 -0.30995 C 0.60087 -0.30184 0.60903 -0.29374 0.61996 -0.28217 C 0.6309 -0.27059 0.6467 -0.25485 0.65851 -0.2405 C 0.67031 -0.22615 0.68055 -0.2111 0.6908 -0.19606 E">
                                      <p:cBhvr>
                                        <p:cTn id="577" dur="2000" fill="hold"/>
                                        <p:tgtEl>
                                          <p:spTgt spid="14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2000"/>
                            </p:stCondLst>
                            <p:childTnLst>
                              <p:par>
                                <p:cTn id="579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0" dur="10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581" dur="10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3000"/>
                            </p:stCondLst>
                            <p:childTnLst>
                              <p:par>
                                <p:cTn id="58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"/>
          <p:cNvSpPr/>
          <p:nvPr/>
        </p:nvSpPr>
        <p:spPr>
          <a:xfrm>
            <a:off x="2017800" y="6148440"/>
            <a:ext cx="82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供需曲線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65" name=""/>
          <p:cNvGraphicFramePr/>
          <p:nvPr/>
        </p:nvGraphicFramePr>
        <p:xfrm>
          <a:off x="684360" y="2060640"/>
          <a:ext cx="8199360" cy="4397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2060640"/>
                    <a:ext cx="8199360" cy="43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5" dur="5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0" dur="5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5" dur="5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價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3276720" y="4508640"/>
            <a:ext cx="431640" cy="358560"/>
          </a:xfrm>
          <a:custGeom>
            <a:avLst/>
            <a:gdLst>
              <a:gd name="textAreaLeft" fmla="*/ 101520 w 431640"/>
              <a:gd name="textAreaRight" fmla="*/ 330120 w 431640"/>
              <a:gd name="textAreaTop" fmla="*/ 42120 h 358560"/>
              <a:gd name="textAreaBottom" fmla="*/ 225000 h 35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0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27168E-006 C -8.33333E-007 -0.01017 0.00191 -0.05133 0.0007 -0.06173 C -0.00052 -0.07237 -0.00764 -0.07306 -0.00781 -0.06289 L -0.00156 0.00023 E">
                                      <p:cBhvr>
                                        <p:cTn id="611" dur="1000" fill="hold"/>
                                        <p:tgtEl>
                                          <p:spTgt spid="14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ff"/>
                </a:solidFill>
                <a:latin typeface="Arial"/>
              </a:rPr>
              <a:t>營銷綜合圖</a:t>
            </a:r>
            <a:endParaRPr b="0" lang="en-US" sz="4800" spc="-1" strike="noStrike">
              <a:solidFill>
                <a:srgbClr val="336600"/>
              </a:solidFill>
              <a:latin typeface="Arial"/>
            </a:endParaRPr>
          </a:p>
        </p:txBody>
      </p:sp>
      <p:grpSp>
        <p:nvGrpSpPr>
          <p:cNvPr id="1211" name=""/>
          <p:cNvGrpSpPr/>
          <p:nvPr/>
        </p:nvGrpSpPr>
        <p:grpSpPr>
          <a:xfrm>
            <a:off x="2147760" y="1507680"/>
            <a:ext cx="4457880" cy="4444560"/>
            <a:chOff x="2147760" y="1507680"/>
            <a:chExt cx="4457880" cy="4444560"/>
          </a:xfrm>
        </p:grpSpPr>
        <p:grpSp>
          <p:nvGrpSpPr>
            <p:cNvPr id="1212" name=""/>
            <p:cNvGrpSpPr/>
            <p:nvPr/>
          </p:nvGrpSpPr>
          <p:grpSpPr>
            <a:xfrm>
              <a:off x="2147760" y="1507680"/>
              <a:ext cx="4444920" cy="4444560"/>
              <a:chOff x="2147760" y="1507680"/>
              <a:chExt cx="4444920" cy="4444560"/>
            </a:xfrm>
          </p:grpSpPr>
          <p:sp>
            <p:nvSpPr>
              <p:cNvPr id="1213" name=""/>
              <p:cNvSpPr/>
              <p:nvPr/>
            </p:nvSpPr>
            <p:spPr>
              <a:xfrm>
                <a:off x="2147760" y="1507680"/>
                <a:ext cx="2222280" cy="2222280"/>
              </a:xfrm>
              <a:custGeom>
                <a:avLst/>
                <a:gdLst/>
                <a:ahLst/>
                <a:rect l="l" t="t" r="r" b="b"/>
                <a:pathLst>
                  <a:path w="2560" h="2560">
                    <a:moveTo>
                      <a:pt x="0" y="2560"/>
                    </a:moveTo>
                    <a:lnTo>
                      <a:pt x="2560" y="2560"/>
                    </a:lnTo>
                    <a:lnTo>
                      <a:pt x="2560" y="0"/>
                    </a:lnTo>
                    <a:cubicBezTo>
                      <a:pt x="1146" y="0"/>
                      <a:pt x="0" y="1146"/>
                      <a:pt x="0" y="2560"/>
                    </a:cubicBezTo>
                    <a:close/>
                  </a:path>
                </a:pathLst>
              </a:custGeom>
              <a:noFill/>
              <a:ln cap="rnd"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2147760" y="3730320"/>
                <a:ext cx="2222280" cy="2221920"/>
              </a:xfrm>
              <a:custGeom>
                <a:avLst/>
                <a:gdLst/>
                <a:ahLst/>
                <a:rect l="l" t="t" r="r" b="b"/>
                <a:pathLst>
                  <a:path w="2560" h="2560">
                    <a:moveTo>
                      <a:pt x="2560" y="2560"/>
                    </a:moveTo>
                    <a:lnTo>
                      <a:pt x="2560" y="0"/>
                    </a:lnTo>
                    <a:lnTo>
                      <a:pt x="0" y="0"/>
                    </a:lnTo>
                    <a:cubicBezTo>
                      <a:pt x="0" y="1414"/>
                      <a:pt x="1146" y="2560"/>
                      <a:pt x="2560" y="2560"/>
                    </a:cubicBezTo>
                    <a:close/>
                  </a:path>
                </a:pathLst>
              </a:custGeom>
              <a:noFill/>
              <a:ln cap="rnd"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4370040" y="3730320"/>
                <a:ext cx="2222640" cy="2221920"/>
              </a:xfrm>
              <a:custGeom>
                <a:avLst/>
                <a:gdLst/>
                <a:ahLst/>
                <a:rect l="l" t="t" r="r" b="b"/>
                <a:pathLst>
                  <a:path w="2560" h="2560">
                    <a:moveTo>
                      <a:pt x="2560" y="0"/>
                    </a:moveTo>
                    <a:lnTo>
                      <a:pt x="0" y="0"/>
                    </a:lnTo>
                    <a:lnTo>
                      <a:pt x="0" y="2560"/>
                    </a:lnTo>
                    <a:cubicBezTo>
                      <a:pt x="1414" y="2560"/>
                      <a:pt x="2560" y="1414"/>
                      <a:pt x="2560" y="0"/>
                    </a:cubicBezTo>
                    <a:cubicBezTo>
                      <a:pt x="2560" y="0"/>
                      <a:pt x="2560" y="0"/>
                      <a:pt x="2560" y="0"/>
                    </a:cubicBezTo>
                    <a:close/>
                  </a:path>
                </a:pathLst>
              </a:custGeom>
              <a:noFill/>
              <a:ln cap="rnd"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3628800" y="2989080"/>
                <a:ext cx="1482840" cy="1482120"/>
              </a:xfrm>
              <a:custGeom>
                <a:avLst/>
                <a:gdLst/>
                <a:ahLst/>
                <a:rect l="l" t="t" r="r" b="b"/>
                <a:pathLst>
                  <a:path w="934" h="934">
                    <a:moveTo>
                      <a:pt x="0" y="467"/>
                    </a:moveTo>
                    <a:cubicBezTo>
                      <a:pt x="0" y="209"/>
                      <a:pt x="209" y="0"/>
                      <a:pt x="467" y="0"/>
                    </a:cubicBezTo>
                    <a:cubicBezTo>
                      <a:pt x="725" y="0"/>
                      <a:pt x="934" y="209"/>
                      <a:pt x="934" y="467"/>
                    </a:cubicBezTo>
                    <a:cubicBezTo>
                      <a:pt x="934" y="467"/>
                      <a:pt x="934" y="467"/>
                      <a:pt x="934" y="467"/>
                    </a:cubicBezTo>
                    <a:cubicBezTo>
                      <a:pt x="934" y="725"/>
                      <a:pt x="725" y="934"/>
                      <a:pt x="467" y="934"/>
                    </a:cubicBezTo>
                    <a:cubicBezTo>
                      <a:pt x="209" y="934"/>
                      <a:pt x="0" y="725"/>
                      <a:pt x="0" y="467"/>
                    </a:cubicBezTo>
                  </a:path>
                </a:pathLst>
              </a:custGeom>
              <a:noFill/>
              <a:ln cap="rnd"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17" name=""/>
            <p:cNvSpPr/>
            <p:nvPr/>
          </p:nvSpPr>
          <p:spPr>
            <a:xfrm>
              <a:off x="4383000" y="1512720"/>
              <a:ext cx="2222640" cy="2222640"/>
            </a:xfrm>
            <a:custGeom>
              <a:avLst/>
              <a:gdLst/>
              <a:ahLst/>
              <a:rect l="l" t="t" r="r" b="b"/>
              <a:pathLst>
                <a:path w="2560" h="2560">
                  <a:moveTo>
                    <a:pt x="0" y="2560"/>
                  </a:moveTo>
                  <a:lnTo>
                    <a:pt x="2560" y="2560"/>
                  </a:lnTo>
                  <a:cubicBezTo>
                    <a:pt x="2560" y="1146"/>
                    <a:pt x="1414" y="0"/>
                    <a:pt x="0" y="0"/>
                  </a:cubicBezTo>
                  <a:lnTo>
                    <a:pt x="0" y="0"/>
                  </a:lnTo>
                  <a:lnTo>
                    <a:pt x="0" y="2560"/>
                  </a:lnTo>
                  <a:close/>
                </a:path>
              </a:pathLst>
            </a:custGeom>
            <a:noFill/>
            <a:ln cap="rnd"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18" name=""/>
          <p:cNvGrpSpPr/>
          <p:nvPr/>
        </p:nvGrpSpPr>
        <p:grpSpPr>
          <a:xfrm>
            <a:off x="2124000" y="1484280"/>
            <a:ext cx="2222280" cy="2222640"/>
            <a:chOff x="2124000" y="1484280"/>
            <a:chExt cx="2222280" cy="2222640"/>
          </a:xfrm>
        </p:grpSpPr>
        <p:sp>
          <p:nvSpPr>
            <p:cNvPr id="1219" name=""/>
            <p:cNvSpPr/>
            <p:nvPr/>
          </p:nvSpPr>
          <p:spPr>
            <a:xfrm>
              <a:off x="2124000" y="1484280"/>
              <a:ext cx="2222280" cy="2222640"/>
            </a:xfrm>
            <a:custGeom>
              <a:avLst/>
              <a:gdLst/>
              <a:ahLst/>
              <a:rect l="l" t="t" r="r" b="b"/>
              <a:pathLst>
                <a:path w="2560" h="2560">
                  <a:moveTo>
                    <a:pt x="0" y="2560"/>
                  </a:moveTo>
                  <a:lnTo>
                    <a:pt x="2560" y="2560"/>
                  </a:lnTo>
                  <a:lnTo>
                    <a:pt x="2560" y="0"/>
                  </a:lnTo>
                  <a:cubicBezTo>
                    <a:pt x="1146" y="0"/>
                    <a:pt x="0" y="1146"/>
                    <a:pt x="0" y="2560"/>
                  </a:cubicBezTo>
                  <a:close/>
                </a:path>
              </a:pathLst>
            </a:custGeom>
            <a:solidFill>
              <a:srgbClr val="ff99cc">
                <a:alpha val="8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 rot="18900000">
              <a:off x="3146760" y="2513160"/>
              <a:ext cx="153000" cy="305280"/>
            </a:xfrm>
            <a:prstGeom prst="rect">
              <a:avLst/>
            </a:prstGeom>
            <a:solidFill>
              <a:srgbClr val="ff99cc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80"/>
                  </a:solidFill>
                  <a:latin typeface="宋体"/>
                  <a:ea typeface="宋体"/>
                </a:rPr>
                <a:t>產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 rot="18900000">
              <a:off x="3286440" y="2387520"/>
              <a:ext cx="153000" cy="305280"/>
            </a:xfrm>
            <a:prstGeom prst="rect">
              <a:avLst/>
            </a:prstGeom>
            <a:solidFill>
              <a:srgbClr val="ff99cc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80"/>
                  </a:solidFill>
                  <a:latin typeface="宋体"/>
                  <a:ea typeface="宋体"/>
                </a:rPr>
                <a:t>品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22" name=""/>
          <p:cNvGrpSpPr/>
          <p:nvPr/>
        </p:nvGrpSpPr>
        <p:grpSpPr>
          <a:xfrm>
            <a:off x="2128680" y="3692520"/>
            <a:ext cx="2222280" cy="2222640"/>
            <a:chOff x="2128680" y="3692520"/>
            <a:chExt cx="2222280" cy="2222640"/>
          </a:xfrm>
        </p:grpSpPr>
        <p:sp>
          <p:nvSpPr>
            <p:cNvPr id="1223" name=""/>
            <p:cNvSpPr/>
            <p:nvPr/>
          </p:nvSpPr>
          <p:spPr>
            <a:xfrm>
              <a:off x="2128680" y="3692520"/>
              <a:ext cx="2222280" cy="2222640"/>
            </a:xfrm>
            <a:custGeom>
              <a:avLst/>
              <a:gdLst/>
              <a:ahLst/>
              <a:rect l="l" t="t" r="r" b="b"/>
              <a:pathLst>
                <a:path w="2560" h="2560">
                  <a:moveTo>
                    <a:pt x="2560" y="2560"/>
                  </a:moveTo>
                  <a:lnTo>
                    <a:pt x="2560" y="0"/>
                  </a:lnTo>
                  <a:lnTo>
                    <a:pt x="0" y="0"/>
                  </a:lnTo>
                  <a:cubicBezTo>
                    <a:pt x="0" y="1414"/>
                    <a:pt x="1146" y="2560"/>
                    <a:pt x="2560" y="2560"/>
                  </a:cubicBezTo>
                  <a:close/>
                </a:path>
              </a:pathLst>
            </a:custGeom>
            <a:solidFill>
              <a:srgbClr val="ffff66">
                <a:alpha val="8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 rot="2700000">
              <a:off x="3108240" y="4653720"/>
              <a:ext cx="153000" cy="305280"/>
            </a:xfrm>
            <a:prstGeom prst="rect">
              <a:avLst/>
            </a:prstGeom>
            <a:solidFill>
              <a:srgbClr val="ffff6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80"/>
                  </a:solidFill>
                  <a:latin typeface="宋体"/>
                  <a:ea typeface="宋体"/>
                </a:rPr>
                <a:t>促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 rot="2700000">
              <a:off x="3284640" y="4820400"/>
              <a:ext cx="153000" cy="305280"/>
            </a:xfrm>
            <a:prstGeom prst="rect">
              <a:avLst/>
            </a:prstGeom>
            <a:solidFill>
              <a:srgbClr val="ffff6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80"/>
                  </a:solidFill>
                  <a:latin typeface="宋体"/>
                  <a:ea typeface="宋体"/>
                </a:rPr>
                <a:t>銷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26" name=""/>
          <p:cNvGrpSpPr/>
          <p:nvPr/>
        </p:nvGrpSpPr>
        <p:grpSpPr>
          <a:xfrm>
            <a:off x="4346640" y="3706920"/>
            <a:ext cx="2222280" cy="2222280"/>
            <a:chOff x="4346640" y="3706920"/>
            <a:chExt cx="2222280" cy="2222280"/>
          </a:xfrm>
        </p:grpSpPr>
        <p:sp>
          <p:nvSpPr>
            <p:cNvPr id="1227" name=""/>
            <p:cNvSpPr/>
            <p:nvPr/>
          </p:nvSpPr>
          <p:spPr>
            <a:xfrm>
              <a:off x="4346640" y="3706920"/>
              <a:ext cx="2222280" cy="2222280"/>
            </a:xfrm>
            <a:custGeom>
              <a:avLst/>
              <a:gdLst/>
              <a:ahLst/>
              <a:rect l="l" t="t" r="r" b="b"/>
              <a:pathLst>
                <a:path w="2560" h="2560">
                  <a:moveTo>
                    <a:pt x="2560" y="0"/>
                  </a:moveTo>
                  <a:lnTo>
                    <a:pt x="0" y="0"/>
                  </a:lnTo>
                  <a:lnTo>
                    <a:pt x="0" y="2560"/>
                  </a:lnTo>
                  <a:cubicBezTo>
                    <a:pt x="1414" y="2560"/>
                    <a:pt x="2560" y="1414"/>
                    <a:pt x="2560" y="0"/>
                  </a:cubicBezTo>
                  <a:cubicBezTo>
                    <a:pt x="2560" y="0"/>
                    <a:pt x="2560" y="0"/>
                    <a:pt x="2560" y="0"/>
                  </a:cubicBezTo>
                  <a:close/>
                </a:path>
              </a:pathLst>
            </a:custGeom>
            <a:solidFill>
              <a:srgbClr val="66ff33">
                <a:alpha val="8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 rot="18900000">
              <a:off x="5370840" y="4735080"/>
              <a:ext cx="153000" cy="305280"/>
            </a:xfrm>
            <a:prstGeom prst="rect">
              <a:avLst/>
            </a:prstGeom>
            <a:solidFill>
              <a:srgbClr val="66ff33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80"/>
                  </a:solidFill>
                  <a:latin typeface="宋体"/>
                  <a:ea typeface="宋体"/>
                </a:rPr>
                <a:t>分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 rot="18900000">
              <a:off x="5564520" y="4512960"/>
              <a:ext cx="153000" cy="305280"/>
            </a:xfrm>
            <a:prstGeom prst="rect">
              <a:avLst/>
            </a:prstGeom>
            <a:solidFill>
              <a:srgbClr val="66ff33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80"/>
                  </a:solidFill>
                  <a:latin typeface="宋体"/>
                  <a:ea typeface="宋体"/>
                </a:rPr>
                <a:t>配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30" name=""/>
          <p:cNvGrpSpPr/>
          <p:nvPr/>
        </p:nvGrpSpPr>
        <p:grpSpPr>
          <a:xfrm>
            <a:off x="4356000" y="1494000"/>
            <a:ext cx="2222640" cy="2222280"/>
            <a:chOff x="4356000" y="1494000"/>
            <a:chExt cx="2222640" cy="2222280"/>
          </a:xfrm>
        </p:grpSpPr>
        <p:sp>
          <p:nvSpPr>
            <p:cNvPr id="1231" name=""/>
            <p:cNvSpPr/>
            <p:nvPr/>
          </p:nvSpPr>
          <p:spPr>
            <a:xfrm>
              <a:off x="4356000" y="1494000"/>
              <a:ext cx="2222640" cy="2222280"/>
            </a:xfrm>
            <a:custGeom>
              <a:avLst/>
              <a:gdLst/>
              <a:ahLst/>
              <a:rect l="l" t="t" r="r" b="b"/>
              <a:pathLst>
                <a:path w="2560" h="2560">
                  <a:moveTo>
                    <a:pt x="0" y="2560"/>
                  </a:moveTo>
                  <a:lnTo>
                    <a:pt x="2560" y="2560"/>
                  </a:lnTo>
                  <a:cubicBezTo>
                    <a:pt x="2560" y="1146"/>
                    <a:pt x="1414" y="0"/>
                    <a:pt x="0" y="0"/>
                  </a:cubicBezTo>
                  <a:lnTo>
                    <a:pt x="0" y="0"/>
                  </a:lnTo>
                  <a:lnTo>
                    <a:pt x="0" y="2560"/>
                  </a:lnTo>
                  <a:close/>
                </a:path>
              </a:pathLst>
            </a:custGeom>
            <a:solidFill>
              <a:srgbClr val="aaaa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 rot="2700000">
              <a:off x="5282280" y="241344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80"/>
                  </a:solidFill>
                  <a:latin typeface="宋体"/>
                  <a:ea typeface="宋体"/>
                </a:rPr>
                <a:t>價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 rot="2700000">
              <a:off x="5452200" y="257868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80"/>
                  </a:solidFill>
                  <a:latin typeface="宋体"/>
                  <a:ea typeface="宋体"/>
                </a:rPr>
                <a:t>格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34" name=""/>
          <p:cNvGrpSpPr/>
          <p:nvPr/>
        </p:nvGrpSpPr>
        <p:grpSpPr>
          <a:xfrm>
            <a:off x="3613320" y="2973240"/>
            <a:ext cx="1487160" cy="1501920"/>
            <a:chOff x="3613320" y="2973240"/>
            <a:chExt cx="1487160" cy="1501920"/>
          </a:xfrm>
        </p:grpSpPr>
        <p:sp>
          <p:nvSpPr>
            <p:cNvPr id="1235" name=""/>
            <p:cNvSpPr/>
            <p:nvPr/>
          </p:nvSpPr>
          <p:spPr>
            <a:xfrm>
              <a:off x="3613320" y="2973240"/>
              <a:ext cx="1487160" cy="1501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3300">
                    <a:alpha val="70196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3825720" y="3402000"/>
              <a:ext cx="99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顧客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12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" dur="1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5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" dur="250" autoRev="1" fill="hold"/>
                                        <p:tgtEl>
                                          <p:spTgt spid="12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"/>
              </a:rPr>
              <a:t>SWOT </a:t>
            </a:r>
            <a:r>
              <a:rPr b="0" lang="zh-CN" sz="4400" spc="-1" strike="noStrike">
                <a:solidFill>
                  <a:srgbClr val="336600"/>
                </a:solidFill>
                <a:latin typeface="Arial"/>
              </a:rPr>
              <a:t>分析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grpSp>
        <p:nvGrpSpPr>
          <p:cNvPr id="1238" name=""/>
          <p:cNvGrpSpPr/>
          <p:nvPr/>
        </p:nvGrpSpPr>
        <p:grpSpPr>
          <a:xfrm>
            <a:off x="4500720" y="1484280"/>
            <a:ext cx="4103280" cy="2301840"/>
            <a:chOff x="4500720" y="1484280"/>
            <a:chExt cx="4103280" cy="2301840"/>
          </a:xfrm>
        </p:grpSpPr>
        <p:sp>
          <p:nvSpPr>
            <p:cNvPr id="1239" name=""/>
            <p:cNvSpPr/>
            <p:nvPr/>
          </p:nvSpPr>
          <p:spPr>
            <a:xfrm>
              <a:off x="4500720" y="1484280"/>
              <a:ext cx="4103280" cy="2301840"/>
            </a:xfrm>
            <a:prstGeom prst="rect">
              <a:avLst/>
            </a:prstGeom>
            <a:solidFill>
              <a:srgbClr val="666699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ten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5780520" y="1555920"/>
              <a:ext cx="2048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隶书"/>
                </a:rPr>
                <a:t>弱點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41" name=""/>
          <p:cNvGrpSpPr/>
          <p:nvPr/>
        </p:nvGrpSpPr>
        <p:grpSpPr>
          <a:xfrm>
            <a:off x="539640" y="4076640"/>
            <a:ext cx="3384360" cy="2301840"/>
            <a:chOff x="539640" y="4076640"/>
            <a:chExt cx="3384360" cy="2301840"/>
          </a:xfrm>
        </p:grpSpPr>
        <p:sp>
          <p:nvSpPr>
            <p:cNvPr id="1242" name=""/>
            <p:cNvSpPr/>
            <p:nvPr/>
          </p:nvSpPr>
          <p:spPr>
            <a:xfrm>
              <a:off x="539640" y="4076640"/>
              <a:ext cx="3384360" cy="2301840"/>
            </a:xfrm>
            <a:prstGeom prst="rect">
              <a:avLst/>
            </a:prstGeom>
            <a:solidFill>
              <a:srgbClr val="ff99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ten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1597680" y="4147920"/>
              <a:ext cx="168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隶书"/>
                </a:rPr>
                <a:t>機會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44" name=""/>
          <p:cNvGrpSpPr/>
          <p:nvPr/>
        </p:nvGrpSpPr>
        <p:grpSpPr>
          <a:xfrm>
            <a:off x="4500720" y="4062240"/>
            <a:ext cx="4103280" cy="2301840"/>
            <a:chOff x="4500720" y="4062240"/>
            <a:chExt cx="4103280" cy="2301840"/>
          </a:xfrm>
        </p:grpSpPr>
        <p:sp>
          <p:nvSpPr>
            <p:cNvPr id="1245" name=""/>
            <p:cNvSpPr/>
            <p:nvPr/>
          </p:nvSpPr>
          <p:spPr>
            <a:xfrm>
              <a:off x="4500720" y="4062240"/>
              <a:ext cx="4103280" cy="2301840"/>
            </a:xfrm>
            <a:prstGeom prst="rect">
              <a:avLst/>
            </a:prstGeom>
            <a:solidFill>
              <a:srgbClr val="ff00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ten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653440" y="4133520"/>
              <a:ext cx="2048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隶书"/>
                </a:rPr>
                <a:t>威脅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47" name=""/>
          <p:cNvGrpSpPr/>
          <p:nvPr/>
        </p:nvGrpSpPr>
        <p:grpSpPr>
          <a:xfrm>
            <a:off x="539640" y="1484280"/>
            <a:ext cx="3455640" cy="2301840"/>
            <a:chOff x="539640" y="1484280"/>
            <a:chExt cx="3455640" cy="2301840"/>
          </a:xfrm>
        </p:grpSpPr>
        <p:sp>
          <p:nvSpPr>
            <p:cNvPr id="1248" name=""/>
            <p:cNvSpPr/>
            <p:nvPr/>
          </p:nvSpPr>
          <p:spPr>
            <a:xfrm>
              <a:off x="539640" y="1484280"/>
              <a:ext cx="3455640" cy="2301840"/>
            </a:xfrm>
            <a:prstGeom prst="rect">
              <a:avLst/>
            </a:prstGeom>
            <a:solidFill>
              <a:srgbClr val="0099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1620000" y="1557360"/>
              <a:ext cx="172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隶书"/>
                </a:rPr>
                <a:t>優勢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1296000" y="2421000"/>
              <a:ext cx="205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ten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51" name=""/>
          <p:cNvGrpSpPr/>
          <p:nvPr/>
        </p:nvGrpSpPr>
        <p:grpSpPr>
          <a:xfrm>
            <a:off x="144360" y="1052640"/>
            <a:ext cx="8748720" cy="5472000"/>
            <a:chOff x="144360" y="1052640"/>
            <a:chExt cx="8748720" cy="5472000"/>
          </a:xfrm>
        </p:grpSpPr>
        <p:sp>
          <p:nvSpPr>
            <p:cNvPr id="1252" name=""/>
            <p:cNvSpPr/>
            <p:nvPr/>
          </p:nvSpPr>
          <p:spPr>
            <a:xfrm>
              <a:off x="144360" y="3861000"/>
              <a:ext cx="874872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 flipV="1">
              <a:off x="4284720" y="1052640"/>
              <a:ext cx="0" cy="547200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77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" dur="770" fill="hold"/>
                                        <p:tgtEl>
                                          <p:spTgt spid="12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" dur="77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" dur="77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6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1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1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grpSp>
        <p:nvGrpSpPr>
          <p:cNvPr id="1255" name=""/>
          <p:cNvGrpSpPr/>
          <p:nvPr/>
        </p:nvGrpSpPr>
        <p:grpSpPr>
          <a:xfrm>
            <a:off x="3059280" y="1773360"/>
            <a:ext cx="3187440" cy="1311120"/>
            <a:chOff x="3059280" y="1773360"/>
            <a:chExt cx="3187440" cy="1311120"/>
          </a:xfrm>
        </p:grpSpPr>
        <p:sp>
          <p:nvSpPr>
            <p:cNvPr id="1256" name=""/>
            <p:cNvSpPr/>
            <p:nvPr/>
          </p:nvSpPr>
          <p:spPr>
            <a:xfrm>
              <a:off x="3059280" y="1773360"/>
              <a:ext cx="3187440" cy="1311120"/>
            </a:xfrm>
            <a:custGeom>
              <a:avLst/>
              <a:gdLst/>
              <a:ahLst/>
              <a:rect l="l" t="t" r="r" b="b"/>
              <a:pathLst>
                <a:path w="2008" h="826">
                  <a:moveTo>
                    <a:pt x="1047" y="0"/>
                  </a:moveTo>
                  <a:lnTo>
                    <a:pt x="882" y="3"/>
                  </a:lnTo>
                  <a:lnTo>
                    <a:pt x="830" y="5"/>
                  </a:lnTo>
                  <a:lnTo>
                    <a:pt x="802" y="10"/>
                  </a:lnTo>
                  <a:lnTo>
                    <a:pt x="741" y="18"/>
                  </a:lnTo>
                  <a:lnTo>
                    <a:pt x="709" y="23"/>
                  </a:lnTo>
                  <a:lnTo>
                    <a:pt x="678" y="30"/>
                  </a:lnTo>
                  <a:lnTo>
                    <a:pt x="647" y="38"/>
                  </a:lnTo>
                  <a:lnTo>
                    <a:pt x="618" y="47"/>
                  </a:lnTo>
                  <a:lnTo>
                    <a:pt x="586" y="55"/>
                  </a:lnTo>
                  <a:lnTo>
                    <a:pt x="559" y="65"/>
                  </a:lnTo>
                  <a:lnTo>
                    <a:pt x="535" y="72"/>
                  </a:lnTo>
                  <a:lnTo>
                    <a:pt x="506" y="81"/>
                  </a:lnTo>
                  <a:lnTo>
                    <a:pt x="458" y="100"/>
                  </a:lnTo>
                  <a:lnTo>
                    <a:pt x="438" y="107"/>
                  </a:lnTo>
                  <a:lnTo>
                    <a:pt x="411" y="119"/>
                  </a:lnTo>
                  <a:lnTo>
                    <a:pt x="388" y="128"/>
                  </a:lnTo>
                  <a:lnTo>
                    <a:pt x="364" y="141"/>
                  </a:lnTo>
                  <a:lnTo>
                    <a:pt x="336" y="156"/>
                  </a:lnTo>
                  <a:lnTo>
                    <a:pt x="314" y="166"/>
                  </a:lnTo>
                  <a:lnTo>
                    <a:pt x="290" y="180"/>
                  </a:lnTo>
                  <a:lnTo>
                    <a:pt x="267" y="193"/>
                  </a:lnTo>
                  <a:lnTo>
                    <a:pt x="243" y="208"/>
                  </a:lnTo>
                  <a:lnTo>
                    <a:pt x="222" y="223"/>
                  </a:lnTo>
                  <a:lnTo>
                    <a:pt x="201" y="234"/>
                  </a:lnTo>
                  <a:lnTo>
                    <a:pt x="183" y="248"/>
                  </a:lnTo>
                  <a:lnTo>
                    <a:pt x="159" y="263"/>
                  </a:lnTo>
                  <a:lnTo>
                    <a:pt x="137" y="279"/>
                  </a:lnTo>
                  <a:lnTo>
                    <a:pt x="119" y="294"/>
                  </a:lnTo>
                  <a:lnTo>
                    <a:pt x="102" y="307"/>
                  </a:lnTo>
                  <a:lnTo>
                    <a:pt x="83" y="321"/>
                  </a:lnTo>
                  <a:lnTo>
                    <a:pt x="66" y="336"/>
                  </a:lnTo>
                  <a:lnTo>
                    <a:pt x="51" y="350"/>
                  </a:lnTo>
                  <a:lnTo>
                    <a:pt x="35" y="365"/>
                  </a:lnTo>
                  <a:lnTo>
                    <a:pt x="19" y="378"/>
                  </a:lnTo>
                  <a:lnTo>
                    <a:pt x="0" y="396"/>
                  </a:lnTo>
                  <a:lnTo>
                    <a:pt x="154" y="466"/>
                  </a:lnTo>
                  <a:lnTo>
                    <a:pt x="373" y="773"/>
                  </a:lnTo>
                  <a:lnTo>
                    <a:pt x="392" y="756"/>
                  </a:lnTo>
                  <a:lnTo>
                    <a:pt x="410" y="739"/>
                  </a:lnTo>
                  <a:lnTo>
                    <a:pt x="437" y="717"/>
                  </a:lnTo>
                  <a:lnTo>
                    <a:pt x="467" y="693"/>
                  </a:lnTo>
                  <a:lnTo>
                    <a:pt x="493" y="677"/>
                  </a:lnTo>
                  <a:lnTo>
                    <a:pt x="551" y="641"/>
                  </a:lnTo>
                  <a:lnTo>
                    <a:pt x="584" y="624"/>
                  </a:lnTo>
                  <a:lnTo>
                    <a:pt x="614" y="608"/>
                  </a:lnTo>
                  <a:lnTo>
                    <a:pt x="644" y="594"/>
                  </a:lnTo>
                  <a:lnTo>
                    <a:pt x="679" y="582"/>
                  </a:lnTo>
                  <a:lnTo>
                    <a:pt x="713" y="570"/>
                  </a:lnTo>
                  <a:lnTo>
                    <a:pt x="747" y="559"/>
                  </a:lnTo>
                  <a:lnTo>
                    <a:pt x="790" y="549"/>
                  </a:lnTo>
                  <a:lnTo>
                    <a:pt x="829" y="541"/>
                  </a:lnTo>
                  <a:lnTo>
                    <a:pt x="864" y="536"/>
                  </a:lnTo>
                  <a:lnTo>
                    <a:pt x="900" y="533"/>
                  </a:lnTo>
                  <a:lnTo>
                    <a:pt x="1036" y="529"/>
                  </a:lnTo>
                  <a:lnTo>
                    <a:pt x="1067" y="531"/>
                  </a:lnTo>
                  <a:lnTo>
                    <a:pt x="1130" y="540"/>
                  </a:lnTo>
                  <a:lnTo>
                    <a:pt x="1189" y="552"/>
                  </a:lnTo>
                  <a:lnTo>
                    <a:pt x="1247" y="569"/>
                  </a:lnTo>
                  <a:lnTo>
                    <a:pt x="1335" y="604"/>
                  </a:lnTo>
                  <a:lnTo>
                    <a:pt x="1392" y="632"/>
                  </a:lnTo>
                  <a:lnTo>
                    <a:pt x="1415" y="645"/>
                  </a:lnTo>
                  <a:lnTo>
                    <a:pt x="1443" y="663"/>
                  </a:lnTo>
                  <a:lnTo>
                    <a:pt x="1465" y="677"/>
                  </a:lnTo>
                  <a:lnTo>
                    <a:pt x="1484" y="691"/>
                  </a:lnTo>
                  <a:lnTo>
                    <a:pt x="1360" y="826"/>
                  </a:lnTo>
                  <a:lnTo>
                    <a:pt x="1930" y="735"/>
                  </a:lnTo>
                  <a:lnTo>
                    <a:pt x="2008" y="135"/>
                  </a:lnTo>
                  <a:lnTo>
                    <a:pt x="1849" y="303"/>
                  </a:lnTo>
                  <a:lnTo>
                    <a:pt x="1798" y="263"/>
                  </a:lnTo>
                  <a:lnTo>
                    <a:pt x="1721" y="211"/>
                  </a:lnTo>
                  <a:lnTo>
                    <a:pt x="1688" y="192"/>
                  </a:lnTo>
                  <a:lnTo>
                    <a:pt x="1664" y="177"/>
                  </a:lnTo>
                  <a:lnTo>
                    <a:pt x="1638" y="162"/>
                  </a:lnTo>
                  <a:lnTo>
                    <a:pt x="1606" y="146"/>
                  </a:lnTo>
                  <a:lnTo>
                    <a:pt x="1579" y="133"/>
                  </a:lnTo>
                  <a:lnTo>
                    <a:pt x="1551" y="119"/>
                  </a:lnTo>
                  <a:lnTo>
                    <a:pt x="1527" y="109"/>
                  </a:lnTo>
                  <a:lnTo>
                    <a:pt x="1492" y="95"/>
                  </a:lnTo>
                  <a:lnTo>
                    <a:pt x="1390" y="58"/>
                  </a:lnTo>
                  <a:lnTo>
                    <a:pt x="1358" y="49"/>
                  </a:lnTo>
                  <a:lnTo>
                    <a:pt x="1326" y="39"/>
                  </a:lnTo>
                  <a:lnTo>
                    <a:pt x="1297" y="31"/>
                  </a:lnTo>
                  <a:lnTo>
                    <a:pt x="1267" y="25"/>
                  </a:lnTo>
                  <a:lnTo>
                    <a:pt x="1237" y="19"/>
                  </a:lnTo>
                  <a:lnTo>
                    <a:pt x="1212" y="14"/>
                  </a:lnTo>
                  <a:lnTo>
                    <a:pt x="1181" y="10"/>
                  </a:lnTo>
                  <a:lnTo>
                    <a:pt x="1158" y="8"/>
                  </a:lnTo>
                  <a:lnTo>
                    <a:pt x="1131" y="4"/>
                  </a:lnTo>
                  <a:lnTo>
                    <a:pt x="1107" y="3"/>
                  </a:lnTo>
                  <a:lnTo>
                    <a:pt x="1087" y="1"/>
                  </a:lnTo>
                  <a:lnTo>
                    <a:pt x="1047" y="0"/>
                  </a:lnTo>
                  <a:close/>
                </a:path>
              </a:pathLst>
            </a:custGeom>
            <a:solidFill>
              <a:srgbClr val="5555ff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 rot="60000">
              <a:off x="4434120" y="2007720"/>
              <a:ext cx="198720" cy="39636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80"/>
                  </a:solidFill>
                  <a:latin typeface="宋体"/>
                  <a:ea typeface="宋体"/>
                </a:rPr>
                <a:t>文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 rot="60000">
              <a:off x="4758120" y="2025360"/>
              <a:ext cx="198720" cy="39636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80"/>
                  </a:solidFill>
                  <a:latin typeface="宋体"/>
                  <a:ea typeface="宋体"/>
                </a:rPr>
                <a:t>字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59" name=""/>
          <p:cNvGrpSpPr/>
          <p:nvPr/>
        </p:nvGrpSpPr>
        <p:grpSpPr>
          <a:xfrm>
            <a:off x="2394000" y="2274840"/>
            <a:ext cx="1471680" cy="3206880"/>
            <a:chOff x="2394000" y="2274840"/>
            <a:chExt cx="1471680" cy="3206880"/>
          </a:xfrm>
        </p:grpSpPr>
        <p:sp>
          <p:nvSpPr>
            <p:cNvPr id="1260" name=""/>
            <p:cNvSpPr/>
            <p:nvPr/>
          </p:nvSpPr>
          <p:spPr>
            <a:xfrm>
              <a:off x="2394000" y="2274840"/>
              <a:ext cx="1471680" cy="3206880"/>
            </a:xfrm>
            <a:custGeom>
              <a:avLst/>
              <a:gdLst/>
              <a:ahLst/>
              <a:rect l="l" t="t" r="r" b="b"/>
              <a:pathLst>
                <a:path w="927" h="2020">
                  <a:moveTo>
                    <a:pt x="538" y="992"/>
                  </a:moveTo>
                  <a:lnTo>
                    <a:pt x="544" y="946"/>
                  </a:lnTo>
                  <a:lnTo>
                    <a:pt x="553" y="888"/>
                  </a:lnTo>
                  <a:lnTo>
                    <a:pt x="559" y="858"/>
                  </a:lnTo>
                  <a:lnTo>
                    <a:pt x="568" y="830"/>
                  </a:lnTo>
                  <a:lnTo>
                    <a:pt x="577" y="800"/>
                  </a:lnTo>
                  <a:lnTo>
                    <a:pt x="598" y="744"/>
                  </a:lnTo>
                  <a:lnTo>
                    <a:pt x="612" y="712"/>
                  </a:lnTo>
                  <a:lnTo>
                    <a:pt x="626" y="683"/>
                  </a:lnTo>
                  <a:lnTo>
                    <a:pt x="640" y="657"/>
                  </a:lnTo>
                  <a:lnTo>
                    <a:pt x="653" y="633"/>
                  </a:lnTo>
                  <a:lnTo>
                    <a:pt x="685" y="583"/>
                  </a:lnTo>
                  <a:lnTo>
                    <a:pt x="713" y="544"/>
                  </a:lnTo>
                  <a:lnTo>
                    <a:pt x="730" y="526"/>
                  </a:lnTo>
                  <a:lnTo>
                    <a:pt x="927" y="704"/>
                  </a:lnTo>
                  <a:lnTo>
                    <a:pt x="902" y="115"/>
                  </a:lnTo>
                  <a:lnTo>
                    <a:pt x="155" y="0"/>
                  </a:lnTo>
                  <a:lnTo>
                    <a:pt x="337" y="168"/>
                  </a:lnTo>
                  <a:lnTo>
                    <a:pt x="311" y="199"/>
                  </a:lnTo>
                  <a:lnTo>
                    <a:pt x="271" y="250"/>
                  </a:lnTo>
                  <a:lnTo>
                    <a:pt x="253" y="274"/>
                  </a:lnTo>
                  <a:lnTo>
                    <a:pt x="219" y="327"/>
                  </a:lnTo>
                  <a:lnTo>
                    <a:pt x="200" y="359"/>
                  </a:lnTo>
                  <a:lnTo>
                    <a:pt x="169" y="410"/>
                  </a:lnTo>
                  <a:lnTo>
                    <a:pt x="153" y="442"/>
                  </a:lnTo>
                  <a:lnTo>
                    <a:pt x="127" y="497"/>
                  </a:lnTo>
                  <a:lnTo>
                    <a:pt x="117" y="521"/>
                  </a:lnTo>
                  <a:lnTo>
                    <a:pt x="102" y="556"/>
                  </a:lnTo>
                  <a:lnTo>
                    <a:pt x="65" y="658"/>
                  </a:lnTo>
                  <a:lnTo>
                    <a:pt x="48" y="722"/>
                  </a:lnTo>
                  <a:lnTo>
                    <a:pt x="40" y="751"/>
                  </a:lnTo>
                  <a:lnTo>
                    <a:pt x="29" y="808"/>
                  </a:lnTo>
                  <a:lnTo>
                    <a:pt x="25" y="835"/>
                  </a:lnTo>
                  <a:lnTo>
                    <a:pt x="19" y="864"/>
                  </a:lnTo>
                  <a:lnTo>
                    <a:pt x="13" y="918"/>
                  </a:lnTo>
                  <a:lnTo>
                    <a:pt x="10" y="941"/>
                  </a:lnTo>
                  <a:lnTo>
                    <a:pt x="7" y="992"/>
                  </a:lnTo>
                  <a:lnTo>
                    <a:pt x="6" y="1016"/>
                  </a:lnTo>
                  <a:lnTo>
                    <a:pt x="5" y="1027"/>
                  </a:lnTo>
                  <a:lnTo>
                    <a:pt x="0" y="1163"/>
                  </a:lnTo>
                  <a:lnTo>
                    <a:pt x="2" y="1191"/>
                  </a:lnTo>
                  <a:lnTo>
                    <a:pt x="7" y="1219"/>
                  </a:lnTo>
                  <a:lnTo>
                    <a:pt x="9" y="1247"/>
                  </a:lnTo>
                  <a:lnTo>
                    <a:pt x="15" y="1281"/>
                  </a:lnTo>
                  <a:lnTo>
                    <a:pt x="19" y="1312"/>
                  </a:lnTo>
                  <a:lnTo>
                    <a:pt x="26" y="1343"/>
                  </a:lnTo>
                  <a:lnTo>
                    <a:pt x="35" y="1375"/>
                  </a:lnTo>
                  <a:lnTo>
                    <a:pt x="52" y="1435"/>
                  </a:lnTo>
                  <a:lnTo>
                    <a:pt x="69" y="1487"/>
                  </a:lnTo>
                  <a:lnTo>
                    <a:pt x="87" y="1539"/>
                  </a:lnTo>
                  <a:lnTo>
                    <a:pt x="104" y="1583"/>
                  </a:lnTo>
                  <a:lnTo>
                    <a:pt x="125" y="1633"/>
                  </a:lnTo>
                  <a:lnTo>
                    <a:pt x="153" y="1686"/>
                  </a:lnTo>
                  <a:lnTo>
                    <a:pt x="177" y="1731"/>
                  </a:lnTo>
                  <a:lnTo>
                    <a:pt x="205" y="1777"/>
                  </a:lnTo>
                  <a:lnTo>
                    <a:pt x="232" y="1820"/>
                  </a:lnTo>
                  <a:lnTo>
                    <a:pt x="244" y="1840"/>
                  </a:lnTo>
                  <a:lnTo>
                    <a:pt x="276" y="1884"/>
                  </a:lnTo>
                  <a:lnTo>
                    <a:pt x="304" y="1920"/>
                  </a:lnTo>
                  <a:lnTo>
                    <a:pt x="333" y="1955"/>
                  </a:lnTo>
                  <a:lnTo>
                    <a:pt x="362" y="1986"/>
                  </a:lnTo>
                  <a:lnTo>
                    <a:pt x="394" y="2020"/>
                  </a:lnTo>
                  <a:lnTo>
                    <a:pt x="770" y="1647"/>
                  </a:lnTo>
                  <a:lnTo>
                    <a:pt x="736" y="1612"/>
                  </a:lnTo>
                  <a:lnTo>
                    <a:pt x="673" y="1529"/>
                  </a:lnTo>
                  <a:lnTo>
                    <a:pt x="638" y="1471"/>
                  </a:lnTo>
                  <a:lnTo>
                    <a:pt x="622" y="1438"/>
                  </a:lnTo>
                  <a:lnTo>
                    <a:pt x="591" y="1377"/>
                  </a:lnTo>
                  <a:lnTo>
                    <a:pt x="556" y="1275"/>
                  </a:lnTo>
                  <a:lnTo>
                    <a:pt x="538" y="1193"/>
                  </a:lnTo>
                  <a:lnTo>
                    <a:pt x="533" y="1158"/>
                  </a:lnTo>
                  <a:lnTo>
                    <a:pt x="529" y="1126"/>
                  </a:lnTo>
                  <a:lnTo>
                    <a:pt x="538" y="99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  <a:effectLst>
              <a:outerShdw dist="91658" dir="338234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 rot="17400000">
              <a:off x="2706840" y="3767040"/>
              <a:ext cx="198720" cy="396360"/>
            </a:xfrm>
            <a:prstGeom prst="rect">
              <a:avLst/>
            </a:prstGeom>
            <a:noFill/>
            <a:ln w="0">
              <a:noFill/>
            </a:ln>
            <a:effectLst>
              <a:outerShdw dist="91658" dir="338234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80"/>
                  </a:solidFill>
                  <a:latin typeface="宋体"/>
                  <a:ea typeface="宋体"/>
                </a:rPr>
                <a:t>文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 rot="17400000">
              <a:off x="2819520" y="3458880"/>
              <a:ext cx="198720" cy="396360"/>
            </a:xfrm>
            <a:prstGeom prst="rect">
              <a:avLst/>
            </a:prstGeom>
            <a:noFill/>
            <a:ln w="0">
              <a:noFill/>
            </a:ln>
            <a:effectLst>
              <a:outerShdw dist="91658" dir="338234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80"/>
                  </a:solidFill>
                  <a:latin typeface="宋体"/>
                  <a:ea typeface="宋体"/>
                </a:rPr>
                <a:t>字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63" name=""/>
          <p:cNvGrpSpPr/>
          <p:nvPr/>
        </p:nvGrpSpPr>
        <p:grpSpPr>
          <a:xfrm>
            <a:off x="2930400" y="4703760"/>
            <a:ext cx="3194280" cy="1461960"/>
            <a:chOff x="2930400" y="4703760"/>
            <a:chExt cx="3194280" cy="1461960"/>
          </a:xfrm>
        </p:grpSpPr>
        <p:sp>
          <p:nvSpPr>
            <p:cNvPr id="1264" name=""/>
            <p:cNvSpPr/>
            <p:nvPr/>
          </p:nvSpPr>
          <p:spPr>
            <a:xfrm>
              <a:off x="2930400" y="4703760"/>
              <a:ext cx="3194280" cy="1461960"/>
            </a:xfrm>
            <a:custGeom>
              <a:avLst/>
              <a:gdLst/>
              <a:ahLst/>
              <a:rect l="l" t="t" r="r" b="b"/>
              <a:pathLst>
                <a:path w="2012" h="921">
                  <a:moveTo>
                    <a:pt x="1115" y="921"/>
                  </a:moveTo>
                  <a:lnTo>
                    <a:pt x="1272" y="901"/>
                  </a:lnTo>
                  <a:lnTo>
                    <a:pt x="1304" y="896"/>
                  </a:lnTo>
                  <a:lnTo>
                    <a:pt x="1428" y="863"/>
                  </a:lnTo>
                  <a:lnTo>
                    <a:pt x="1454" y="854"/>
                  </a:lnTo>
                  <a:lnTo>
                    <a:pt x="1506" y="837"/>
                  </a:lnTo>
                  <a:lnTo>
                    <a:pt x="1555" y="819"/>
                  </a:lnTo>
                  <a:lnTo>
                    <a:pt x="1623" y="790"/>
                  </a:lnTo>
                  <a:lnTo>
                    <a:pt x="1677" y="763"/>
                  </a:lnTo>
                  <a:lnTo>
                    <a:pt x="1697" y="752"/>
                  </a:lnTo>
                  <a:lnTo>
                    <a:pt x="1745" y="726"/>
                  </a:lnTo>
                  <a:lnTo>
                    <a:pt x="1792" y="695"/>
                  </a:lnTo>
                  <a:lnTo>
                    <a:pt x="1813" y="683"/>
                  </a:lnTo>
                  <a:lnTo>
                    <a:pt x="1831" y="671"/>
                  </a:lnTo>
                  <a:lnTo>
                    <a:pt x="1854" y="655"/>
                  </a:lnTo>
                  <a:lnTo>
                    <a:pt x="1875" y="640"/>
                  </a:lnTo>
                  <a:lnTo>
                    <a:pt x="1894" y="626"/>
                  </a:lnTo>
                  <a:lnTo>
                    <a:pt x="1911" y="613"/>
                  </a:lnTo>
                  <a:lnTo>
                    <a:pt x="1947" y="583"/>
                  </a:lnTo>
                  <a:lnTo>
                    <a:pt x="1979" y="555"/>
                  </a:lnTo>
                  <a:lnTo>
                    <a:pt x="1993" y="540"/>
                  </a:lnTo>
                  <a:lnTo>
                    <a:pt x="2012" y="523"/>
                  </a:lnTo>
                  <a:lnTo>
                    <a:pt x="1637" y="145"/>
                  </a:lnTo>
                  <a:lnTo>
                    <a:pt x="1620" y="163"/>
                  </a:lnTo>
                  <a:lnTo>
                    <a:pt x="1576" y="202"/>
                  </a:lnTo>
                  <a:lnTo>
                    <a:pt x="1546" y="226"/>
                  </a:lnTo>
                  <a:lnTo>
                    <a:pt x="1492" y="260"/>
                  </a:lnTo>
                  <a:lnTo>
                    <a:pt x="1463" y="277"/>
                  </a:lnTo>
                  <a:lnTo>
                    <a:pt x="1398" y="310"/>
                  </a:lnTo>
                  <a:lnTo>
                    <a:pt x="1370" y="324"/>
                  </a:lnTo>
                  <a:lnTo>
                    <a:pt x="1300" y="349"/>
                  </a:lnTo>
                  <a:lnTo>
                    <a:pt x="1224" y="370"/>
                  </a:lnTo>
                  <a:lnTo>
                    <a:pt x="1185" y="377"/>
                  </a:lnTo>
                  <a:lnTo>
                    <a:pt x="1146" y="381"/>
                  </a:lnTo>
                  <a:lnTo>
                    <a:pt x="1086" y="388"/>
                  </a:lnTo>
                  <a:lnTo>
                    <a:pt x="976" y="388"/>
                  </a:lnTo>
                  <a:lnTo>
                    <a:pt x="971" y="387"/>
                  </a:lnTo>
                  <a:lnTo>
                    <a:pt x="909" y="379"/>
                  </a:lnTo>
                  <a:lnTo>
                    <a:pt x="878" y="373"/>
                  </a:lnTo>
                  <a:lnTo>
                    <a:pt x="821" y="360"/>
                  </a:lnTo>
                  <a:lnTo>
                    <a:pt x="790" y="350"/>
                  </a:lnTo>
                  <a:lnTo>
                    <a:pt x="702" y="315"/>
                  </a:lnTo>
                  <a:lnTo>
                    <a:pt x="673" y="300"/>
                  </a:lnTo>
                  <a:lnTo>
                    <a:pt x="648" y="286"/>
                  </a:lnTo>
                  <a:lnTo>
                    <a:pt x="596" y="257"/>
                  </a:lnTo>
                  <a:lnTo>
                    <a:pt x="552" y="226"/>
                  </a:lnTo>
                  <a:lnTo>
                    <a:pt x="517" y="196"/>
                  </a:lnTo>
                  <a:lnTo>
                    <a:pt x="694" y="0"/>
                  </a:lnTo>
                  <a:lnTo>
                    <a:pt x="128" y="157"/>
                  </a:lnTo>
                  <a:lnTo>
                    <a:pt x="0" y="761"/>
                  </a:lnTo>
                  <a:lnTo>
                    <a:pt x="159" y="589"/>
                  </a:lnTo>
                  <a:lnTo>
                    <a:pt x="190" y="615"/>
                  </a:lnTo>
                  <a:lnTo>
                    <a:pt x="215" y="636"/>
                  </a:lnTo>
                  <a:lnTo>
                    <a:pt x="265" y="673"/>
                  </a:lnTo>
                  <a:lnTo>
                    <a:pt x="295" y="690"/>
                  </a:lnTo>
                  <a:lnTo>
                    <a:pt x="318" y="706"/>
                  </a:lnTo>
                  <a:lnTo>
                    <a:pt x="348" y="727"/>
                  </a:lnTo>
                  <a:lnTo>
                    <a:pt x="374" y="741"/>
                  </a:lnTo>
                  <a:lnTo>
                    <a:pt x="400" y="756"/>
                  </a:lnTo>
                  <a:lnTo>
                    <a:pt x="432" y="773"/>
                  </a:lnTo>
                  <a:lnTo>
                    <a:pt x="460" y="787"/>
                  </a:lnTo>
                  <a:lnTo>
                    <a:pt x="487" y="798"/>
                  </a:lnTo>
                  <a:lnTo>
                    <a:pt x="512" y="809"/>
                  </a:lnTo>
                  <a:lnTo>
                    <a:pt x="547" y="823"/>
                  </a:lnTo>
                  <a:lnTo>
                    <a:pt x="648" y="860"/>
                  </a:lnTo>
                  <a:lnTo>
                    <a:pt x="680" y="868"/>
                  </a:lnTo>
                  <a:lnTo>
                    <a:pt x="712" y="878"/>
                  </a:lnTo>
                  <a:lnTo>
                    <a:pt x="742" y="887"/>
                  </a:lnTo>
                  <a:lnTo>
                    <a:pt x="772" y="893"/>
                  </a:lnTo>
                  <a:lnTo>
                    <a:pt x="800" y="897"/>
                  </a:lnTo>
                  <a:lnTo>
                    <a:pt x="826" y="901"/>
                  </a:lnTo>
                  <a:lnTo>
                    <a:pt x="856" y="907"/>
                  </a:lnTo>
                  <a:lnTo>
                    <a:pt x="884" y="910"/>
                  </a:lnTo>
                  <a:lnTo>
                    <a:pt x="933" y="915"/>
                  </a:lnTo>
                  <a:lnTo>
                    <a:pt x="957" y="918"/>
                  </a:lnTo>
                  <a:lnTo>
                    <a:pt x="983" y="919"/>
                  </a:lnTo>
                  <a:lnTo>
                    <a:pt x="1008" y="921"/>
                  </a:lnTo>
                  <a:lnTo>
                    <a:pt x="1035" y="921"/>
                  </a:lnTo>
                  <a:lnTo>
                    <a:pt x="1060" y="921"/>
                  </a:lnTo>
                  <a:lnTo>
                    <a:pt x="1089" y="921"/>
                  </a:lnTo>
                  <a:lnTo>
                    <a:pt x="1115" y="921"/>
                  </a:lnTo>
                  <a:close/>
                </a:path>
              </a:pathLst>
            </a:custGeom>
            <a:solidFill>
              <a:srgbClr val="55ff55"/>
            </a:solidFill>
            <a:ln w="0">
              <a:noFill/>
            </a:ln>
            <a:effectLst>
              <a:outerShdw dist="89808" dir="4916091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4329000" y="5557680"/>
              <a:ext cx="397080" cy="396360"/>
            </a:xfrm>
            <a:prstGeom prst="rect">
              <a:avLst/>
            </a:prstGeom>
            <a:noFill/>
            <a:ln w="0">
              <a:noFill/>
            </a:ln>
            <a:effectLst>
              <a:outerShdw dist="89808" dir="4916091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8000"/>
                  </a:solidFill>
                  <a:latin typeface="宋体"/>
                  <a:ea typeface="宋体"/>
                </a:rPr>
                <a:t>文字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66" name=""/>
          <p:cNvGrpSpPr/>
          <p:nvPr/>
        </p:nvGrpSpPr>
        <p:grpSpPr>
          <a:xfrm>
            <a:off x="5308560" y="2428920"/>
            <a:ext cx="1495440" cy="3240000"/>
            <a:chOff x="5308560" y="2428920"/>
            <a:chExt cx="1495440" cy="3240000"/>
          </a:xfrm>
        </p:grpSpPr>
        <p:sp>
          <p:nvSpPr>
            <p:cNvPr id="1267" name=""/>
            <p:cNvSpPr/>
            <p:nvPr/>
          </p:nvSpPr>
          <p:spPr>
            <a:xfrm>
              <a:off x="5308560" y="2428920"/>
              <a:ext cx="1495440" cy="3240000"/>
            </a:xfrm>
            <a:custGeom>
              <a:avLst/>
              <a:gdLst/>
              <a:ahLst/>
              <a:rect l="l" t="t" r="r" b="b"/>
              <a:pathLst>
                <a:path w="942" h="2041">
                  <a:moveTo>
                    <a:pt x="942" y="1027"/>
                  </a:moveTo>
                  <a:lnTo>
                    <a:pt x="940" y="879"/>
                  </a:lnTo>
                  <a:lnTo>
                    <a:pt x="940" y="858"/>
                  </a:lnTo>
                  <a:lnTo>
                    <a:pt x="940" y="828"/>
                  </a:lnTo>
                  <a:lnTo>
                    <a:pt x="933" y="773"/>
                  </a:lnTo>
                  <a:lnTo>
                    <a:pt x="927" y="739"/>
                  </a:lnTo>
                  <a:lnTo>
                    <a:pt x="915" y="677"/>
                  </a:lnTo>
                  <a:lnTo>
                    <a:pt x="907" y="645"/>
                  </a:lnTo>
                  <a:lnTo>
                    <a:pt x="890" y="585"/>
                  </a:lnTo>
                  <a:lnTo>
                    <a:pt x="873" y="534"/>
                  </a:lnTo>
                  <a:lnTo>
                    <a:pt x="855" y="481"/>
                  </a:lnTo>
                  <a:lnTo>
                    <a:pt x="837" y="436"/>
                  </a:lnTo>
                  <a:lnTo>
                    <a:pt x="826" y="410"/>
                  </a:lnTo>
                  <a:lnTo>
                    <a:pt x="804" y="363"/>
                  </a:lnTo>
                  <a:lnTo>
                    <a:pt x="790" y="335"/>
                  </a:lnTo>
                  <a:lnTo>
                    <a:pt x="766" y="289"/>
                  </a:lnTo>
                  <a:lnTo>
                    <a:pt x="753" y="266"/>
                  </a:lnTo>
                  <a:lnTo>
                    <a:pt x="738" y="242"/>
                  </a:lnTo>
                  <a:lnTo>
                    <a:pt x="722" y="220"/>
                  </a:lnTo>
                  <a:lnTo>
                    <a:pt x="697" y="181"/>
                  </a:lnTo>
                  <a:lnTo>
                    <a:pt x="680" y="157"/>
                  </a:lnTo>
                  <a:lnTo>
                    <a:pt x="651" y="118"/>
                  </a:lnTo>
                  <a:lnTo>
                    <a:pt x="624" y="83"/>
                  </a:lnTo>
                  <a:lnTo>
                    <a:pt x="609" y="65"/>
                  </a:lnTo>
                  <a:lnTo>
                    <a:pt x="596" y="50"/>
                  </a:lnTo>
                  <a:lnTo>
                    <a:pt x="581" y="34"/>
                  </a:lnTo>
                  <a:lnTo>
                    <a:pt x="567" y="19"/>
                  </a:lnTo>
                  <a:lnTo>
                    <a:pt x="549" y="0"/>
                  </a:lnTo>
                  <a:lnTo>
                    <a:pt x="504" y="315"/>
                  </a:lnTo>
                  <a:lnTo>
                    <a:pt x="172" y="372"/>
                  </a:lnTo>
                  <a:lnTo>
                    <a:pt x="189" y="391"/>
                  </a:lnTo>
                  <a:lnTo>
                    <a:pt x="228" y="436"/>
                  </a:lnTo>
                  <a:lnTo>
                    <a:pt x="251" y="465"/>
                  </a:lnTo>
                  <a:lnTo>
                    <a:pt x="285" y="519"/>
                  </a:lnTo>
                  <a:lnTo>
                    <a:pt x="303" y="549"/>
                  </a:lnTo>
                  <a:lnTo>
                    <a:pt x="336" y="612"/>
                  </a:lnTo>
                  <a:lnTo>
                    <a:pt x="350" y="642"/>
                  </a:lnTo>
                  <a:lnTo>
                    <a:pt x="375" y="711"/>
                  </a:lnTo>
                  <a:lnTo>
                    <a:pt x="384" y="746"/>
                  </a:lnTo>
                  <a:lnTo>
                    <a:pt x="395" y="788"/>
                  </a:lnTo>
                  <a:lnTo>
                    <a:pt x="403" y="827"/>
                  </a:lnTo>
                  <a:lnTo>
                    <a:pt x="410" y="897"/>
                  </a:lnTo>
                  <a:lnTo>
                    <a:pt x="410" y="1038"/>
                  </a:lnTo>
                  <a:lnTo>
                    <a:pt x="405" y="1069"/>
                  </a:lnTo>
                  <a:lnTo>
                    <a:pt x="396" y="1127"/>
                  </a:lnTo>
                  <a:lnTo>
                    <a:pt x="390" y="1157"/>
                  </a:lnTo>
                  <a:lnTo>
                    <a:pt x="372" y="1215"/>
                  </a:lnTo>
                  <a:lnTo>
                    <a:pt x="338" y="1303"/>
                  </a:lnTo>
                  <a:lnTo>
                    <a:pt x="323" y="1332"/>
                  </a:lnTo>
                  <a:lnTo>
                    <a:pt x="296" y="1382"/>
                  </a:lnTo>
                  <a:lnTo>
                    <a:pt x="264" y="1432"/>
                  </a:lnTo>
                  <a:lnTo>
                    <a:pt x="249" y="1452"/>
                  </a:lnTo>
                  <a:lnTo>
                    <a:pt x="215" y="1498"/>
                  </a:lnTo>
                  <a:lnTo>
                    <a:pt x="192" y="1521"/>
                  </a:lnTo>
                  <a:lnTo>
                    <a:pt x="0" y="1357"/>
                  </a:lnTo>
                  <a:lnTo>
                    <a:pt x="217" y="1903"/>
                  </a:lnTo>
                  <a:lnTo>
                    <a:pt x="767" y="2041"/>
                  </a:lnTo>
                  <a:lnTo>
                    <a:pt x="588" y="1877"/>
                  </a:lnTo>
                  <a:lnTo>
                    <a:pt x="614" y="1846"/>
                  </a:lnTo>
                  <a:lnTo>
                    <a:pt x="659" y="1789"/>
                  </a:lnTo>
                  <a:lnTo>
                    <a:pt x="696" y="1740"/>
                  </a:lnTo>
                  <a:lnTo>
                    <a:pt x="715" y="1710"/>
                  </a:lnTo>
                  <a:lnTo>
                    <a:pt x="749" y="1657"/>
                  </a:lnTo>
                  <a:lnTo>
                    <a:pt x="764" y="1631"/>
                  </a:lnTo>
                  <a:lnTo>
                    <a:pt x="797" y="1574"/>
                  </a:lnTo>
                  <a:lnTo>
                    <a:pt x="810" y="1545"/>
                  </a:lnTo>
                  <a:lnTo>
                    <a:pt x="833" y="1493"/>
                  </a:lnTo>
                  <a:lnTo>
                    <a:pt x="847" y="1458"/>
                  </a:lnTo>
                  <a:lnTo>
                    <a:pt x="884" y="1358"/>
                  </a:lnTo>
                  <a:lnTo>
                    <a:pt x="901" y="1293"/>
                  </a:lnTo>
                  <a:lnTo>
                    <a:pt x="910" y="1263"/>
                  </a:lnTo>
                  <a:lnTo>
                    <a:pt x="921" y="1206"/>
                  </a:lnTo>
                  <a:lnTo>
                    <a:pt x="924" y="1180"/>
                  </a:lnTo>
                  <a:lnTo>
                    <a:pt x="933" y="1122"/>
                  </a:lnTo>
                  <a:lnTo>
                    <a:pt x="936" y="1097"/>
                  </a:lnTo>
                  <a:lnTo>
                    <a:pt x="942" y="1050"/>
                  </a:lnTo>
                  <a:lnTo>
                    <a:pt x="942" y="1027"/>
                  </a:lnTo>
                  <a:close/>
                </a:path>
              </a:pathLst>
            </a:custGeom>
            <a:solidFill>
              <a:srgbClr val="ff5555"/>
            </a:solidFill>
            <a:ln w="0">
              <a:noFill/>
            </a:ln>
            <a:effectLst>
              <a:outerShdw dist="117181" dir="2961631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 rot="6000000">
              <a:off x="6262920" y="3625560"/>
              <a:ext cx="198720" cy="396360"/>
            </a:xfrm>
            <a:prstGeom prst="rect">
              <a:avLst/>
            </a:prstGeom>
            <a:noFill/>
            <a:ln w="0">
              <a:noFill/>
            </a:ln>
            <a:effectLst>
              <a:outerShdw dist="117181" dir="2961631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文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 rot="6000000">
              <a:off x="6215400" y="3948120"/>
              <a:ext cx="198720" cy="396360"/>
            </a:xfrm>
            <a:prstGeom prst="rect">
              <a:avLst/>
            </a:prstGeom>
            <a:noFill/>
            <a:ln w="0">
              <a:noFill/>
            </a:ln>
            <a:effectLst>
              <a:outerShdw dist="117181" dir="2961631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字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3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2268360" y="228240"/>
            <a:ext cx="6570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迴圈圖：</a:t>
            </a:r>
            <a:br>
              <a:rPr sz="3600"/>
            </a:b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顯示具有連續迴圈過程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pSp>
        <p:nvGrpSpPr>
          <p:cNvPr id="1271" name=""/>
          <p:cNvGrpSpPr/>
          <p:nvPr/>
        </p:nvGrpSpPr>
        <p:grpSpPr>
          <a:xfrm>
            <a:off x="2198880" y="1241640"/>
            <a:ext cx="5269320" cy="5269320"/>
            <a:chOff x="2198880" y="1241640"/>
            <a:chExt cx="5269320" cy="5269320"/>
          </a:xfrm>
        </p:grpSpPr>
        <p:sp>
          <p:nvSpPr>
            <p:cNvPr id="1272" name="_s83973"/>
            <p:cNvSpPr/>
            <p:nvPr/>
          </p:nvSpPr>
          <p:spPr>
            <a:xfrm>
              <a:off x="2905200" y="1947960"/>
              <a:ext cx="3857400" cy="385740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solidFill>
              <a:srgbClr val="9966ff"/>
            </a:solidFill>
            <a:ln w="28440">
              <a:solidFill>
                <a:srgbClr val="5f0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_s83974"/>
            <p:cNvSpPr/>
            <p:nvPr/>
          </p:nvSpPr>
          <p:spPr>
            <a:xfrm rot="7200000">
              <a:off x="2904840" y="1947600"/>
              <a:ext cx="3857400" cy="385740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4" name="_s83975"/>
            <p:cNvSpPr/>
            <p:nvPr/>
          </p:nvSpPr>
          <p:spPr>
            <a:xfrm rot="14400000">
              <a:off x="2904840" y="1947600"/>
              <a:ext cx="3857400" cy="385740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5" name="_s83976"/>
            <p:cNvSpPr/>
            <p:nvPr/>
          </p:nvSpPr>
          <p:spPr>
            <a:xfrm>
              <a:off x="5637240" y="2486160"/>
              <a:ext cx="1176120" cy="11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e4005c"/>
                  </a:solidFill>
                  <a:latin typeface="Arial"/>
                  <a:ea typeface="华文新魏"/>
                </a:rPr>
                <a:t>工時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_s83977"/>
            <p:cNvSpPr/>
            <p:nvPr/>
          </p:nvSpPr>
          <p:spPr>
            <a:xfrm>
              <a:off x="4246560" y="4894200"/>
              <a:ext cx="1176120" cy="11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e4005c"/>
                  </a:solidFill>
                  <a:latin typeface="Arial"/>
                  <a:ea typeface="华文新魏"/>
                </a:rPr>
                <a:t>任務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_s83978"/>
            <p:cNvSpPr/>
            <p:nvPr/>
          </p:nvSpPr>
          <p:spPr>
            <a:xfrm>
              <a:off x="2855880" y="2486160"/>
              <a:ext cx="1176120" cy="11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e4005c"/>
                  </a:solidFill>
                  <a:latin typeface="Arial"/>
                  <a:ea typeface="华文新魏"/>
                </a:rPr>
                <a:t>資源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77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" dur="770" fill="hold"/>
                                        <p:tgtEl>
                                          <p:spTgt spid="12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" dur="77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5" dur="77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77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" dur="770" fill="hold"/>
                                        <p:tgtEl>
                                          <p:spTgt spid="12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3" dur="77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5" dur="77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4000"/>
                            </p:stCondLst>
                            <p:childTnLst>
                              <p:par>
                                <p:cTn id="12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77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" dur="770" fill="hold"/>
                                        <p:tgtEl>
                                          <p:spTgt spid="12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3" dur="77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5" dur="77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1115640" y="228240"/>
            <a:ext cx="77230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8c0039"/>
                </a:solidFill>
                <a:latin typeface="Arial"/>
              </a:rPr>
              <a:t>射線圖：</a:t>
            </a:r>
            <a:br>
              <a:rPr sz="3600"/>
            </a:br>
            <a:r>
              <a:rPr b="0" lang="zh-TW" sz="3600" spc="-1" strike="noStrike">
                <a:solidFill>
                  <a:srgbClr val="8c0039"/>
                </a:solidFill>
                <a:latin typeface="Arial"/>
              </a:rPr>
              <a:t>	</a:t>
            </a:r>
            <a:r>
              <a:rPr b="0" lang="zh-TW" sz="3600" spc="-1" strike="noStrike">
                <a:solidFill>
                  <a:srgbClr val="8c0039"/>
                </a:solidFill>
                <a:latin typeface="Arial"/>
              </a:rPr>
              <a:t>顯示元素與核心元素的關係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pSp>
        <p:nvGrpSpPr>
          <p:cNvPr id="1279" name=""/>
          <p:cNvGrpSpPr/>
          <p:nvPr/>
        </p:nvGrpSpPr>
        <p:grpSpPr>
          <a:xfrm>
            <a:off x="3637080" y="1773360"/>
            <a:ext cx="1584360" cy="1584360"/>
            <a:chOff x="3637080" y="1773360"/>
            <a:chExt cx="1584360" cy="1584360"/>
          </a:xfrm>
        </p:grpSpPr>
        <p:pic>
          <p:nvPicPr>
            <p:cNvPr id="1280" name="" descr=""/>
            <p:cNvPicPr/>
            <p:nvPr/>
          </p:nvPicPr>
          <p:blipFill>
            <a:blip r:embed="rId2"/>
            <a:stretch/>
          </p:blipFill>
          <p:spPr>
            <a:xfrm>
              <a:off x="3637080" y="1773360"/>
              <a:ext cx="15843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1" name=""/>
            <p:cNvSpPr/>
            <p:nvPr/>
          </p:nvSpPr>
          <p:spPr>
            <a:xfrm>
              <a:off x="3997440" y="2206800"/>
              <a:ext cx="79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產品品質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82" name=""/>
          <p:cNvGrpSpPr/>
          <p:nvPr/>
        </p:nvGrpSpPr>
        <p:grpSpPr>
          <a:xfrm>
            <a:off x="3637080" y="3646440"/>
            <a:ext cx="1584360" cy="1584360"/>
            <a:chOff x="3637080" y="3646440"/>
            <a:chExt cx="1584360" cy="1584360"/>
          </a:xfrm>
        </p:grpSpPr>
        <p:pic>
          <p:nvPicPr>
            <p:cNvPr id="1283" name="" descr=""/>
            <p:cNvPicPr/>
            <p:nvPr/>
          </p:nvPicPr>
          <p:blipFill>
            <a:blip r:embed="rId3"/>
            <a:stretch/>
          </p:blipFill>
          <p:spPr>
            <a:xfrm>
              <a:off x="3637080" y="3646440"/>
              <a:ext cx="15843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4" name=""/>
            <p:cNvSpPr/>
            <p:nvPr/>
          </p:nvSpPr>
          <p:spPr>
            <a:xfrm>
              <a:off x="3995640" y="4078440"/>
              <a:ext cx="72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銷售業績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85" name=""/>
          <p:cNvGrpSpPr/>
          <p:nvPr/>
        </p:nvGrpSpPr>
        <p:grpSpPr>
          <a:xfrm>
            <a:off x="1908000" y="4653000"/>
            <a:ext cx="1584360" cy="1584360"/>
            <a:chOff x="1908000" y="4653000"/>
            <a:chExt cx="1584360" cy="1584360"/>
          </a:xfrm>
        </p:grpSpPr>
        <p:pic>
          <p:nvPicPr>
            <p:cNvPr id="1286" name="" descr=""/>
            <p:cNvPicPr/>
            <p:nvPr/>
          </p:nvPicPr>
          <p:blipFill>
            <a:blip r:embed="rId4"/>
            <a:stretch/>
          </p:blipFill>
          <p:spPr>
            <a:xfrm>
              <a:off x="1908000" y="4653000"/>
              <a:ext cx="15843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7" name=""/>
            <p:cNvSpPr/>
            <p:nvPr/>
          </p:nvSpPr>
          <p:spPr>
            <a:xfrm>
              <a:off x="2268360" y="5153040"/>
              <a:ext cx="72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售後服務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88" name=""/>
          <p:cNvGrpSpPr/>
          <p:nvPr/>
        </p:nvGrpSpPr>
        <p:grpSpPr>
          <a:xfrm>
            <a:off x="5292720" y="4581360"/>
            <a:ext cx="1584360" cy="1584360"/>
            <a:chOff x="5292720" y="4581360"/>
            <a:chExt cx="1584360" cy="1584360"/>
          </a:xfrm>
        </p:grpSpPr>
        <p:pic>
          <p:nvPicPr>
            <p:cNvPr id="1289" name="" descr=""/>
            <p:cNvPicPr/>
            <p:nvPr/>
          </p:nvPicPr>
          <p:blipFill>
            <a:blip r:embed="rId5"/>
            <a:stretch/>
          </p:blipFill>
          <p:spPr>
            <a:xfrm>
              <a:off x="5292720" y="4581360"/>
              <a:ext cx="15843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0" name=""/>
            <p:cNvSpPr/>
            <p:nvPr/>
          </p:nvSpPr>
          <p:spPr>
            <a:xfrm>
              <a:off x="5653080" y="5084640"/>
              <a:ext cx="719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售前推廣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91" name=""/>
          <p:cNvSpPr/>
          <p:nvPr/>
        </p:nvSpPr>
        <p:spPr>
          <a:xfrm flipV="1">
            <a:off x="4356000" y="3141720"/>
            <a:ext cx="0" cy="57456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 flipH="1">
            <a:off x="3276720" y="4724280"/>
            <a:ext cx="574560" cy="36036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4932360" y="4653000"/>
            <a:ext cx="503280" cy="36036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" dur="5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2268360" y="228240"/>
            <a:ext cx="6570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8c0039"/>
                </a:solidFill>
                <a:latin typeface="Arial"/>
              </a:rPr>
              <a:t>金字塔圖表：</a:t>
            </a:r>
            <a:br>
              <a:rPr sz="3600"/>
            </a:br>
            <a:r>
              <a:rPr b="0" lang="zh-TW" sz="3600" spc="-1" strike="noStrike">
                <a:solidFill>
                  <a:srgbClr val="8c0039"/>
                </a:solidFill>
                <a:latin typeface="Arial"/>
              </a:rPr>
              <a:t>	</a:t>
            </a:r>
            <a:r>
              <a:rPr b="0" lang="zh-TW" sz="3600" spc="-1" strike="noStrike">
                <a:solidFill>
                  <a:srgbClr val="8c0039"/>
                </a:solidFill>
                <a:latin typeface="Arial"/>
              </a:rPr>
              <a:t>    顯示基於基礎的關係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 rot="10800000">
            <a:off x="1547280" y="4437000"/>
            <a:ext cx="6404040" cy="1470240"/>
          </a:xfrm>
          <a:prstGeom prst="flowChartManualOperation">
            <a:avLst/>
          </a:prstGeom>
          <a:gradFill rotWithShape="0">
            <a:gsLst>
              <a:gs pos="0">
                <a:srgbClr val="bc640c"/>
              </a:gs>
              <a:gs pos="100000">
                <a:srgbClr val="ffb03d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行楷"/>
              </a:rPr>
              <a:t>說明文字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 rot="10800000">
            <a:off x="3022200" y="3393720"/>
            <a:ext cx="3530520" cy="824040"/>
          </a:xfrm>
          <a:prstGeom prst="flowChartManualOperation">
            <a:avLst/>
          </a:prstGeom>
          <a:solidFill>
            <a:srgbClr val="66ff33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行楷"/>
              </a:rPr>
              <a:t>說明文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3889440" y="2025720"/>
            <a:ext cx="1785960" cy="1052280"/>
          </a:xfrm>
          <a:prstGeom prst="flowChartExtra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行楷"/>
              </a:rPr>
              <a:t>說明文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20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20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20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2268360" y="228240"/>
            <a:ext cx="6570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8c0039"/>
                </a:solidFill>
                <a:latin typeface="Arial"/>
              </a:rPr>
              <a:t>目標圖：</a:t>
            </a:r>
            <a:br>
              <a:rPr sz="3600"/>
            </a:br>
            <a:r>
              <a:rPr b="0" lang="zh-TW" sz="3600" spc="-1" strike="noStrike">
                <a:solidFill>
                  <a:srgbClr val="8c0039"/>
                </a:solidFill>
                <a:latin typeface="Arial"/>
              </a:rPr>
              <a:t>	</a:t>
            </a:r>
            <a:r>
              <a:rPr b="0" lang="zh-TW" sz="3600" spc="-1" strike="noStrike">
                <a:solidFill>
                  <a:srgbClr val="8c0039"/>
                </a:solidFill>
                <a:latin typeface="Arial"/>
              </a:rPr>
              <a:t>為實現目標而採取的步驟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pSp>
        <p:nvGrpSpPr>
          <p:cNvPr id="1299" name=""/>
          <p:cNvGrpSpPr/>
          <p:nvPr/>
        </p:nvGrpSpPr>
        <p:grpSpPr>
          <a:xfrm>
            <a:off x="2445120" y="2063520"/>
            <a:ext cx="4344840" cy="3800520"/>
            <a:chOff x="2445120" y="2063520"/>
            <a:chExt cx="4344840" cy="3800520"/>
          </a:xfrm>
        </p:grpSpPr>
        <p:sp>
          <p:nvSpPr>
            <p:cNvPr id="1300" name="_s90117"/>
            <p:cNvSpPr/>
            <p:nvPr/>
          </p:nvSpPr>
          <p:spPr>
            <a:xfrm>
              <a:off x="2445120" y="2606400"/>
              <a:ext cx="3257280" cy="3257640"/>
            </a:xfrm>
            <a:prstGeom prst="donut">
              <a:avLst>
                <a:gd name="adj" fmla="val 1250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75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1" name="_s90118"/>
            <p:cNvSpPr/>
            <p:nvPr/>
          </p:nvSpPr>
          <p:spPr>
            <a:xfrm>
              <a:off x="6139080" y="3363840"/>
              <a:ext cx="650880" cy="43308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ff9900"/>
                  </a:solidFill>
                  <a:latin typeface="Arial"/>
                  <a:ea typeface="宋体"/>
                </a:rPr>
                <a:t>提高產品質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_s90119"/>
            <p:cNvSpPr/>
            <p:nvPr/>
          </p:nvSpPr>
          <p:spPr>
            <a:xfrm>
              <a:off x="2853000" y="3014280"/>
              <a:ext cx="2442960" cy="2443320"/>
            </a:xfrm>
            <a:prstGeom prst="donut">
              <a:avLst>
                <a:gd name="adj" fmla="val 16666"/>
              </a:avLst>
            </a:prstGeom>
            <a:gradFill rotWithShape="0">
              <a:gsLst>
                <a:gs pos="0">
                  <a:srgbClr val="0099ff"/>
                </a:gs>
                <a:gs pos="100000">
                  <a:srgbClr val="00467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3" name="_s90120"/>
            <p:cNvSpPr/>
            <p:nvPr/>
          </p:nvSpPr>
          <p:spPr>
            <a:xfrm>
              <a:off x="6139080" y="2930400"/>
              <a:ext cx="650880" cy="43344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ff9900"/>
                  </a:solidFill>
                  <a:latin typeface="Arial"/>
                  <a:ea typeface="宋体"/>
                </a:rPr>
                <a:t>加強售前宣傳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4" name="_s90121"/>
            <p:cNvSpPr/>
            <p:nvPr/>
          </p:nvSpPr>
          <p:spPr>
            <a:xfrm>
              <a:off x="3259440" y="3420720"/>
              <a:ext cx="1628640" cy="1629000"/>
            </a:xfrm>
            <a:prstGeom prst="donut">
              <a:avLst>
                <a:gd name="adj" fmla="val 2500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7575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5" name="_s90122"/>
            <p:cNvSpPr/>
            <p:nvPr/>
          </p:nvSpPr>
          <p:spPr>
            <a:xfrm>
              <a:off x="6139080" y="2496960"/>
              <a:ext cx="650880" cy="43344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ff9900"/>
                  </a:solidFill>
                  <a:latin typeface="Arial"/>
                  <a:ea typeface="宋体"/>
                </a:rPr>
                <a:t>加強售後服務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_s90123"/>
            <p:cNvSpPr/>
            <p:nvPr/>
          </p:nvSpPr>
          <p:spPr>
            <a:xfrm>
              <a:off x="3667320" y="3828960"/>
              <a:ext cx="814320" cy="8143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7" name="_s90124"/>
            <p:cNvSpPr/>
            <p:nvPr/>
          </p:nvSpPr>
          <p:spPr>
            <a:xfrm>
              <a:off x="6139080" y="2063520"/>
              <a:ext cx="650880" cy="43344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9900"/>
                  </a:solidFill>
                  <a:latin typeface="Arial"/>
                  <a:ea typeface="宋体"/>
                </a:rPr>
                <a:t>目標：銷售</a:t>
              </a:r>
              <a:r>
                <a:rPr b="1" lang="en-US" sz="1800" spc="-1" strike="noStrike">
                  <a:solidFill>
                    <a:srgbClr val="ff9900"/>
                  </a:solidFill>
                  <a:latin typeface="Arial"/>
                  <a:ea typeface="宋体"/>
                </a:rPr>
                <a:t>100</a:t>
              </a:r>
              <a:r>
                <a:rPr b="1" lang="zh-CN" sz="1800" spc="-1" strike="noStrike">
                  <a:solidFill>
                    <a:srgbClr val="ff9900"/>
                  </a:solidFill>
                  <a:latin typeface="Arial"/>
                  <a:ea typeface="宋体"/>
                </a:rPr>
                <a:t>萬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6156720" y="3285720"/>
              <a:ext cx="1839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09" name=""/>
          <p:cNvSpPr/>
          <p:nvPr/>
        </p:nvSpPr>
        <p:spPr>
          <a:xfrm>
            <a:off x="2419200" y="1556280"/>
            <a:ext cx="193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Arial"/>
                <a:ea typeface="宋体"/>
              </a:rPr>
              <a:t>目標：銷售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宋体"/>
              </a:rPr>
              <a:t>100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  <a:ea typeface="宋体"/>
              </a:rPr>
              <a:t>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0" name=""/>
          <p:cNvGrpSpPr/>
          <p:nvPr/>
        </p:nvGrpSpPr>
        <p:grpSpPr>
          <a:xfrm>
            <a:off x="4083120" y="2494080"/>
            <a:ext cx="3657600" cy="3657600"/>
            <a:chOff x="4083120" y="2494080"/>
            <a:chExt cx="3657600" cy="3657600"/>
          </a:xfrm>
        </p:grpSpPr>
        <p:sp>
          <p:nvSpPr>
            <p:cNvPr id="1311" name=""/>
            <p:cNvSpPr/>
            <p:nvPr/>
          </p:nvSpPr>
          <p:spPr>
            <a:xfrm>
              <a:off x="4083120" y="2494080"/>
              <a:ext cx="3657600" cy="3657600"/>
            </a:xfrm>
            <a:prstGeom prst="ellipse">
              <a:avLst/>
            </a:prstGeom>
            <a:solidFill>
              <a:srgbClr val="ffff00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198760" y="4030920"/>
              <a:ext cx="1641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說明文字</a:t>
              </a:r>
              <a:r>
                <a:rPr b="1" lang="en-US" sz="3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13" name=""/>
          <p:cNvGrpSpPr/>
          <p:nvPr/>
        </p:nvGrpSpPr>
        <p:grpSpPr>
          <a:xfrm>
            <a:off x="1260360" y="2494080"/>
            <a:ext cx="3657600" cy="3657600"/>
            <a:chOff x="1260360" y="2494080"/>
            <a:chExt cx="3657600" cy="3657600"/>
          </a:xfrm>
        </p:grpSpPr>
        <p:sp>
          <p:nvSpPr>
            <p:cNvPr id="1314" name=""/>
            <p:cNvSpPr/>
            <p:nvPr/>
          </p:nvSpPr>
          <p:spPr>
            <a:xfrm>
              <a:off x="1260360" y="2494080"/>
              <a:ext cx="3657600" cy="3657600"/>
            </a:xfrm>
            <a:prstGeom prst="ellipse">
              <a:avLst/>
            </a:prstGeom>
            <a:solidFill>
              <a:srgbClr val="ff3300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2220840" y="4149720"/>
              <a:ext cx="1641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說明文字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16" name=""/>
          <p:cNvGrpSpPr/>
          <p:nvPr/>
        </p:nvGrpSpPr>
        <p:grpSpPr>
          <a:xfrm>
            <a:off x="2771640" y="765000"/>
            <a:ext cx="3657600" cy="3657600"/>
            <a:chOff x="2771640" y="765000"/>
            <a:chExt cx="3657600" cy="3657600"/>
          </a:xfrm>
        </p:grpSpPr>
        <p:sp>
          <p:nvSpPr>
            <p:cNvPr id="1317" name=""/>
            <p:cNvSpPr/>
            <p:nvPr/>
          </p:nvSpPr>
          <p:spPr>
            <a:xfrm>
              <a:off x="2771640" y="765000"/>
              <a:ext cx="3657600" cy="365760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3515760" y="1701360"/>
              <a:ext cx="1641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說明文字</a:t>
              </a:r>
              <a:r>
                <a:rPr b="1" lang="en-US" sz="3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19" name=""/>
          <p:cNvGrpSpPr/>
          <p:nvPr/>
        </p:nvGrpSpPr>
        <p:grpSpPr>
          <a:xfrm>
            <a:off x="1260360" y="779400"/>
            <a:ext cx="6480360" cy="5386320"/>
            <a:chOff x="1260360" y="779400"/>
            <a:chExt cx="6480360" cy="5386320"/>
          </a:xfrm>
        </p:grpSpPr>
        <p:grpSp>
          <p:nvGrpSpPr>
            <p:cNvPr id="1320" name=""/>
            <p:cNvGrpSpPr/>
            <p:nvPr/>
          </p:nvGrpSpPr>
          <p:grpSpPr>
            <a:xfrm>
              <a:off x="4083120" y="2508120"/>
              <a:ext cx="3657600" cy="3657600"/>
              <a:chOff x="4083120" y="2508120"/>
              <a:chExt cx="3657600" cy="3657600"/>
            </a:xfrm>
          </p:grpSpPr>
          <p:sp>
            <p:nvSpPr>
              <p:cNvPr id="1321" name=""/>
              <p:cNvSpPr/>
              <p:nvPr/>
            </p:nvSpPr>
            <p:spPr>
              <a:xfrm>
                <a:off x="4083120" y="2508120"/>
                <a:ext cx="3657600" cy="3657600"/>
              </a:xfrm>
              <a:prstGeom prst="ellipse">
                <a:avLst/>
              </a:prstGeom>
              <a:solidFill>
                <a:srgbClr val="ffff00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5198760" y="4044960"/>
                <a:ext cx="1641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說明文字</a:t>
                </a: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2</a:t>
                </a: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23" name=""/>
            <p:cNvGrpSpPr/>
            <p:nvPr/>
          </p:nvGrpSpPr>
          <p:grpSpPr>
            <a:xfrm>
              <a:off x="1260360" y="2508120"/>
              <a:ext cx="3657600" cy="3657600"/>
              <a:chOff x="1260360" y="2508120"/>
              <a:chExt cx="3657600" cy="3657600"/>
            </a:xfrm>
          </p:grpSpPr>
          <p:sp>
            <p:nvSpPr>
              <p:cNvPr id="1324" name=""/>
              <p:cNvSpPr/>
              <p:nvPr/>
            </p:nvSpPr>
            <p:spPr>
              <a:xfrm>
                <a:off x="1260360" y="2508120"/>
                <a:ext cx="3657600" cy="3657600"/>
              </a:xfrm>
              <a:prstGeom prst="ellipse">
                <a:avLst/>
              </a:prstGeom>
              <a:solidFill>
                <a:srgbClr val="ff3300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2220840" y="4163760"/>
                <a:ext cx="1641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說明文字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3</a:t>
                </a: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26" name=""/>
            <p:cNvGrpSpPr/>
            <p:nvPr/>
          </p:nvGrpSpPr>
          <p:grpSpPr>
            <a:xfrm>
              <a:off x="2771640" y="779400"/>
              <a:ext cx="3657600" cy="3657600"/>
              <a:chOff x="2771640" y="779400"/>
              <a:chExt cx="3657600" cy="3657600"/>
            </a:xfrm>
          </p:grpSpPr>
          <p:sp>
            <p:nvSpPr>
              <p:cNvPr id="1327" name=""/>
              <p:cNvSpPr/>
              <p:nvPr/>
            </p:nvSpPr>
            <p:spPr>
              <a:xfrm>
                <a:off x="2771640" y="779400"/>
                <a:ext cx="3657600" cy="3657600"/>
              </a:xfrm>
              <a:prstGeom prst="ellipse">
                <a:avLst/>
              </a:prstGeom>
              <a:solidFill>
                <a:srgbClr val="99cc00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3515760" y="1715760"/>
                <a:ext cx="1641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說明文字</a:t>
                </a: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1</a:t>
                </a: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268" dur="20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行销 业务</cp:keywords>
  <dc:language>en-US</dc:language>
  <cp:lastModifiedBy/>
  <cp:revision>0</cp:revision>
  <dc:subject/>
  <dc:title/>
</cp:coreProperties>
</file>