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7FE-A925-4E9A-BBEC-DBC987E4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E28-6C38-4470-8F3F-0B086F7C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310-36A4-4DA8-87C9-B1A2050B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867-679D-4ECB-A38D-5A9EB1B5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718-19B1-4070-A465-B54127C0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6A5-018F-45D1-BA31-B998DE26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1E6-4D4C-41DE-9561-2874A95D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F63-52FF-49F2-88E0-10F7EA4B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9B5-2775-4A10-8660-4E8474FC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77A-F783-472E-BB6E-8B96D592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900-4726-4B6F-83F6-5B94F434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A23-E669-4F9E-9E65-70D60BB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DF62-0E57-4E32-B643-778517EB217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50920" y="5477040"/>
            <a:ext cx="5543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5841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092680" y="90792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服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392200" y="6305400"/>
            <a:ext cx="52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2:52:16Z</dcterms:modified>
  <cp:revision>717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